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D95-470A-49CB-8D9F-8E6EFABC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0D7-B9C5-4C9C-9ED8-2C545B39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CB1-C247-49EE-A4CA-6B554D70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3DA-D4C2-44A4-95BA-8008D6DC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7B7F-CB89-4242-B0E2-58FA7E47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004F-8B76-44EF-9854-D4CA4E88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74B-BE27-4EC3-A7B6-C23AE374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27E5-8A7E-4B35-8A7F-89D69012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73B2-5FEB-4022-B9B3-F45C3AA8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92E2-C680-435D-84D3-9846AC07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5EDE-78FA-428C-9D5B-A5F52061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04A-D404-48CE-978F-50E2E574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3234-39C1-41E7-B84E-D04501C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CDD0-C43F-4117-A6CA-73B0F7A9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87F8-3D4A-47F5-B0A1-413C762E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6C6D-455E-4DA5-922D-F311E6DD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EAA8-0AE5-4527-B660-96085A2A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A64-00B5-4059-BC47-53974A7B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A8B-9119-4412-8401-034668A5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E34-F042-4511-BCD2-4A21DB77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322-47DB-43AE-836A-5426B939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7CC-F164-453C-8748-4CFFD85D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3D0-3FCE-40B0-8BE6-71182BBB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F54-710C-4AA3-B018-AFE41766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EF45-3EAC-4FB0-ACAB-0754498C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C8A8-9BD1-4DB6-A1F8-1A377F149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areyes.com.cn/2/lib/200307/30/004/22.jpg&amp;imgrefurl=http://www.beareyes.com.cn/2/lib/200307/30/20030730004.htm&amp;h=624&amp;w=960&amp;sz=418&amp;tbnid=uIe5CKjmPowJ:&amp;tbnh=95&amp;tbnw=147&amp;hl=zh-CN&amp;start=3&amp;prev=/images%3Fq%3D%25E8%259F%258B%25E8%259F%2580%26svnum%3D10%26hl%3Dzh-CN%26lr%3D%26newwindow%3D1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b.xinhuanet.com/zhuanti/2005-03/17/xin_260302171557343106262.jpg&amp;imgrefurl=http://www.hb.xinhuanet.com/zhuanti/2005-03/17/content_3895279.htm&amp;h=300&amp;w=400&amp;sz=24&amp;tbnid=PX-TPH1uE-sJ:&amp;tbnh=90&amp;tbnw=120&amp;hl=zh-CN&amp;start=11&amp;prev=/images%3Fq%3D%25E5%25A4%25A7%25E9%259B%2581%26svnum%3D10%26hl%3Dzh-CN%26lr%3D%26newwindow%3D1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31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78760" y="40464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听听，秋的声音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00cc00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57200" y="45720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大树抖抖手臂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刷刷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，是黄叶道别的声音，黄叶说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259092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蟋蟀振动翅膀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口瞿口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，是和阳台告别的歌韵，蟋蟀在唱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。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1280" y="49370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一排排大雁追上白云，撒下一阵暖暖的叮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826920" y="2421000"/>
            <a:ext cx="464832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484360" y="4365720"/>
            <a:ext cx="434340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066680" y="6705720"/>
            <a:ext cx="4038840" cy="0"/>
          </a:xfrm>
          <a:prstGeom prst="line">
            <a:avLst/>
          </a:prstGeom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6640" y="6648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685800" y="160020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阅读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秋天，不仅有丰富的色彩，还有美妙的声音。让我们有感情地朗读这首诗，一边读，一边展开想象，把读后的体会和同学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9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764640"/>
            <a:ext cx="9001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听听，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秋的声音，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大树抖抖手臂，</a:t>
            </a: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“刷刷”，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是黄叶道别的话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921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听听，</a:t>
            </a:r>
            <a:br>
              <a:rPr sz="6000"/>
            </a:b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秋的声音，</a:t>
            </a:r>
            <a:br>
              <a:rPr sz="6000"/>
            </a:b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蟋蟀振动翅膀，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56000" y="3500280"/>
            <a:ext cx="485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口瞿口瞿”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87280" y="436572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是和阳台告别的歌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xin_260302171557343106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765000"/>
            <a:ext cx="9144000" cy="72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一排排大雁追上白云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撒下一阵暖暖的叮咛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一阵阵秋风掠过田野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送来一片丰收的歌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00529175133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0" y="404640"/>
            <a:ext cx="982836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听听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走进秋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走进这辽阔的音乐厅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  <a:ea typeface="隶书"/>
              </a:rPr>
              <a:t>你好好地去听秋的声音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093080" y="609300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照片 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0" y="0"/>
            <a:ext cx="87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秋的声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片叶子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朵小花上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滴汗水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在每一颗绽开的谷粒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6450115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395280" y="0"/>
            <a:ext cx="79930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听听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秋的声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从远方匆匆地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向远方匆匆地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听听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我们听到了秋的声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30C-5774-4487-9E8B-CC7BD09787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3:25:51Z</dcterms:created>
  <dc:creator/>
  <dc:description/>
  <cp:keywords>幻灯片之家 http:/www.eeppt.com</cp:keywords>
  <dc:language>en-US</dc:language>
  <cp:lastModifiedBy/>
  <dcterms:modified xsi:type="dcterms:W3CDTF">2015-07-19T02:19:15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