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C4F-39D0-4BE6-B848-6C5D3541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0B6-5A25-4DCD-A7FA-7935BAD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AF0-72B3-43C8-876A-BD178078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EBD-AAD6-493A-BD32-193166C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9D46-5E93-495B-ABCC-A143938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17F-4063-48D5-803D-2E5573EE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A6A-EF9C-4FA6-8D0D-46E7F9E0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8B49-983E-47AA-B010-B5040DD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0BD3-05BC-4AE4-A543-301BE81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223-2648-4362-8FC0-BA58DFE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290-49EF-4C29-93FE-2CED214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ABC-488B-4251-AF5A-188A81D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3BD7-BC1E-4A23-9FEB-8675948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581A-7B2A-4562-A2BA-C8DCD1D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93E9-7076-4735-81CF-971D0A04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CEAA-8260-4FFA-ABAC-71707BEC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F313-98A4-417B-83B1-2703821E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330-D2FB-49D9-BA3E-EE9B43F2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B1B-F99B-46C1-9357-C7CD0EBE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EA0-278B-4C1D-88BC-906E2EC1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E91-8CC8-470E-933E-1D526E0C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6F1-D98A-452A-A7B0-87BA3E2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A67-1798-4B2F-A388-FD21EAE2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8AD-B5F8-4AB8-84A8-75D2A90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52A-3E37-44EF-9705-341DCAEE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5C87-F90C-4665-8335-2ACCB8CBC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9,&#24187;&#28783;&#29255; 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38160" y="10699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80820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31112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3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6520" y="90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西林壁优质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4000" y="1916280"/>
            <a:ext cx="86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远近高低各不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向远处、近处、高处、低处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到的庐山景色都不相同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9120" y="1628640"/>
            <a:ext cx="8624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识庐山真面目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”没有认清庐山的真面目全景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缘身在此山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因为我站在庐山中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80880" y="175248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如你现在就面对着庐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我站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仿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0880" y="53352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歌思想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第一、二句赞美庐山景色的雄奇壮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地三、四句寓理：要想对某事物有全面的、符合实际的认识，就必须站在各管的立场上，来观察分析事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147636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9"/>
          <p:cNvSpPr/>
          <p:nvPr/>
        </p:nvSpPr>
        <p:spPr>
          <a:xfrm>
            <a:off x="6443640" y="335772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5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9"/>
          <p:cNvSpPr/>
          <p:nvPr/>
        </p:nvSpPr>
        <p:spPr>
          <a:xfrm>
            <a:off x="6443640" y="1268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1"/>
          <p:cNvSpPr/>
          <p:nvPr/>
        </p:nvSpPr>
        <p:spPr>
          <a:xfrm>
            <a:off x="3733560" y="90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2"/>
          <p:cNvSpPr/>
          <p:nvPr/>
        </p:nvSpPr>
        <p:spPr>
          <a:xfrm>
            <a:off x="68367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意深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3492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   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山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7"/>
          <p:cNvSpPr/>
          <p:nvPr/>
        </p:nvSpPr>
        <p:spPr>
          <a:xfrm>
            <a:off x="690840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幻莫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8"/>
          <p:cNvSpPr/>
          <p:nvPr/>
        </p:nvSpPr>
        <p:spPr>
          <a:xfrm>
            <a:off x="349236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9"/>
          <p:cNvSpPr/>
          <p:nvPr/>
        </p:nvSpPr>
        <p:spPr>
          <a:xfrm>
            <a:off x="3870000" y="352116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   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面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1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4066200" y="213372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近高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3133800" y="393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5"/>
          <p:cNvSpPr/>
          <p:nvPr/>
        </p:nvSpPr>
        <p:spPr>
          <a:xfrm>
            <a:off x="8392680" y="19706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庐山奇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4E9-A3B7-4AA1-8665-6C8BC55A93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533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的巧妙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作为一种修辞方法，使用字相等、结构形式相同，意义对成的一对短语后句子来表达两个相对或相近意思的语言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PM_001"/>
          <p:cNvPicPr/>
          <p:nvPr/>
        </p:nvPicPr>
        <p:blipFill>
          <a:blip r:embed="rId2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47920" y="2940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学习结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77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1499862006531192216666"/>
          <p:cNvPicPr/>
          <p:nvPr/>
        </p:nvPicPr>
        <p:blipFill>
          <a:blip r:embed="rId2"/>
          <a:srcRect l="0" t="0" r="0" b="82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1481832006531192025557"/>
          <p:cNvPicPr/>
          <p:nvPr/>
        </p:nvPicPr>
        <p:blipFill>
          <a:blip r:embed="rId2"/>
          <a:srcRect l="0" t="0" r="0" b="8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莫 腊 浑 疑 豚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9640" y="1773360"/>
            <a:ext cx="8353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35920" y="2276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莫 腊 浑 疑 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人莫入  腊梅  浑浊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  豚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岭  侧面  缘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叠  重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理解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04920" y="1413000"/>
            <a:ext cx="88390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：高大山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：高而尖的山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：认识，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缘：因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22400" y="1690560"/>
            <a:ext cx="84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79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看成岭侧成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着看，庐山是一条山岭，连绵不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着看却仿佛变成了一座山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/>
  <dc:description/>
  <cp:keywords>幻灯片之家 http:/www.eeppt.com</cp:keywords>
  <dc:language>en-US</dc:language>
  <cp:lastModifiedBy/>
  <dcterms:modified xsi:type="dcterms:W3CDTF">2015-07-11T01:17:30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