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826-2D40-4A6F-AB6F-C89D23D7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A526-6748-46CC-83F9-30863A5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DE6-A2DB-4874-A5A1-7D2397D1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B39-5AD2-4625-A7A9-3E031177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0136-4855-4B3F-AB55-0FD73796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9959-D02C-4B46-A196-9E00B2C5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2756-1E5E-4D48-A1B7-728A9AF9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0631-B079-4DE8-8B78-EFF60E02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FA95-FB97-44C9-A818-F05B309F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8D09-88B9-4937-ACDC-2BB48C64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AD6E-3A76-4A49-BF07-27173656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32D-C640-4E70-BA93-01ADE7FD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F452-1629-4915-A7CD-DAEAF6B6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D284-154F-4B7E-AAA3-0FCCD63D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665F-5A4B-4E01-BBA5-A11EB089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DEC4-6BEC-4331-A911-4EBF82E0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DF95-3513-415D-A068-E742FDC3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107-AE01-468C-BE4D-C242FF94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19D-D10F-48FF-98D0-AB6F95E8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4C1-BE8E-4A37-BFCB-033DDCDA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7E1-362E-424D-8BE5-DBC64CC1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921-25BD-4C5C-AB12-F3538333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B2E-0D3C-4982-A0B9-DDEE4EBD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3C0-7DCF-4A36-BADF-007577DA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3770-2565-468A-8E01-4DADE6007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4A63-7486-4AA8-915A-AB91010BB407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hyperlink" Target="http://cai.wxsf.com/?types=view&amp;action=paste&amp;c_id=3&amp;s_id=3&amp;id=241" TargetMode="External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iujiang.gov.cn/jjlyw/lushan/lvyou/index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duhom.com/wslf/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nta.org.cn/2003101yb/city/lushan/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66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3" name="Picture 5" descr="g2004618130609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5736240" y="1268280"/>
            <a:ext cx="2375280" cy="41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宋   苏轼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横看成岭侧成峰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远近高低各不同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不识庐山真面目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只缘身在此山中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8720" y="765000"/>
            <a:ext cx="56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《题西林壁》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1c1c1c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55736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bilongta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1603800" y="1066680"/>
            <a:ext cx="6050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欣赏了刚才几组庐山的图片，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学们认为庐山怎样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远近高低各不同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诗中哪句话揭示了深刻的道理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不识庐山真面目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cc"/>
                </a:solidFill>
                <a:latin typeface="Arial"/>
                <a:ea typeface="楷体_GB2312"/>
              </a:rPr>
              <a:t>只缘身在此山中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你能用自己的话说说对它的理解吗？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Arial"/>
                <a:ea typeface="楷体_GB2312"/>
              </a:rPr>
              <a:t>同桌互相讨论，交流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98400" y="4714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66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chuntia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7656480" y="6714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cc66"/>
                </a:solidFill>
                <a:latin typeface="Arial"/>
                <a:ea typeface="华文彩云"/>
              </a:rPr>
              <a:t>远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hanpokou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showim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77160" y="549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9900cc"/>
                </a:solidFill>
                <a:latin typeface="Arial"/>
              </a:rPr>
              <a:t>近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shuangjianf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独树一帜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816120" y="50133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幼圆"/>
              </a:rPr>
              <a:t>高</a:t>
            </a:r>
            <a:endParaRPr b="0" lang="en-US" sz="8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wulaofen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99" name="Picture 5" descr="tu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lusan0927_05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4128840" y="646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Arial"/>
                <a:ea typeface="幼圆"/>
              </a:rPr>
              <a:t>低</a:t>
            </a:r>
            <a:endParaRPr b="0" lang="en-US" sz="8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032-258E-4177-9C59-6EBCFBF81DC9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8:15:38Z</dcterms:created>
  <dc:creator/>
  <dc:description/>
  <cp:keywords>幻灯片之家 http:/www.eeppt.com</cp:keywords>
  <dc:language>en-US</dc:language>
  <cp:lastModifiedBy/>
  <dcterms:modified xsi:type="dcterms:W3CDTF">2015-07-18T14:05:29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