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2.gif" ContentType="image/gif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264-3C5B-4098-95DD-190E05C7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9F1-6B87-4201-8089-2B6935B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8FC7B-F000-41F1-B27D-1772536D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20C96-6A1E-4432-A2AC-D6B89FF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292C1-51CB-475B-915F-0D73D7E5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8625-CC8D-4A72-9BDE-F9E7FE3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63AC0-2F21-4A4B-87B9-12ABB1B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A4178-A7C4-4236-BF3D-6E6E31A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57DB1-FBB0-4A73-90EE-E55A99F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78FC3-C902-4A34-9DDB-1AE71F4F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17718-7E13-44B6-A5D7-DA622390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6A1A-8734-46E2-BB29-004B544E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7D2-2C52-4EC1-972C-DBAA8C7C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5970C-2CF8-4421-92C8-75082B3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642AC-EF0A-46DA-B49C-2A6D2C5E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B49FE-8435-4539-AF9F-9C20766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F019-CD83-4073-9641-2DB4E69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B814B-A7BA-4C9C-956F-A66B0F3F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E3869-F763-4EEE-A843-197EFFF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9969-8343-4349-AE15-42DF5B5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0BB8-D23A-4AE5-A034-4CED76D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3FD13-FDD7-4B5C-970A-EE20FBF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2BB7-6979-4B9F-8A94-4F22AE5B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9A6-10CE-4EEA-BA36-A49D95E5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1E106-A7C3-4624-830A-0A91677D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F19F-716C-4D8A-8AB3-BC01628F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982E4-3D73-41A2-A32A-DEE6C77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4BFAC-DF6C-47A6-8672-B614CD2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2FA75-4653-417E-81FE-AA19329F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34E0E-5B57-49EA-BF74-40CC6125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014E-0230-43E1-AC04-D4C037F4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5731A-8857-4478-AFC6-4CC20AA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196A-7E67-4043-B5F0-B703D3D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8331B-F417-4E3F-A32E-32FDFE4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57D2-05FD-431A-A49F-A95CB12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139DD-BDD2-4AB1-A53C-4D85C90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20D83-4CF2-49CB-9D68-0E55C188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2A785-9810-49C9-BAE7-37889B42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FC9FF-AB2B-4668-8D8D-9FAB6999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E0F74-E374-478B-8087-37EC990C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EF0C6-2A70-46B5-A811-B3C9CB3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A0CC-3860-4080-93B0-04D4CEB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15487-2815-43DF-9724-79D6B98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BF6E5-6C93-4A16-9A78-0C325C0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AB538-C5A6-49B9-ACAF-D1EB681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F8E6-6C60-40C1-90D4-13C10BB8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C0B1-733D-4D58-ABFB-7C14A77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EC1C7-DBDF-4AB5-995E-6AC3F5F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8A84B-0BAF-4808-B931-B550FD1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667B1-4373-4550-8842-DC509241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03186-AEF7-40DF-897B-AB9EFC02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A1C5E-910C-4724-BA48-E6645591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35266-0D9A-4879-B08E-919F308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25526-1BE0-47C2-94F9-352AA82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5D998-7A4C-4FAC-B372-772922A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0203E-96E7-413D-87BF-8624B26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265-5179-442F-AEDE-1031AD0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3103F-C734-4D04-BF99-6379B729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56A4D-35E6-47A7-9A51-2DAE08A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F7058-6B96-49D9-94D5-0436298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98D3B-2131-427A-A00D-7277383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C5538-85CE-4053-A9DC-42758B9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28114-E1B0-4595-8F87-8446E530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CD9C5-CAD0-498B-BE6B-397ABAD2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708C9-B5F5-4AD7-9B58-DC5C75CF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F9D59-9161-4123-8A35-37C38117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4F8FF-4079-4A98-94AF-8395FE2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E45-8051-4FE0-9943-DFE4DE9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0A695-743B-49C6-BA0E-B12E186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4700E-58C5-49D6-92D3-7179CF6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7C434-CFF6-46A7-8842-9EDD002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FE91C-B156-4E00-B931-2EB9A83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B095F-4C7A-413E-9DB3-ACB05C9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92768-9CA5-4E75-8D90-231DECE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FAF0B-B819-4EA3-8DF5-8362508F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8CD7F-FD57-43F8-A419-17643E9C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174BF-F1B2-4B47-B962-8B23503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E68C-AC87-4711-9D7C-76EDD81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1252-0A46-422F-9ED8-C4E8B58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F401-4C33-4DE6-879E-FE015C5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D87-1C54-49AC-9B91-3738EA38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FDC-59CD-4D19-BEA8-B653E5A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8BEB-E392-4B43-8BA7-7168180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174B-79CA-4DFD-8D6B-E073CC52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0C20-B896-44FC-998C-EE94C7CF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DA8-B4CB-4525-BFE4-078D57F7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BFD8-8F29-4AC9-B368-252E10E1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1FBA-321B-4C5B-B092-E4324F6C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8E96-4FE7-4A6D-8BF5-66160B4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D497-FFBA-44C5-8DDC-8ED24A4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1FA0-27B4-41D1-A6E3-D93B4D4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0C9-DCBF-4331-8403-4C2077AF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6712-C3DE-43FD-8E1F-E0FB01E5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EE0F-2AEB-45EC-A6DE-117F055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03CB-6563-4096-9A9E-E229000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ECEF-0544-461E-8FB6-E1ECD8F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B4CA-FBCE-486B-842B-DC66CDB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BBC2-3DC0-4AFB-8DE2-4D1183F6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3475-FF52-4EEA-AE7C-3BF08BE6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C0E5-E6FA-4848-81C8-613C5FE8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8102-D5D2-4024-BBB8-3A04C19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DB38-82F2-4D92-A001-3C40082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512-0D31-4FFF-BD9B-8B5C72B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273D2-8E1E-4EF7-8EC9-7CDEB34C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3740-87A3-4A0C-B753-81CAE8AD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40A3-5F95-43E3-BF77-F0B9F32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B27B-E4D8-4F75-88C2-90BD357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03BE-8A82-4A18-9FE6-BDCAC12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23A7-F4F5-49AF-A10E-3CE7E24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D51C-45AD-4AF7-95E0-35A7543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250A-1FE8-4436-A038-876B7B66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D817-5270-4BFD-80D3-713CA12B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666A-A80E-4C67-8B0C-20F80F9C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341-D401-496B-85B0-77AF76F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1A51-AEDB-46F9-B7E9-7D885917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21A50-CE81-4E80-BCD7-F926AA3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B2C8-7F05-4DBD-B616-CF80636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A6C5-2863-434C-979C-40907C9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F5C5-9745-4819-87FF-C0EC6AA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CCC96-2D92-4CEE-8A72-D14BD7A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A5C4-534F-4F92-9FC1-4935BBB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67A4-BAC7-46D1-A2EE-CC77886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37CC-ABF4-45DC-9A2B-92E12F22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98DD-D203-4E6C-BC5A-681F0EEC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3C0-9365-44E3-9073-6FEA045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4ED1-66B3-444B-8013-8B1AE9D8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99DA-18F8-4A54-905D-E2AA5A5E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8B3F-1F87-4D79-85F0-91731F0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4C5D-BB90-4AD1-99E4-A0E0F5C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F267-D102-4637-AB9C-52345B6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C62E-E1A8-47A8-B2A1-0D13E249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DF769-08C9-4297-BE7E-6E9414FA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86E4-78DE-47A8-80FF-FE59EA5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A930-4375-4A51-98A6-E3E18180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46B0-CD31-4D57-AC25-AFB85E7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F7F-9FE4-46D6-A226-DC8DB1B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36BB-290B-4BEF-92E9-5FD714CF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73C6-4050-47ED-99F6-771F982E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7D0E-FE69-491D-9773-A590FA56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C3D88-A253-45F2-87C3-D0FD622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A744-0942-42F9-B092-16EAA4E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4714-E347-4F4D-9FDE-6A7644F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FC51-420E-4AD9-B25D-66854454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E688-3444-4791-A846-9478E958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2A74-8BCA-4D47-9CE2-818A62B4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251C-E22F-4195-B2D0-B84988B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088-2D74-4491-B94F-2938E6D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4992-51B6-4DFD-B1CD-40F28C7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8601-7C20-4D62-AF9F-43F916D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A8DC-3D31-478C-9477-A5EF26A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E4D9-B24A-4E3E-915F-2B59BDC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50D50-DBDC-4000-8DAF-CB65B0B2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546B-BC6A-463A-8F9F-17ABFF6A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B058-959C-41CE-8D3F-ADF2AFC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C2F0B-6315-4D18-B33B-B0D6E64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58113-5E18-472D-AB6D-CF6FB35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B3DDE-A075-4D11-94F8-436EFD8B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8FB-7FAF-43FE-9C3C-55C843C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C5E08-E542-4785-B46A-F246F45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D9980-C8F2-4DA2-8387-8513C8E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352A5-8F12-42BE-A8F0-88024E5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556B4-8F7C-4F41-8159-B33C205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0D82-AA55-4731-B4D0-FBA04FB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5116-808C-4BD6-A38B-1D42074B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AEA0-91C2-4346-9BDC-AA1E5B0E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54B55-43AF-4D9E-8C76-9286655A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1D984-CF80-4F9B-8AE2-85ACF910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A8AA-8329-4AF5-AF1E-4E939ACE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A592-B29D-4FD0-AEEF-9561614D15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1865-D4BC-4EB8-9B2F-D026A6E361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D032-945C-4A58-8E9B-FDB533512C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B2A-A5CE-4771-9F38-F56473A5B2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35C-60F2-483F-9775-DA9F7BA2CA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3E6-83DB-4A0C-9774-EDB79FE0F2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ACF9-16AC-4FBF-B697-2256EA5856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AA0-67B9-4FD5-A2E2-1B704EF0C7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E47F-AC7C-4FC1-98D5-450B84EC92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D47-1DE0-406E-A156-1620A9EE97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255-6052-4A2E-B469-AC409C8CBD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518-AE02-4A0E-8F92-D364FFCFFE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CB9-506F-497B-8F3D-2C1B4560BF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12B-A0EA-4591-8A5F-4E8D7A9028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课文情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4681440" y="4383720"/>
            <a:ext cx="37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《战国策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ti"/>
          <p:cNvPicPr/>
          <p:nvPr/>
        </p:nvPicPr>
        <p:blipFill>
          <a:blip r:embed="rId2"/>
          <a:stretch/>
        </p:blipFill>
        <p:spPr>
          <a:xfrm>
            <a:off x="324000" y="907920"/>
            <a:ext cx="6624360" cy="2521080"/>
          </a:xfrm>
          <a:prstGeom prst="rect">
            <a:avLst/>
          </a:prstGeom>
          <a:ln w="0">
            <a:noFill/>
          </a:ln>
        </p:spPr>
      </p:pic>
      <p:sp>
        <p:nvSpPr>
          <p:cNvPr id="586" name="矩形 9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de3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fefde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efde3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30400" y="260280"/>
            <a:ext cx="78343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40208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240208"/>
                </a:solidFill>
                <a:latin typeface="Times New Roman"/>
                <a:ea typeface="华文新魏"/>
              </a:rPr>
              <a:t>揣摩人物的语言、神态、动作，用下面的句式说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读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，我看到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秦王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读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，我看到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唐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4" descr="1"/>
          <p:cNvPicPr/>
          <p:nvPr/>
        </p:nvPicPr>
        <p:blipFill>
          <a:blip r:embed="rId1"/>
          <a:stretch/>
        </p:blipFill>
        <p:spPr>
          <a:xfrm>
            <a:off x="1143000" y="20574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1"/>
          <p:cNvPicPr/>
          <p:nvPr/>
        </p:nvPicPr>
        <p:blipFill>
          <a:blip r:embed="rId2"/>
          <a:stretch/>
        </p:blipFill>
        <p:spPr>
          <a:xfrm>
            <a:off x="1066680" y="396252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 rot="21535200">
            <a:off x="5562720" y="3809520"/>
            <a:ext cx="2968560" cy="2438640"/>
          </a:xfrm>
          <a:prstGeom prst="wedgeRoundRectCallout">
            <a:avLst>
              <a:gd name="adj1" fmla="val -113092"/>
              <a:gd name="adj2" fmla="val -739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3"/>
          <p:cNvSpPr/>
          <p:nvPr/>
        </p:nvSpPr>
        <p:spPr>
          <a:xfrm>
            <a:off x="5334120" y="838080"/>
            <a:ext cx="3200400" cy="2362320"/>
          </a:xfrm>
          <a:prstGeom prst="wedgeRoundRectCallout">
            <a:avLst>
              <a:gd name="adj1" fmla="val -96277"/>
              <a:gd name="adj2" fmla="val 531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WordArt 4"/>
          <p:cNvSpPr txBox="1"/>
          <p:nvPr/>
        </p:nvSpPr>
        <p:spPr>
          <a:xfrm rot="5400000">
            <a:off x="2361960" y="160020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秦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28" name="WordArt 5"/>
          <p:cNvSpPr txBox="1"/>
          <p:nvPr/>
        </p:nvSpPr>
        <p:spPr>
          <a:xfrm rot="5400000">
            <a:off x="2324160" y="445752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唐雎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2057400" y="2209680"/>
            <a:ext cx="380880" cy="3124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77000" y="2666880"/>
            <a:ext cx="13993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人物性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273720" y="1219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奸诈狡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蛮横无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色厉内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172200" y="4191120"/>
            <a:ext cx="181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爱国忠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机智勇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能言善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3"/>
          <p:cNvSpPr txBox="1"/>
          <p:nvPr/>
        </p:nvSpPr>
        <p:spPr>
          <a:xfrm>
            <a:off x="533520" y="0"/>
            <a:ext cx="2286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启示一：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38080" y="1981080"/>
            <a:ext cx="7543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勇敢与善辩也是好的品质与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在平时要多锻炼自己的说话能力，培养自己的说话技巧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3259080" y="12952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下面的道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6" descr="3"/>
          <p:cNvPicPr/>
          <p:nvPr/>
        </p:nvPicPr>
        <p:blipFill>
          <a:blip r:embed="rId2"/>
          <a:stretch/>
        </p:blipFill>
        <p:spPr>
          <a:xfrm>
            <a:off x="685800" y="3276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1"/>
          <p:cNvPicPr/>
          <p:nvPr/>
        </p:nvPicPr>
        <p:blipFill>
          <a:blip r:embed="rId3"/>
          <a:stretch/>
        </p:blipFill>
        <p:spPr>
          <a:xfrm>
            <a:off x="762120" y="4572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1"/>
          <p:cNvPicPr/>
          <p:nvPr/>
        </p:nvPicPr>
        <p:blipFill>
          <a:blip r:embed="rId4"/>
          <a:stretch/>
        </p:blipFill>
        <p:spPr>
          <a:xfrm>
            <a:off x="685800" y="2057400"/>
            <a:ext cx="54756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2432160" y="609480"/>
            <a:ext cx="539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你知道哪些关于说话能力和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巧的名言警句？试列举一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3" descr="1"/>
          <p:cNvPicPr/>
          <p:nvPr/>
        </p:nvPicPr>
        <p:blipFill>
          <a:blip r:embed="rId1"/>
          <a:stretch/>
        </p:blipFill>
        <p:spPr>
          <a:xfrm>
            <a:off x="1295280" y="198108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2"/>
          <p:cNvPicPr/>
          <p:nvPr/>
        </p:nvPicPr>
        <p:blipFill>
          <a:blip r:embed="rId2"/>
          <a:stretch/>
        </p:blipFill>
        <p:spPr>
          <a:xfrm>
            <a:off x="1295280" y="28954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3"/>
          <p:cNvPicPr/>
          <p:nvPr/>
        </p:nvPicPr>
        <p:blipFill>
          <a:blip r:embed="rId3"/>
          <a:stretch/>
        </p:blipFill>
        <p:spPr>
          <a:xfrm>
            <a:off x="1295280" y="40384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gif014"/>
          <p:cNvPicPr/>
          <p:nvPr/>
        </p:nvPicPr>
        <p:blipFill>
          <a:blip r:embed="rId4"/>
          <a:stretch/>
        </p:blipFill>
        <p:spPr>
          <a:xfrm rot="727200">
            <a:off x="761760" y="380520"/>
            <a:ext cx="1253880" cy="121932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7"/>
          <p:cNvSpPr/>
          <p:nvPr/>
        </p:nvSpPr>
        <p:spPr>
          <a:xfrm>
            <a:off x="2133720" y="19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荀子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3850920" y="2819520"/>
            <a:ext cx="19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刘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124520" y="4038480"/>
            <a:ext cx="20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西方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界的三大战略武器：口才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美元、电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6804000" y="6308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WordArt 3"/>
          <p:cNvSpPr txBox="1"/>
          <p:nvPr/>
        </p:nvSpPr>
        <p:spPr>
          <a:xfrm>
            <a:off x="1066680" y="53352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启示二：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369520" y="204156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379240" y="3200400"/>
            <a:ext cx="4569840" cy="27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能够在我们以后的写作过程中，充分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用</a:t>
            </a: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个性化的人物语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来凸现人物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性格特点，提高我们的写作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《唐雎不辱使命》课件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WordArt 3"/>
          <p:cNvSpPr txBox="1"/>
          <p:nvPr/>
        </p:nvSpPr>
        <p:spPr>
          <a:xfrm>
            <a:off x="457200" y="304920"/>
            <a:ext cx="44434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展思考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666880" y="3780000"/>
            <a:ext cx="5181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371600" y="1447920"/>
            <a:ext cx="6248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efde3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你还了解外交史上哪些出使他国 而“不辱使命”的人或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C:/Users/pc/AppData/Local/Temp/360zip$Temp/360$3/http:/www.kochi.isp.ntt-west.co.jp/wnn-c/SPECIAL/van/iwa/img/yatarou.gif"/>
          <p:cNvPicPr/>
          <p:nvPr/>
        </p:nvPicPr>
        <p:blipFill>
          <a:blip r:embed="rId1"/>
          <a:stretch/>
        </p:blipFill>
        <p:spPr>
          <a:xfrm>
            <a:off x="0" y="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3352680" y="1523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节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4"/>
          <p:cNvSpPr/>
          <p:nvPr/>
        </p:nvSpPr>
        <p:spPr>
          <a:xfrm>
            <a:off x="2666880" y="198108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-1932480" y="1676520"/>
            <a:ext cx="4569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说话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唐雎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916360" y="2852640"/>
            <a:ext cx="546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据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419640" y="429264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力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27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是“巧”在言辞委婉，言之有“节”上。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秦王要求以五百里之地易安陵，纯是诈骗。当遭到安陵君拒绝后，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秦王不说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，于是当着唐雎的面露出威胁之意，并盛气凌人地责备安陵君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轻寡人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。对此，唐雎先用屈从的口吻说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否，非若是也。”这一回答，既缓和了秦王以强凌弱的气势，使会谈能够继续下去；又强调了不肯易地的原因。然后从容地说明安陵君不肯易地是因为“受地于先王而守之”，并非故意违背秦王的意愿。这一句答得委婉，言之有理，言之有“节”，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一个“守”字，含义丰富；既说明愿忠于先王的遗业，维护国家主权和领土的完整，宁“守”不“易”，这是一种崇仰先王、不为利诱的明显反映；又表明安陵国并无扩张之意，倒有御敌之心，这不仅婉言拒绝了秦王的易地要求，还暗暗告诫秦王不要轻举妄动。“守”是一种坚持正义，不畏强暴的具体表现，显示出安陵国土的神圣不可侵犯。“虽千里不敢易也，岂直五百里哉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  <a:ea typeface="Tahoma"/>
              </a:rPr>
              <a:t>?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这一反语，十分有力，表明安陵国非但不想易地，而且根本不愿意易地。因为安陵君明白秦王的“易”即是“抢”的同义语。可见，“守”是不畏强暴、坚守国土的具体表现。由于唐雎坚持原则，言之有“节”，从“道义”方面暗刺了秦王的不义，触犯了他的尊严，难怪他要“沸然怒”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609480" y="14616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    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Tahoma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是“巧”在针锋相对、言之有“据”上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秦王见诈骗不行，便用“伏尸百万，流血千里”的所谓“天子之怒”进行威吓。唐雎正气凛然，针锋相对，用“伏尸二人，流血五步”的“士之怒”进行回击。在这场围绕天子与布衣之“怒”的交锋中，唐服很快就由被动而变为主动。当秦王以“亦……尔”的口吻鄙视“布衣之怒”时，唐雎立即驳斥：“此庸夫之怒也，非士之怒也”，提醒秦王正视“士之怒”。接着用语势强烈的排比句，列举专诸刺王僚、聂政刺韩傀、要离刺庆忌的史实，对“士之怒”加以渲染说明。这三个史实，犹如锃亮锋利的匕首，直刺贪生怕死的秦王心窝；又好似撼天动地的警钟，警告秦王必须吸取历史教训，不要自蹈死地。但是，这些有根有据的“士之怒”，毕竟是历史上的事，已经过去了，它对秦王虽有所触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威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但还不足以使利令智昏的秦王幡然悔悟。于是，唐雄又逼近一步：“此三子者”，“与臣而将四矣”。这是暗示他将效法三人，刺杀秦王。这样就把血淋淋的史实，变成对秦王的直接威胁，迫使秦王不得不考虑自己的危急处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pic_12006"/>
          <p:cNvPicPr/>
          <p:nvPr/>
        </p:nvPicPr>
        <p:blipFill>
          <a:blip r:embed="rId1"/>
          <a:srcRect l="0" t="0" r="-54" b="-73"/>
          <a:stretch/>
        </p:blipFill>
        <p:spPr>
          <a:xfrm>
            <a:off x="0" y="895320"/>
            <a:ext cx="9144000" cy="5329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-42480" y="1268280"/>
            <a:ext cx="164268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唐雎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2050920" y="3213000"/>
            <a:ext cx="1657440" cy="36828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158600" y="504720"/>
            <a:ext cx="1642680" cy="630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唐雎完成了出使的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094560" y="2752560"/>
            <a:ext cx="248544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1304"/>
                </a:solidFill>
                <a:latin typeface="Arial"/>
              </a:rPr>
              <a:t>辜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1304"/>
                </a:solidFill>
                <a:latin typeface="Arial"/>
              </a:rPr>
              <a:t>辱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228600" y="685800"/>
            <a:ext cx="844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宋体"/>
                <a:ea typeface="Tahoma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以行征言，言之有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力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倘若唐雎只用文战，不辅以武攻，秦王势必会存侥幸心理，绝不会轻易折服。以行证言，就能使“言”更富于慑敌的威力。唐雎辅以“挺剑而起”这一义无反顾的行动，来证明“今日”欲刺秦王之“言”的实在性和尖锐性，这就从根本上彻底打破了秦王的一切幻想，迫使秦王不得不“长跪而谢之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0066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252360" y="22860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了解背景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战国末期，秦国先后灭掉了韩、魏等国，气势日炽。安陵国是魏国的附庸小国，秦国想用诈骗手段吞并安陵，安陵君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pic_12006"/>
          <p:cNvPicPr/>
          <p:nvPr/>
        </p:nvPicPr>
        <p:blipFill>
          <a:blip r:embed="rId1"/>
          <a:srcRect l="0" t="0" r="-54" b="-73"/>
          <a:stretch/>
        </p:blipFill>
        <p:spPr>
          <a:xfrm>
            <a:off x="5183280" y="0"/>
            <a:ext cx="3960720" cy="23083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539640" y="644400"/>
            <a:ext cx="815364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读准字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正确断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疏通大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92000" y="5300640"/>
            <a:ext cx="77407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结合注释，同桌互译，不懂的画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质疑并释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6804000" y="6021360"/>
            <a:ext cx="2160720" cy="836640"/>
          </a:xfrm>
          <a:custGeom>
            <a:avLst/>
            <a:gdLst>
              <a:gd name="textAreaLeft" fmla="*/ 52200 w 2160720"/>
              <a:gd name="textAreaRight" fmla="*/ 2108520 w 2160720"/>
              <a:gd name="textAreaTop" fmla="*/ 52200 h 836640"/>
              <a:gd name="textAreaBottom" fmla="*/ 784440 h 836640"/>
            </a:gdLst>
            <a:ahLst/>
            <a:rect l="textAreaLeft" t="textAreaTop" r="textAreaRight" b="textAreaBottom"/>
            <a:pathLst>
              <a:path w="55770" h="21600">
                <a:moveTo>
                  <a:pt x="0" y="0"/>
                </a:moveTo>
                <a:lnTo>
                  <a:pt x="55770" y="0"/>
                </a:lnTo>
                <a:lnTo>
                  <a:pt x="55770" y="21600"/>
                </a:lnTo>
                <a:lnTo>
                  <a:pt x="0" y="21600"/>
                </a:lnTo>
                <a:close/>
              </a:path>
              <a:path fill="lightenLess" w="55770" h="21600">
                <a:moveTo>
                  <a:pt x="0" y="0"/>
                </a:moveTo>
                <a:lnTo>
                  <a:pt x="55770" y="0"/>
                </a:lnTo>
                <a:lnTo>
                  <a:pt x="54420" y="1350"/>
                </a:lnTo>
                <a:lnTo>
                  <a:pt x="1350" y="1350"/>
                </a:lnTo>
                <a:close/>
              </a:path>
              <a:path fill="darken" w="55770" h="21600">
                <a:moveTo>
                  <a:pt x="55770" y="0"/>
                </a:moveTo>
                <a:lnTo>
                  <a:pt x="55770" y="21600"/>
                </a:lnTo>
                <a:lnTo>
                  <a:pt x="54420" y="20250"/>
                </a:lnTo>
                <a:lnTo>
                  <a:pt x="54420" y="1350"/>
                </a:lnTo>
                <a:close/>
              </a:path>
              <a:path fill="darkenLess" w="55770" h="21600">
                <a:moveTo>
                  <a:pt x="557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4420" y="20250"/>
                </a:lnTo>
                <a:close/>
              </a:path>
              <a:path fill="lighten" w="557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5770" h="21600">
                <a:moveTo>
                  <a:pt x="20841" y="8394"/>
                </a:moveTo>
                <a:lnTo>
                  <a:pt x="25295" y="8394"/>
                </a:lnTo>
                <a:lnTo>
                  <a:pt x="29740" y="3756"/>
                </a:lnTo>
                <a:lnTo>
                  <a:pt x="29740" y="17844"/>
                </a:lnTo>
                <a:lnTo>
                  <a:pt x="25295" y="13206"/>
                </a:lnTo>
                <a:lnTo>
                  <a:pt x="20841" y="13206"/>
                </a:lnTo>
                <a:close/>
              </a:path>
              <a:path fill="darken" w="55770" h="21600">
                <a:moveTo>
                  <a:pt x="31402" y="10800"/>
                </a:moveTo>
                <a:lnTo>
                  <a:pt x="34929" y="10800"/>
                </a:lnTo>
              </a:path>
              <a:path fill="darken" w="55770" h="21600">
                <a:moveTo>
                  <a:pt x="31402" y="8394"/>
                </a:moveTo>
                <a:lnTo>
                  <a:pt x="34929" y="5611"/>
                </a:lnTo>
              </a:path>
              <a:path fill="darken" w="55770" h="21600">
                <a:moveTo>
                  <a:pt x="31402" y="13206"/>
                </a:moveTo>
                <a:lnTo>
                  <a:pt x="34929" y="15989"/>
                </a:lnTo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BK010098"/>
          <p:cNvPicPr/>
          <p:nvPr/>
        </p:nvPicPr>
        <p:blipFill>
          <a:blip r:embed="rId1"/>
          <a:stretch/>
        </p:blipFill>
        <p:spPr>
          <a:xfrm>
            <a:off x="914400" y="1219320"/>
            <a:ext cx="7924680" cy="53337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1752480" y="1676520"/>
            <a:ext cx="4800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553080" y="1600200"/>
            <a:ext cx="1905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10280" y="522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  <a:ea typeface="黑体"/>
              </a:rPr>
              <a:t>解释下列句中的多义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2"/>
          <p:cNvPicPr/>
          <p:nvPr/>
        </p:nvPicPr>
        <p:blipFill>
          <a:blip r:embed="rId1"/>
          <a:stretch/>
        </p:blipFill>
        <p:spPr>
          <a:xfrm>
            <a:off x="838080" y="228600"/>
            <a:ext cx="8051760" cy="64008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3"/>
          <p:cNvSpPr txBox="1"/>
          <p:nvPr/>
        </p:nvSpPr>
        <p:spPr>
          <a:xfrm>
            <a:off x="2133720" y="990720"/>
            <a:ext cx="56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解释下列句中突出的词语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143000" y="2057400"/>
            <a:ext cx="4495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故不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错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意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下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缟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休祲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降于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寡人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谕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头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抢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5181480" y="1981080"/>
            <a:ext cx="3429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通“措”，放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动词“穿丧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吉凶的征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明白、懂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687708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06668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cc"/>
                </a:solidFill>
                <a:latin typeface="新宋体"/>
                <a:ea typeface="新宋体"/>
              </a:rPr>
              <a:t>翻译下面的文言句子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83340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990720" y="1752480"/>
            <a:ext cx="815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838080" y="3048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920880" y="370188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安陵君却违背我的意愿，是轻视我吗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8380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143000" y="548640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9" descr="ti"/>
          <p:cNvPicPr/>
          <p:nvPr/>
        </p:nvPicPr>
        <p:blipFill>
          <a:blip r:embed="rId1"/>
          <a:stretch/>
        </p:blipFill>
        <p:spPr>
          <a:xfrm>
            <a:off x="6804000" y="6154560"/>
            <a:ext cx="1981080" cy="587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219320" y="685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914400" y="144792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以五百里地易安陵的真正目的是什么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唐雎出使秦国的原因是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说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子之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具体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唐雎举专诸、聂政、要离等三个人物的目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最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跪而谢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说明了什么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18" name="AutoShape 3"/>
          <p:cNvSpPr/>
          <p:nvPr/>
        </p:nvSpPr>
        <p:spPr>
          <a:xfrm>
            <a:off x="2286000" y="2286000"/>
            <a:ext cx="5257800" cy="3352680"/>
          </a:xfrm>
          <a:prstGeom prst="horizontalScroll">
            <a:avLst>
              <a:gd name="adj" fmla="val 1568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304920" y="371520"/>
            <a:ext cx="7219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2ac3"/>
                </a:solidFill>
                <a:latin typeface="Times New Roman"/>
                <a:ea typeface="黑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课文运用了哪些刻画人物的方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191240" y="2819520"/>
            <a:ext cx="554292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语言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神态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动作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11:18:42Z</dcterms:created>
  <dc:creator/>
  <dc:description/>
  <cp:keywords>幻灯片之家 http:/www.eeppt.com</cp:keywords>
  <dc:language>en-US</dc:language>
  <cp:lastModifiedBy/>
  <dcterms:modified xsi:type="dcterms:W3CDTF">2015-07-20T11:19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