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C13-FC43-434D-9F10-6152194B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30C-5D6F-43B5-A8B7-65DC4855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838-A787-445C-9840-3BB8D0AB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AFE-C883-4478-83BD-3FC8365F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0C3-5830-4863-BE6D-6BC6A913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ED6-F291-4F23-AE99-E30C8654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9F8-F15C-42B3-B6B4-0933B4AC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07B-DADA-42CF-91C6-FAAB9B80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CD8-4709-4E00-BFAD-F6868868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CB1-F5B0-40AC-A475-3FD2F59A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0DC-67F4-4160-9F44-9567256D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7FB-62AA-4992-8DF8-B9362A3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04A7-1E5F-469F-9C05-06EAAE2E9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50920" y="24242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5" descr=""/>
          <p:cNvPicPr/>
          <p:nvPr/>
        </p:nvPicPr>
        <p:blipFill>
          <a:blip r:embed="rId20"/>
          <a:srcRect l="0" t="0" r="10821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59720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苏教版）六年级语文上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9840" y="1989000"/>
            <a:ext cx="30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我们爱你啊，中国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教学演示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861920" y="1413000"/>
            <a:ext cx="5497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灿烂的太阳跳出东海的碧波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帕米尔高原依然是群星闪烁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当北国还是银装素裹的世界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南疆早已洋溢着盎然的春色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啊，我们爱你，中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我们爱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桂林山水的清奇俊秀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杭州西湖的浓妆淡抹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黄山、庐山的云雾飘渺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长江、黄河的波澜壮阔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我们爱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龙井茶的清香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茅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纯美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江南丝绸的光洁绚丽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景德镇陶瓷的天工巧夺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 我们爱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傣家竹楼前如水的月色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世界屋脊上布达拉宫的巍峨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吐鲁番的葡萄、哈密的瓜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大草原的羊群、戈壁滩的骆驼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我们爱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战国编钟奏出的古曲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改革开放谱写的新歌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神州万里涌动的滚滚春潮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祖国大地燃起的希望之火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爱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奋斗书写的史册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汗水浇灌的硕果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松树的伟岸、梅花的高洁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博大的胸怀、恢宏的气魄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骄傲，我们自豪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我们奋发，我们开拓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你是世界民族之林的强者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我们爱你啊，中国！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429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完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爱你啊，中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同学们一定有许多话要说。请说说“我心中的祖国”吧！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75R%EY{(MO7BYNAE])(UVP"/>
          <p:cNvPicPr/>
          <p:nvPr/>
        </p:nvPicPr>
        <p:blipFill>
          <a:blip r:embed="rId2"/>
          <a:stretch/>
        </p:blipFill>
        <p:spPr>
          <a:xfrm>
            <a:off x="108000" y="404640"/>
            <a:ext cx="9036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[6U9WISTV$OA}L_[~A(HEG"/>
          <p:cNvPicPr/>
          <p:nvPr/>
        </p:nvPicPr>
        <p:blipFill>
          <a:blip r:embed="rId2"/>
          <a:stretch/>
        </p:blipFill>
        <p:spPr>
          <a:xfrm>
            <a:off x="179280" y="476280"/>
            <a:ext cx="80647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39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602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]PDQV1%TJ[KG~_{IB{H`I1H"/>
          <p:cNvPicPr/>
          <p:nvPr/>
        </p:nvPicPr>
        <p:blipFill>
          <a:blip r:embed="rId2"/>
          <a:stretch/>
        </p:blipFill>
        <p:spPr>
          <a:xfrm>
            <a:off x="468360" y="260280"/>
            <a:ext cx="82803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FFZNZ32$QY9761T3)$GK040"/>
          <p:cNvPicPr/>
          <p:nvPr/>
        </p:nvPicPr>
        <p:blipFill>
          <a:blip r:embed="rId2"/>
          <a:stretch/>
        </p:blipFill>
        <p:spPr>
          <a:xfrm>
            <a:off x="395280" y="1413000"/>
            <a:ext cx="813744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681-CA3D-4991-9373-CFC23E602C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978]M3M$[%DVO$6GP`}NCMH"/>
          <p:cNvPicPr/>
          <p:nvPr/>
        </p:nvPicPr>
        <p:blipFill>
          <a:blip r:embed="rId2"/>
          <a:stretch/>
        </p:blipFill>
        <p:spPr>
          <a:xfrm>
            <a:off x="1258920" y="907920"/>
            <a:ext cx="6751440" cy="2982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 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群星闪烁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民族之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银装素裹  洋溢盎然</a:t>
            </a: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清奇俊秀　浓妆淡抹　　　</a:t>
            </a: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云雾飘渺  波澜壮阔  </a:t>
            </a: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光洁绚丽  天工巧夺</a:t>
            </a:r>
            <a:br>
              <a:rPr sz="54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汗水浇灌  恢宏气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景德镇  吐鲁番   戈壁滩 　　　　　</a:t>
            </a:r>
            <a:br>
              <a:rPr sz="5400"/>
            </a:b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滚滚春潮 战国编钟 布达拉宫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竹楼 屋脊</a:t>
            </a: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陶瓷  纯美 傣家</a:t>
            </a: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谱写  巍峨  葡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燃起  硕果    伟岸</a:t>
            </a: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博大胸怀　自豪  开拓　碧波 　帕米尔高原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(VSXTE47J)Q6E)8VHC9F$IN"/>
          <p:cNvPicPr/>
          <p:nvPr/>
        </p:nvPicPr>
        <p:blipFill>
          <a:blip r:embed="rId2"/>
          <a:stretch/>
        </p:blipFill>
        <p:spPr>
          <a:xfrm>
            <a:off x="395280" y="404640"/>
            <a:ext cx="81374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ff33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全诗共分为三个部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一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一部分：歌颂祖国的幅员辽阔，总写对祖国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二至六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二部分：从不同的侧面歌颂祖国壮丽的山河、丰富的物产、光辉的历史和伟大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七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三部分：表达了誓把祖国建设得更加美好的坚定决心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一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写祖国幅员辽阔，总起全诗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以“我们爱你”作为起句，从不同角度，歌颂赞美可爱的祖国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总结全文。回顾过去，骄傲自豪；展望未来，奋发开拓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05:52Z</dcterms:created>
  <dc:creator/>
  <dc:description/>
  <cp:keywords>幻灯片之家 http:/www.eeppt.com</cp:keywords>
  <dc:language>en-US</dc:language>
  <cp:lastModifiedBy/>
  <dcterms:modified xsi:type="dcterms:W3CDTF">2015-07-03T12:01:38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