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889-89DB-4949-A803-67008D7FD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3915-ADB4-47BA-B03A-AE6B9C47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F33-F3F8-4DCA-94E6-2802D542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592D-8126-4F10-B2A1-BA1715A5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C13-7B52-48CD-B5D7-B34D793F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DD72-06C3-41DE-ACA7-9692E9C0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85E0-809E-468E-8FFF-260D7131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17F-F48D-420D-8780-20C7B28E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4F8-91E5-47D2-8028-666E51F8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F06-AB48-4842-A4CF-A179F575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BC28-3317-4C7E-ACA5-866A11CD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827B-CC7F-42BA-9A35-FD8C199D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AA4F3-BCCF-4F54-937D-EDD7453C2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a1"/>
          <p:cNvPicPr/>
          <p:nvPr/>
        </p:nvPicPr>
        <p:blipFill>
          <a:blip r:embed="rId1"/>
          <a:srcRect l="0" t="10719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143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371040" y="990720"/>
            <a:ext cx="5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我最好的老师优》课件下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8"/>
          <p:cNvSpPr/>
          <p:nvPr/>
        </p:nvSpPr>
        <p:spPr>
          <a:xfrm>
            <a:off x="3276720" y="2590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好老师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上课"/>
          <p:cNvPicPr/>
          <p:nvPr/>
        </p:nvPicPr>
        <p:blipFill>
          <a:blip r:embed="rId3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感谢师恩"/>
          <p:cNvPicPr/>
          <p:nvPr/>
        </p:nvPicPr>
        <p:blipFill>
          <a:blip r:embed="rId4"/>
          <a:stretch/>
        </p:blipFill>
        <p:spPr>
          <a:xfrm>
            <a:off x="0" y="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5564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4"/>
          <p:cNvSpPr/>
          <p:nvPr/>
        </p:nvSpPr>
        <p:spPr>
          <a:xfrm>
            <a:off x="1219320" y="1066680"/>
            <a:ext cx="6553080" cy="1219320"/>
          </a:xfrm>
          <a:prstGeom prst="cloudCallout">
            <a:avLst>
              <a:gd name="adj1" fmla="val -29069"/>
              <a:gd name="adj2" fmla="val 39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读一读，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38080" y="3324240"/>
            <a:ext cx="601992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凯蒂旺普斯　　记录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警惕　　　　　驳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崭新　　　　　惊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828360" y="2743200"/>
            <a:ext cx="126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kǎi  d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945040" y="2743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573200" y="39783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786200" y="39020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812160" y="4968720"/>
            <a:ext cx="106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zh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5320080" y="4968720"/>
            <a:ext cx="7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hà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1395360" y="6858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初读课文，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006920" y="2940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3886560" y="2895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汇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52280" y="3657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你喜欢的方式自由读课文，看看你读懂了什么？有什么不明白的或是想知道的？在书上做个标记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2057400" y="32767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9"/>
          <p:cNvSpPr/>
          <p:nvPr/>
        </p:nvSpPr>
        <p:spPr>
          <a:xfrm>
            <a:off x="5029200" y="213372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6682680" y="214776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说说你读懂了什么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6504840" y="377820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出不懂的问题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1443240" y="577800"/>
            <a:ext cx="270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自主探究，因需交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594960" y="1744560"/>
            <a:ext cx="22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宋体"/>
              </a:rPr>
              <a:t>怀特森老师是一个（           ）的老师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838080" y="25146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默读课文，看看怀特森老师说了什么，做了什么？想一想怀特森老师是一个（        ）的老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990720" y="411480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思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默读课文，思考在怀特森老师教“我们”的过程中“我”的心情和行为有了哪些变化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我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认为怀特森老师是一个（          ）的老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08C8-E3BE-4AAE-813C-259F8A192E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982080" y="57780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拓展延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676520" y="1752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怀特森老师用自己独特的教学方式教会了孩子们怎样学习，这不仅改变了孩子们的学习方式，也改变了他们的生活方式。这篇文章的作者是美国著名作家大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欧文，他写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家爸爸银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风靡全球。试想如果他在少年时代没有遇到怀特森老师，那么他还是今天的大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欧文吗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762120" y="6094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蜜蜂并不是靠翅膀振动发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600" y="1136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蜜蜂发音靠的是翅膀振动──这个被列入我国小学教材的生物学“常识”，被一位名叫聂利的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小学生用实验推翻。聂利为此撰写的论文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蜜蜂并不是靠翅膀振动发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荣获全国青少年科技创新大赛银奖和高士其科普专项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一科学发现出自一名年仅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岁的小学生之手，确实难能可贵！无数生物学家没有发现的自然奥秘，小小的聂利发现了；成年人没有怀疑过的来自书本的“定论”，聂利把它推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人民日报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报道说，聂利的发现过程并不复杂：她先是偶然发现翅膀不振动（或被剪下双翅）的蜜蜂仍然嗡嗡叫，然后用放大镜观察了一个多月，终于找到了蜜蜂的发声器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如同许多重大科学发现一样，发现过程本身也许并不曲折，关键在于发现者是否勇于向“定论”提出质疑，向科学权威提出挑战。体现在聂利身上的离经叛道和勇于怀疑的精神，比“蜜蜂的发声器官”这个发现本身更为可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6593040"/>
            <a:ext cx="675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9T05:49:33Z</dcterms:created>
  <dc:creator/>
  <dc:description/>
  <cp:keywords>幻灯片之家 http:/www.eeppt.com</cp:keywords>
  <dc:language>en-US</dc:language>
  <cp:lastModifiedBy/>
  <dcterms:modified xsi:type="dcterms:W3CDTF">2015-07-11T01:33:39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