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9.png" ContentType="image/png"/>
  <Override PartName="/ppt/media/image6.gif" ContentType="image/gif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8.gif" ContentType="image/gif"/>
  <Override PartName="/ppt/media/image4.png" ContentType="image/png"/>
  <Override PartName="/ppt/media/image8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676-0816-4A3C-A079-7D67E93D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4FA-212C-4147-AFBD-AB1C4ACB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BE5-8DCA-4470-B4D0-88FD801C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7108-6C87-48AE-991D-115F290B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2CA-084E-41AA-BFD5-7BA700CF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24A-BFD6-420D-BBDE-6DC34BE5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EC4-0F46-4A39-9761-3F8DE609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E77-81E4-4C55-B466-D808983D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057-8209-4A5E-B4CB-B3414253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913-157B-405C-A39C-1F053EAC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A24-5C28-4827-936F-A4E7B5E4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739-FAE4-485D-97A9-444FD13B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099B-1D8F-42FF-AB96-6DD481CC6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hyperlink" Target="http://image.baidu.com/i?ct=503316480&amp;z=0&amp;tn=baiduimagedetail&amp;word=&#1057;%B1&#1723;%A2%BD%E8&#946;%B0%CD&amp;in=15817&amp;cl=2&amp;cm=1&amp;sc=0&amp;lm=-1&amp;pn=28&amp;rn=1&amp;di=1713805616&amp;ln=134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hyperlink" Target="http://image.baidu.com/i?ct=503316480&amp;z=0&amp;tn=baiduimagedetail&amp;word=&#1057;%B1&#1723;%A2%BD%E8&#946;%B0%CD&amp;in=24373&amp;cl=2&amp;cm=1&amp;sc=0&amp;lm=-1&amp;pn=21&amp;rn=1&amp;di=563967124&amp;ln=134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hyperlink" Target="http://image.baidu.com/i?ct=503316480&amp;z=0&amp;tn=baiduimagedetail&amp;word=&#1057;%B1&#1723;%A2%BD%E8&#946;%B0%CD&amp;in=14623&amp;cl=2&amp;cm=1&amp;sc=0&amp;lm=-1&amp;pn=22&amp;rn=1&amp;di=576565484&amp;ln=134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hyperlink" Target="http://image.baidu.com/i?ct=503316480&amp;z=0&amp;tn=baiduimagedetail&amp;word=&#1057;%B1&#1723;%A2%BD%E8&#946;%B0%CD&amp;in=28896&amp;cl=2&amp;cm=1&amp;sc=0&amp;lm=-1&amp;pn=23&amp;rn=1&amp;di=616121164&amp;ln=134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20050515181410952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7200" y="119700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小壁虎借尾巴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2020320" y="2852640"/>
            <a:ext cx="34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没有尾巴多难看哪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900000" y="2708280"/>
            <a:ext cx="63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想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向谁借一条尾巴呢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-324000" y="4005360"/>
            <a:ext cx="78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一条蛇咬住他的尾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u=3270284464,1802401993&amp;gp=1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95640" y="1413000"/>
            <a:ext cx="3671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684360" y="3357720"/>
            <a:ext cx="63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说：“小鱼姐姐，您把尾巴借给我行吗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u=2382259374,1206907181&amp;gp=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1052640"/>
            <a:ext cx="3672000" cy="223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826920" y="3141720"/>
            <a:ext cx="66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说：“牛伯伯，您把尾巴借给我行吗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u=3834007873,811045128&amp;gp=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981000"/>
            <a:ext cx="360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壁虎说：“小鱼姐姐，您把尾巴借给我行吗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826920" y="3500280"/>
            <a:ext cx="633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说：“燕子阿姨，您把尾巴借给我行吗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u=2137459074,3633669839&amp;gp=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1125360"/>
            <a:ext cx="4176720" cy="25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900000" y="2708280"/>
            <a:ext cx="63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借不到尾巴心里很难过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900000" y="2708280"/>
            <a:ext cx="63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高兴的叫起来我长出一条新尾巴啦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900000" y="2708280"/>
            <a:ext cx="63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把借尾巴的事告诉了妈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cc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0207ani_d100_1"/>
          <p:cNvPicPr/>
          <p:nvPr/>
        </p:nvPicPr>
        <p:blipFill>
          <a:blip r:embed="rId2"/>
          <a:stretch/>
        </p:blipFill>
        <p:spPr>
          <a:xfrm>
            <a:off x="1476360" y="1484280"/>
            <a:ext cx="4033800" cy="3500640"/>
          </a:xfrm>
          <a:prstGeom prst="rect">
            <a:avLst/>
          </a:prstGeom>
          <a:ln w="0">
            <a:noFill/>
          </a:ln>
        </p:spPr>
      </p:pic>
      <p:pic>
        <p:nvPicPr>
          <p:cNvPr id="52" name="小壁虎课文.mp3" descr=""/>
          <p:cNvPicPr/>
          <p:nvPr/>
        </p:nvPicPr>
        <p:blipFill>
          <a:blip r:embed="rId3"/>
          <a:stretch/>
        </p:blipFill>
        <p:spPr>
          <a:xfrm>
            <a:off x="8028000" y="5157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6021360" y="2349360"/>
            <a:ext cx="63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80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00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A0B-2D6F-4B04-8D79-5002EA8DC4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468360" y="1411920"/>
            <a:ext cx="698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xiǎo bì hǔ   jiè wěi b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小   壁 虎    借 尾 巴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én zi       yì tiáo shé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蚊  子      一  条   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b4"/>
          <p:cNvPicPr/>
          <p:nvPr/>
        </p:nvPicPr>
        <p:blipFill>
          <a:blip r:embed="rId2"/>
          <a:stretch/>
        </p:blipFill>
        <p:spPr>
          <a:xfrm>
            <a:off x="7740720" y="5084640"/>
            <a:ext cx="571320" cy="4287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539640" y="1051560"/>
            <a:ext cx="7632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áo zǒu     nán kà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逃  走        难  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Jiě jiě    xīn  wěi  b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姐  姐     新    尾   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3" descr="yt"/>
          <p:cNvPicPr/>
          <p:nvPr/>
        </p:nvPicPr>
        <p:blipFill>
          <a:blip r:embed="rId3"/>
          <a:stretch/>
        </p:blipFill>
        <p:spPr>
          <a:xfrm>
            <a:off x="8388360" y="5157720"/>
            <a:ext cx="344520" cy="328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280" y="5950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cc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1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Rectangle 5"/>
          <p:cNvSpPr/>
          <p:nvPr/>
        </p:nvSpPr>
        <p:spPr>
          <a:xfrm>
            <a:off x="2012760" y="981000"/>
            <a:ext cx="391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小壁虎    借尾巴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216520" y="2133720"/>
            <a:ext cx="370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蚊子       一条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908720" y="3068640"/>
            <a:ext cx="379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逃走         难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2068920" y="4076640"/>
            <a:ext cx="38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姐姐       新尾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Rectangle 4"/>
          <p:cNvSpPr/>
          <p:nvPr/>
        </p:nvSpPr>
        <p:spPr>
          <a:xfrm>
            <a:off x="1694880" y="1700280"/>
            <a:ext cx="274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壁   虎  借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403880" y="16794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蚊  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630800" y="2832120"/>
            <a:ext cx="149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逃  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419640" y="283356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姐  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09480" y="4114800"/>
            <a:ext cx="765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9" descr="2004312195345909"/>
          <p:cNvPicPr/>
          <p:nvPr/>
        </p:nvPicPr>
        <p:blipFill>
          <a:blip r:embed="rId1"/>
          <a:stretch/>
        </p:blipFill>
        <p:spPr>
          <a:xfrm>
            <a:off x="7391520" y="5943600"/>
            <a:ext cx="121896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12xz02_004"/>
          <p:cNvPicPr/>
          <p:nvPr/>
        </p:nvPicPr>
        <p:blipFill>
          <a:blip r:embed="rId2"/>
          <a:stretch/>
        </p:blipFill>
        <p:spPr>
          <a:xfrm>
            <a:off x="0" y="907920"/>
            <a:ext cx="2556000" cy="2260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12xz02_005"/>
          <p:cNvPicPr/>
          <p:nvPr/>
        </p:nvPicPr>
        <p:blipFill>
          <a:blip r:embed="rId3"/>
          <a:stretch/>
        </p:blipFill>
        <p:spPr>
          <a:xfrm>
            <a:off x="4716360" y="1268280"/>
            <a:ext cx="2016360" cy="180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xs03gif106"/>
          <p:cNvPicPr/>
          <p:nvPr/>
        </p:nvPicPr>
        <p:blipFill>
          <a:blip r:embed="rId4"/>
          <a:stretch/>
        </p:blipFill>
        <p:spPr>
          <a:xfrm>
            <a:off x="2484360" y="436572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1" descr="12xz02_002"/>
          <p:cNvPicPr/>
          <p:nvPr/>
        </p:nvPicPr>
        <p:blipFill>
          <a:blip r:embed="rId5"/>
          <a:stretch/>
        </p:blipFill>
        <p:spPr>
          <a:xfrm>
            <a:off x="6804000" y="1197000"/>
            <a:ext cx="1871640" cy="18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4" descr="12xz02_008"/>
          <p:cNvPicPr/>
          <p:nvPr/>
        </p:nvPicPr>
        <p:blipFill>
          <a:blip r:embed="rId6"/>
          <a:stretch/>
        </p:blipFill>
        <p:spPr>
          <a:xfrm>
            <a:off x="2411280" y="1197000"/>
            <a:ext cx="2089440" cy="1898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5" descr="gifxs012"/>
          <p:cNvPicPr/>
          <p:nvPr/>
        </p:nvPicPr>
        <p:blipFill>
          <a:blip r:embed="rId7"/>
          <a:stretch/>
        </p:blipFill>
        <p:spPr>
          <a:xfrm>
            <a:off x="6084720" y="4437000"/>
            <a:ext cx="1144800" cy="114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6" descr="xs03gif092"/>
          <p:cNvPicPr/>
          <p:nvPr/>
        </p:nvPicPr>
        <p:blipFill>
          <a:blip r:embed="rId8"/>
          <a:stretch/>
        </p:blipFill>
        <p:spPr>
          <a:xfrm>
            <a:off x="7524720" y="4508640"/>
            <a:ext cx="1332000" cy="114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7" descr="xs03gif399"/>
          <p:cNvPicPr/>
          <p:nvPr/>
        </p:nvPicPr>
        <p:blipFill>
          <a:blip r:embed="rId9"/>
          <a:stretch/>
        </p:blipFill>
        <p:spPr>
          <a:xfrm>
            <a:off x="395280" y="4149720"/>
            <a:ext cx="1584360" cy="1657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8" descr="xs03gif089"/>
          <p:cNvPicPr/>
          <p:nvPr/>
        </p:nvPicPr>
        <p:blipFill>
          <a:blip r:embed="rId10"/>
          <a:stretch/>
        </p:blipFill>
        <p:spPr>
          <a:xfrm>
            <a:off x="4356000" y="4365720"/>
            <a:ext cx="165744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9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2"/>
          <p:cNvSpPr/>
          <p:nvPr/>
        </p:nvSpPr>
        <p:spPr>
          <a:xfrm>
            <a:off x="3727800" y="2708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在墙角捉蚊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3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07:45:21Z</dcterms:created>
  <dc:creator/>
  <dc:description/>
  <cp:keywords>幻灯片之家 http:/www.eeppt.com</cp:keywords>
  <dc:language>en-US</dc:language>
  <cp:lastModifiedBy/>
  <dcterms:modified xsi:type="dcterms:W3CDTF">2015-07-03T13:54:2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