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CFB-FE29-480C-88B7-980C2003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B3F-2232-4017-A457-37353B8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746-EB2E-4441-9BB4-BED3533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1DD-D7CA-4586-8FE4-83630BE9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A4A3-8609-4890-AB5C-2F535E2F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C765-0CCB-4036-B01D-737F0EEE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F18D-0E6B-42A1-8CAA-4414374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344A-5D1C-46E6-92A6-1519CCA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042-9190-48D0-8351-35440C9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788-1604-4B60-9998-487D9B7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503E-AFD0-4233-AFBE-F6F49966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2ED-5759-4403-B7F1-90C26348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B228-ED3F-40D2-A21F-81F3BB7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441-7A09-4BE5-A9FB-2F91D6B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3E9-2DBC-41F4-A771-2529B1E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9D83-E08B-49F4-BA71-26E74F91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096-B914-4E73-8D64-CD84265D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B2B-BE48-4BB6-9076-D7A6374C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E6B-57DD-4FB6-B3D4-AE263D1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14B-47D6-4957-992C-40455DB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AA9-1B68-42B4-A670-36CAEC7A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CB-F2F5-4DE2-881A-AFE1978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99A-CFB6-4C68-B815-38D6C19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7B1-649C-4636-BAB0-E71617F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7F33-29E0-414C-B531-59F1E47C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A99-63D4-4DE8-AF91-6B6AAC993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392040" y="13557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3" descr="F:\ppt\704\小学四年级上册语文第七课蟋蟀的住宅PPT课件2\1237020002_afile.jpg"/>
          <p:cNvPicPr/>
          <p:nvPr/>
        </p:nvPicPr>
        <p:blipFill>
          <a:blip r:embed="rId17"/>
          <a:srcRect l="0" t="0" r="0" b="10299"/>
          <a:stretch/>
        </p:blipFill>
        <p:spPr>
          <a:xfrm>
            <a:off x="468360" y="1197000"/>
            <a:ext cx="5992920" cy="403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9360" y="981000"/>
            <a:ext cx="31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蟋蟀的住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出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慎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隐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31" name="Oval 5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8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19564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遮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谨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11280" y="3429000"/>
            <a:ext cx="81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挖掘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随遇而安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简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4112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发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556000" y="4221000"/>
            <a:ext cx="24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简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6588000" y="33577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入乡随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慎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粗糙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柔弱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42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轻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438280" y="243828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柔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干燥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简朴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24112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湿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6012000" y="350028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奢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13BB-E2E7-409F-B2BE-C70ACA982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5"/>
          <p:cNvSpPr/>
          <p:nvPr/>
        </p:nvSpPr>
        <p:spPr>
          <a:xfrm>
            <a:off x="75564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116000" y="14130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住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04292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何建造住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4572000" y="34290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5"/>
          <p:cNvSpPr/>
          <p:nvPr/>
        </p:nvSpPr>
        <p:spPr>
          <a:xfrm>
            <a:off x="2411280" y="1197000"/>
            <a:ext cx="287640" cy="1157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7"/>
          <p:cNvSpPr/>
          <p:nvPr/>
        </p:nvSpPr>
        <p:spPr>
          <a:xfrm>
            <a:off x="2411280" y="3500280"/>
            <a:ext cx="152640" cy="11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4716360" y="112536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2988720" y="90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住宅的选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5221440" y="38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精心修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2556000" y="44370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断修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522144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全舒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2916360" y="3119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动工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1"/>
          <p:cNvSpPr/>
          <p:nvPr/>
        </p:nvSpPr>
        <p:spPr>
          <a:xfrm rot="10800000">
            <a:off x="6876720" y="475920"/>
            <a:ext cx="576360" cy="51814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2"/>
          <p:cNvSpPr/>
          <p:nvPr/>
        </p:nvSpPr>
        <p:spPr>
          <a:xfrm>
            <a:off x="3061440" y="2038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部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5"/>
          <p:cNvSpPr/>
          <p:nvPr/>
        </p:nvSpPr>
        <p:spPr>
          <a:xfrm>
            <a:off x="7889400" y="19562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伟大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3960" y="1949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蟋蟀的住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1814760" y="1587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因住宅而出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306144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部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9"/>
          <p:cNvSpPr/>
          <p:nvPr/>
        </p:nvSpPr>
        <p:spPr>
          <a:xfrm>
            <a:off x="2968920" y="37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怎样挖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8720" y="458136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PM_001"/>
          <p:cNvPicPr/>
          <p:nvPr/>
        </p:nvPicPr>
        <p:blipFill>
          <a:blip r:embed="rId2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47920" y="2940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学习结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79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4" descr="1150338976"/>
          <p:cNvPicPr/>
          <p:nvPr/>
        </p:nvPicPr>
        <p:blipFill>
          <a:blip r:embed="rId2"/>
          <a:stretch/>
        </p:blipFill>
        <p:spPr>
          <a:xfrm>
            <a:off x="611280" y="692280"/>
            <a:ext cx="835344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66100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灿  烂  竿  茫  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规  律  支  株  缝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耀  梢  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27480" y="98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u=1332837777,584211792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缓缓地  茂盛  不可计数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簇簇  颤动  应接不暇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96712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0056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35814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灿  烂  竿  茫  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规  律  支  株  缝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耀  梢  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54348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008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2000" y="63691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慎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会写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蔽  弃  毫  遇  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址  穴  掘  搜  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扒  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蔽  放弃 挖掘  随遇而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不可惜  选择  住址 洞穴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  扒土  倾斜  抛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宅  卧室  堤岸  骤雨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朴  钳子  耙扫  宽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/>
  <dc:description/>
  <cp:keywords>幻灯片之家 http:/www.eeppt.com</cp:keywords>
  <dc:language>en-US</dc:language>
  <cp:lastModifiedBy/>
  <dcterms:modified xsi:type="dcterms:W3CDTF">2015-07-18T14:10:43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