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953C-7C37-4EC5-84C3-866B12CDA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F643-0EC5-41BB-B32D-90AF81C7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B42A-0D01-40D6-AE6F-F9630459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FDE-11EA-439B-94A2-3994663D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A1FB-2608-4B08-8EA4-BCEF22FD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C0C-58BB-4EA4-A8C9-C8E4CE78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A66B-6013-4433-92F9-FDB96E3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9041-B33D-4CAC-93B0-E9EA3872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5F2-6A13-4825-8D1A-ACE6CA9B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15D-80D3-407B-A277-4BED864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FF8D-2516-4A33-A7E9-77FCCDFD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40B-A60E-4ACE-ABE6-6EB1EFB7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447-49E2-44C5-96BD-4932645BA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y0033"/>
          <p:cNvPicPr/>
          <p:nvPr/>
        </p:nvPicPr>
        <p:blipFill>
          <a:blip r:embed="rId16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928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77200" y="170172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蟋蟀的住宅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蟋蟀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5457960" y="436680"/>
            <a:ext cx="20095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认识蟋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589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684-1710-4CE8-9D27-91C17124B2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4120" y="189000"/>
            <a:ext cx="836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又名蛐蛐，昆虫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黑褐色，触角很长，后腿粗大，善于跳跃。尾部有尾须一对。雄的好斗，两翅摩擦能发声。吃植物的根、茎和种子，对农业有害。课文中提到蟋蟀会唱歌，也会弹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际上蟋蟀是不会鸣叫的，那“瞿！瞿！瞿！”的声音是依靠翅膀摩擦而发出来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蟋蟀的两片翅膀是右翅覆盖在左翅上面。细细观察它那背上的翅膀，下面有一个特别突出的翅球。如果把这翅球放在显微镜下观察，可以发现上面有锯齿状的突起，这个突起叫做“弓”。蟋蟀在发声时，就是举起背上的左右翅，用右翅上的“弓”摩擦着左翅上的细脉，便发出悦耳的鸣声，这就是蟋蟀“唱歌”、“弹琴”的秘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0240010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1476360" y="1052640"/>
            <a:ext cx="698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蟋蟀的住宅有哪些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蟋蟀是怎样修建自己的住宅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为什么说蟋蟀的住宅“可以算是伟大的工程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《蟋蟀的住宅》插图"/>
          <p:cNvPicPr/>
          <p:nvPr/>
        </p:nvPicPr>
        <p:blipFill>
          <a:blip r:embed="rId1"/>
          <a:stretch/>
        </p:blipFill>
        <p:spPr>
          <a:xfrm>
            <a:off x="0" y="-57240"/>
            <a:ext cx="914400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684360" y="0"/>
            <a:ext cx="7956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00:42:01Z</dcterms:created>
  <dc:creator/>
  <dc:description/>
  <cp:keywords>幻灯片之家 http:/www.eeppt.com</cp:keywords>
  <dc:language>en-US</dc:language>
  <cp:lastModifiedBy/>
  <dcterms:modified xsi:type="dcterms:W3CDTF">2015-07-18T14:05:5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