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F80-18E8-4B52-81C2-06389EF4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728-EADB-41C2-A2FA-F1EAB98C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01F-5145-4567-9863-4EA3B096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497-3C67-4559-ADD1-C6AC96DB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5C8-201C-49FF-8BE5-D0E32C62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BAC-3B72-49BF-9EEC-B153B5EC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4C4-A01A-4571-BF4F-C64C2E3E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548-8369-4935-8AEB-FC060171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07B-9CB7-4106-94BC-30CF1EBA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743-03B7-4018-A7CB-13AFBF1B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2D4-70BC-4A20-8C63-B89B239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89A-D6D0-494B-BDA8-E2FFB876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CB5B-F2AC-4346-BCBC-CD4E79AEB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星空"/>
          <p:cNvPicPr/>
          <p:nvPr/>
        </p:nvPicPr>
        <p:blipFill>
          <a:blip r:embed="rId2"/>
          <a:srcRect l="0" t="0" r="0" b="53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932360" y="2565360"/>
            <a:ext cx="466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6600"/>
                </a:solidFill>
                <a:latin typeface="方正启体简体"/>
                <a:ea typeface="方正启体简体"/>
              </a:rPr>
              <a:t>江   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8080" y="90972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星星变奏曲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908000" y="404640"/>
            <a:ext cx="5834160" cy="2664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春天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落满枝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像星星落满天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闪闪烁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声音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从远方飘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一团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白丁香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朦朦胧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681560" y="3141720"/>
            <a:ext cx="37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这是怎样的世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364280" y="400536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一个春天般温馨迷人，充满生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的理想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）探究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闪闪烁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是通常用来描写什么的？为什么作者却用来描写声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98400" y="1662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09480" y="2143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43120" y="2608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26960" y="2133720"/>
            <a:ext cx="796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通感是人们的各种感觉通过比喻或形容沟通起来的修辞方式。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、微风过处，送来屡屡清香，仿佛远处高楼上渺茫的歌声似的。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嗅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移植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听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、塘中的月色并不均匀，但光与影有着和谐的旋律，如梵阿玲上奏着的名曲。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视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移植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听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843120" y="22874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826920" y="1484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运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方正启体简体"/>
              </a:rPr>
              <a:t>通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启体简体"/>
              </a:rPr>
              <a:t>的修辞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里是视觉移植为听觉，以声音时断时续、隐隐约约的真切感受来突出“朦朦胧胧”的白丁香的视觉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84360" y="3573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启体简体"/>
              </a:rPr>
              <a:t>运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方正启体简体"/>
              </a:rPr>
              <a:t>通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启体简体"/>
              </a:rPr>
              <a:t>的修辞手法是诗歌创作常用的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第一节诗中描绘的意象有哪些？构成怎样的意境？表达作者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89960" y="206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方正启体简体"/>
              </a:rPr>
              <a:t>意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871640" y="364500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甜蜜、温馨、自由幸福、充满生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932840" y="5013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启体简体"/>
              </a:rPr>
              <a:t>表达了诗人对美好世界的热烈向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979640" y="2060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星星、诗、蜜蜂、萤火虫、睡莲、春天、鸟、白丁香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88160" y="3530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意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4356000" y="4365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知识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启体简体"/>
              </a:rPr>
              <a:t>这首诗采用变奏曲的结构，什么叫变奏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变奏曲是音乐术语。这首诗是借用此术语来说的，具体特征有以下两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39960" y="3349800"/>
            <a:ext cx="18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11280" y="414972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围绕一个主题与主要意象变换情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050560" y="2781360"/>
            <a:ext cx="47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诗的上下两节结构相称，基本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和用语相同或相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比较一下两节诗之间的结构、句式有和异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460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结构相同、句式相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60480" y="29257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第一节：谁还需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还会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不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              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不愿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67960" y="4365720"/>
            <a:ext cx="65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第二节：谁还需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都会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              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愿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45080" y="3573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肯定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443640" y="5013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否定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258920" y="1413000"/>
            <a:ext cx="6553080" cy="2043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如果大地的每个角落都充满了光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还需要星星，谁还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寒冷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寂寞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燃烧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寻找星星点点的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81200" y="3933720"/>
            <a:ext cx="38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同样是交代现实环境，与第一节前四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相比有何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69920" y="5202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更加具体：寒冷、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79280" y="26028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比较第二节诗中描绘的意象有什么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启体简体"/>
              </a:rPr>
              <a:t>探究：如何理解“寂寞地燃烧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个世界是寒冷的，寂寞的，你可能看不到一丝光芒，唯有燃烧自己，才能点亮心中的光明和希望，这是一种坚持，对信念的永不放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5280" y="4365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虽然身陷黑暗、孤独的世界，但作者没有放弃，而是通过牺牲奉献自己来寻找光明、希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92000" y="333360"/>
            <a:ext cx="6264360" cy="3240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愿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一年又一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总写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苦难的诗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每一首都是一群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颤抖的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冰雪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覆盖在心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783800" y="4076640"/>
            <a:ext cx="40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展示了怎样的生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49417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让诗人感到心灵颤抖和冰冷压抑的苦难的现实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050920" y="333000"/>
            <a:ext cx="5399280" cy="1800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愿意，看着夜晚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冻僵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僵硬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得像一片土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风吹落一颗又一颗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瘦小的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031120" y="249228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体会其中蕴含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035080" y="3573360"/>
            <a:ext cx="505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个冰冷的社会，它无情地摧残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人们本已十分渺茫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3" descr="图片6.jpg"/>
          <p:cNvPicPr/>
          <p:nvPr/>
        </p:nvPicPr>
        <p:blipFill>
          <a:blip r:embed="rId2"/>
          <a:stretch/>
        </p:blipFill>
        <p:spPr>
          <a:xfrm>
            <a:off x="3240" y="6480"/>
            <a:ext cx="9137520" cy="684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江河，原名于友泽，生于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，北京人，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68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高中毕业，是新时期朦胧诗的代表诗人之一。著有诗集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从这里开始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太阳和他的反光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等。他的诗作中灌注了厚重的历史感，以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纪念碑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等政治抒情诗和古代神话组诗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太阳和他的反光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赢得了社会的瞩目。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星星变奏曲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便是江河的处女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方正硬笔行书简体"/>
              </a:rPr>
              <a:t>关于作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343640" cy="2232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飘动的旗子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喜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涌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金黄的星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在天上的星星疲倦了的时候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升起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去照亮太阳照不到的地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55640" y="299736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你能读出这里象征的意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00000" y="393372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旗子，象征这自由和胜利；火、星星，是光明的象征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方正启体简体"/>
              </a:rPr>
              <a:t>表达了诗人渴望自由和光明的早日来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tsk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启体简体"/>
              </a:rPr>
              <a:t>全诗表达了诗人对黑暗冰冷的现实的否定，抒发了自己对理想的向往和追求，以及虽然迷茫失落而又不失坚定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2916360" y="189000"/>
            <a:ext cx="374472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76000"/>
                    </a:srgbClr>
                  </a:outerShdw>
                </a:effectLst>
                <a:latin typeface="方正硬笔行书简体"/>
              </a:rPr>
              <a:t>总结主旨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76000"/>
                  </a:srgbClr>
                </a:outerShdw>
              </a:effectLst>
              <a:latin typeface="方正硬笔行书简体"/>
              <a:ea typeface="方正硬笔行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00411011450977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78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启体简体"/>
              </a:rPr>
              <a:t>具有朦胧诗的语言特色：多用象征、比喻的修辞手法，具有不透明性和多义性，使得诗歌含蓄朦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3200400" y="11160"/>
            <a:ext cx="27432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方正瘦金书简体"/>
              </a:rPr>
              <a:t>语言特色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方正瘦金书简体"/>
              <a:ea typeface="方正瘦金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250920" y="189000"/>
            <a:ext cx="36576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方正硬笔行书简体"/>
              </a:rPr>
              <a:t>知识拓展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方正硬笔行书简体"/>
              <a:ea typeface="方正硬笔行书简体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036040" y="47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方正启体简体"/>
              </a:rPr>
              <a:t>看几首有代表性的朦胧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846080"/>
            <a:ext cx="511344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  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卑鄙是卑鄙者的通行证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高尚是高尚者的墓志铭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看吧 ，在那镀金的天空中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飘满了死者弯曲的倒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冰川纪过去了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为什么到处是冰凌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好望角发现了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为什么死海里千帆相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来到这个世界上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只带着纸、绳索和身影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为了在审判之前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宣读那些被判决的声音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告诉你吧，世界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信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284720" y="227664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纵使你脚下有一千名挑战者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那就把我算第一千零一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不相信天是蓝的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不相信雷的回声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不相信梦是假的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不相信死无报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如果海洋注定要决堤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让所有的苦注入我心中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如果陆地注定要上升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就让人类重新选择生存的峰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新的转机和闪闪的星斗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正在缀满没有遮拦的天空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那是五千年的象形文字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那是未来人们凝视的眼睛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（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76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128040" y="141300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北岛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49―――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原名赵振开，祖籍浙江，生于北京。朦胧诗派代表诗人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84160" y="550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7928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意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6480" y="37162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方正启体简体"/>
              </a:rPr>
              <a:t>意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24000" y="4941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表达了诗人对黑暗现实强烈否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79280" y="83664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这一节诗中描绘的意象有哪些？构成怎样的意境？表达作者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763640" y="2421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夜、冰雪、苦难的诗、颤抖的星星、僵硬的土地、    瘦小的星星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3730320" y="375300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启体简体"/>
              </a:rPr>
              <a:t>凄苦、寒冷、孤寂、压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042920" y="92520"/>
            <a:ext cx="691524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一切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北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命运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烟云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没有结局的开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稍纵即逝的追寻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欢乐都没有微笑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苦难都没有泪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语言都是重复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交往都是初逢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爱情都在心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往事都在梦中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希望都带着注释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信仰都带着呻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爆发都有片刻的宁静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死亡都有冗长的回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162880" y="333000"/>
            <a:ext cx="26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顾城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9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，出生于北京。朦胧诗派代表诗人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252800" y="920880"/>
            <a:ext cx="30247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80c0"/>
                </a:solidFill>
                <a:latin typeface="宋体"/>
              </a:rPr>
              <a:t>　　        </a:t>
            </a:r>
            <a:r>
              <a:rPr b="1" lang="zh-CN" sz="3600" spc="-1" strike="noStrike">
                <a:solidFill>
                  <a:srgbClr val="ff0000"/>
                </a:solidFill>
                <a:latin typeface="方正瘦金书简体"/>
                <a:ea typeface="方正瘦金书简体"/>
              </a:rPr>
              <a:t>一代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c0"/>
                </a:solidFill>
                <a:latin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黑夜给了我黑色的眼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我却用它寻找光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c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80c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826920" y="3429000"/>
            <a:ext cx="4572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c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远和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c0"/>
                </a:solidFill>
                <a:latin typeface="Arial"/>
              </a:rPr>
              <a:t>　　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一会看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一会看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我觉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你看我时很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你看云时很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D8B-8520-46D2-8FD8-48FEAC3F68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395280" y="13662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舒婷，原名龚佩瑜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年出生于福建石码镇。主要著作有诗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双桅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会唱歌的鸢尾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始祖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，散文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心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92720" y="-720"/>
            <a:ext cx="147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致橡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284720" y="692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如果爱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绝不像攀援的凌霄花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借你的高枝炫耀自己；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如果爱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绝不学痴情的鸟儿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为绿荫重复单调的歌曲；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不止像泉源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常年送来清凉的慰籍；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不止像险峰，增加你的高度，衬托你的威仪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甚至日光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甚至春雨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不，这些都还不够！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必须是你近旁的一株木棉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做为树的形象和你站在一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根，紧握在地下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叶，相触在云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835280" y="260280"/>
            <a:ext cx="504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每一阵风过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都互相致意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但没有人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听懂我们的言语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你有你的铜枝铁干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像刀，像剑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像戟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有我的红硕花朵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像沉重的叹息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又像英勇的火炬，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分担寒潮、风雷、霹雳；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共享雾霭流岚、虹霓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仿佛永远分离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却又终身相依，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这才是伟大的爱情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坚贞就在这里：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不仅爱你伟岸的身躯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爱你坚持的位置，脚下的土地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06640" y="6405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图片3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方正硬笔行书简体"/>
              </a:rPr>
              <a:t>关于朦胧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朦胧诗产生于七十年代末、八十年代初的诗歌流派，因其在艺术形式上多用总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的手法，具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不透明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多义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，所以被称作“朦胧诗”。内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含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，它往往借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等手法，创造一种朦胧的意境，从而引发人们的好奇心和想象力，使人获得特殊的审美享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代表诗人有舒婷、北岛、顾城、江河等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3" descr="图片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硬笔行书简体"/>
              </a:rPr>
              <a:t>听读课文，赏析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硬笔行书简体"/>
              </a:rPr>
              <a:t>赏析角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方正启体简体"/>
              </a:rPr>
              <a:t>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启体简体"/>
              </a:rPr>
              <a:t>意象、情感、写法、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154xxbzq.mp3" descr=""/>
          <p:cNvPicPr/>
          <p:nvPr/>
        </p:nvPicPr>
        <p:blipFill>
          <a:blip r:embed="rId3"/>
          <a:stretch/>
        </p:blipFill>
        <p:spPr>
          <a:xfrm>
            <a:off x="752472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5611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837160" y="260280"/>
            <a:ext cx="4082400" cy="2043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如果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大地的每个角落都充满了光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谁还需要星星，谁还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在夜里凝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寻找遥远的安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00" y="2492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如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是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关系的关联词，可见诗歌开头给我们交代了一个怎样的现实环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815920" y="4365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黑暗笼罩着大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34080" y="2492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假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硬笔行书简体"/>
              </a:rPr>
              <a:t>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本诗写于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80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，也是诗人首次发表的诗作。诗人经历了恶梦一样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十年，目睹了专制的残酷和人情亲情的被毁灭，回想暗夜如磐的年代，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诗人倾诉着自己质朴的愿望，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时代的黑暗进行了揭露和反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诗人借助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寻找黑暗中遥远的安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55640" y="3860640"/>
            <a:ext cx="1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329720" y="3141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星星象征黑暗中的光明和微弱的希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095200" y="2060640"/>
            <a:ext cx="4844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可见，“星星”在这里有何深刻含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443700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诗人渴望的生活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24540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星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484000" y="333360"/>
            <a:ext cx="5256360" cy="2952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谁不愿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每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都是一首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诗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每一个字都是一颗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星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像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蜜蜂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在心头颤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4581360"/>
            <a:ext cx="856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美好的生活就像诗一样，它是明亮的，甜蜜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539000" y="3429000"/>
            <a:ext cx="37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这是怎样的生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76000" y="333360"/>
            <a:ext cx="6769080" cy="2232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谁不愿意，有一个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柔软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的晚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柔软得像一片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湖</a:t>
            </a:r>
            <a:r>
              <a:rPr b="1" lang="en-US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萤火虫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星星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睡莲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丛中游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4120" y="3060720"/>
            <a:ext cx="311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81560" y="3141720"/>
            <a:ext cx="37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这是怎样的世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95280" y="414972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一个如夏夜般柔美的理想世界，它安宁、平静、温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01:51:38Z</dcterms:created>
  <dc:creator/>
  <dc:description/>
  <cp:keywords>幻灯片之家 http:/www.eeppt.com</cp:keywords>
  <dc:language>en-US</dc:language>
  <cp:lastModifiedBy/>
  <dcterms:modified xsi:type="dcterms:W3CDTF">2015-07-18T14:46:37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