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001-8177-4FF7-833B-B6854D01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C15-98E4-4E70-8EF6-857FF654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ED3-2C18-4898-98B8-02495311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3BD-0075-4DEF-AB74-ABC9AC40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9E5CE-6F58-428E-BBDB-5014632F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62FC3-E155-4BB7-ADC0-92F3D322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4652D-2594-4AB5-A450-FE6913D7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92A57-03AA-4E23-AD99-A5BD96AF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E8D67-CDF6-4FB4-ACEB-3532BFB5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168DA-E91D-4984-8E62-9F5E6E3D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73A84-6A03-4A40-86D2-D84077F9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489-0CF2-498A-BAFF-C6D53743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95696-C7B3-44E9-A83C-F17E11A5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2BD4B-2627-42E6-A24F-2AE53711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8A81B-1FD3-4CF7-937E-A16D6661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149DC-2E57-4814-8876-55A1FC6C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35E3F-E795-4AF2-9ADB-9346347F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C05-20D0-4E67-ACC7-84CB24C9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79A-2A7B-422E-B9B7-95F5561D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9D7-4071-4F9E-A7DC-CBED8428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5DC-F856-40C0-89B4-980D44AB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2BB-ADB3-4887-A4D3-B167BB9E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CD0-0DA8-4B03-892E-E3AEFC7C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A84-A124-42C0-A6F8-495D70F6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9E46-F32F-486A-AC88-1D7800FD1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00FD-CCC9-44CB-B6A0-7212D706C0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78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西师版小学语文二年级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册第十五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8" descr="mo"/>
          <p:cNvPicPr/>
          <p:nvPr/>
        </p:nvPicPr>
        <p:blipFill>
          <a:blip r:embed="rId2"/>
          <a:stretch/>
        </p:blipFill>
        <p:spPr>
          <a:xfrm>
            <a:off x="539640" y="1916280"/>
            <a:ext cx="2976840" cy="3384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5056560" y="2205000"/>
            <a:ext cx="16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《小音乐家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课件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-4957560"/>
            <a:ext cx="93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907560"/>
            <a:ext cx="17269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2e81"/>
                </a:solidFill>
                <a:latin typeface="Tahoma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e62e81"/>
                </a:solidFill>
                <a:latin typeface="Tahoma"/>
                <a:ea typeface="楷体_GB2312"/>
              </a:rPr>
              <a:t>客厅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987640" y="90792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62e81"/>
                </a:solidFill>
                <a:latin typeface="Arial"/>
                <a:ea typeface="楷体_GB2312"/>
              </a:rPr>
              <a:t>钢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琴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659640" y="7650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打</a:t>
            </a:r>
            <a:r>
              <a:rPr b="1" lang="zh-CN" sz="4800" spc="-1" strike="noStrike">
                <a:solidFill>
                  <a:srgbClr val="e62e81"/>
                </a:solidFill>
                <a:latin typeface="Arial"/>
                <a:ea typeface="楷体_GB2312"/>
              </a:rPr>
              <a:t>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11280" y="278136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62e81"/>
                </a:solidFill>
                <a:latin typeface="Arial"/>
                <a:ea typeface="楷体_GB2312"/>
              </a:rPr>
              <a:t>歪歪斜斜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732720" y="278136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62e81"/>
                </a:solidFill>
                <a:latin typeface="Arial"/>
                <a:ea typeface="楷体_GB2312"/>
              </a:rPr>
              <a:t>虽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然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71640" y="4653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62e81"/>
                </a:solidFill>
                <a:latin typeface="Arial"/>
                <a:ea typeface="楷体_GB2312"/>
              </a:rPr>
              <a:t>简单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211640" y="450864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兴</a:t>
            </a:r>
            <a:r>
              <a:rPr b="1" lang="zh-CN" sz="4800" spc="-1" strike="noStrike">
                <a:solidFill>
                  <a:srgbClr val="e62e81"/>
                </a:solidFill>
                <a:latin typeface="Arial"/>
                <a:ea typeface="楷体_GB2312"/>
              </a:rPr>
              <a:t>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877080" y="4508640"/>
            <a:ext cx="179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62e81"/>
                </a:solidFill>
                <a:latin typeface="Arial"/>
                <a:ea typeface="楷体_GB2312"/>
              </a:rPr>
              <a:t>需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211640" y="270828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机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003640" y="83664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62e81"/>
                </a:solidFill>
                <a:latin typeface="Tahoma"/>
                <a:ea typeface="楷体_GB2312"/>
              </a:rPr>
              <a:t>呀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828720" y="5589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CFE-D6DC-4A4A-860B-1D74637C49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8"/>
          <p:cNvSpPr/>
          <p:nvPr/>
        </p:nvSpPr>
        <p:spPr>
          <a:xfrm>
            <a:off x="874800" y="1628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语文课件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数学课件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英语课件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人教版一年级语文上册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www.1ppt.com/kejian/yuwen/138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人教版二年级语文上册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www.1ppt.com/kejian/yuwen/160/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人教版三年级语文上册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www.1ppt.com/kejian/yuwen/161/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人教版四年级语文上册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www.1ppt.com/kejian/yuwen/162/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人教版五年级语文上册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www.1ppt.com/kejian/yuwen/163/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人教版六年级语文上册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www.1ppt.com/kejian/yuwen/164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人教版七年级语文上册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www.1ppt.com/kejian/yuwen/165/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人教版八年级语文上册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www.1ppt.com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/kejian/yuwen/166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/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人教版九年级语文上册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www.1ppt.com/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kejian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/yuwen/167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" descr="38"/>
          <p:cNvPicPr/>
          <p:nvPr/>
        </p:nvPicPr>
        <p:blipFill>
          <a:blip r:embed="rId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13"/>
          <p:cNvPicPr/>
          <p:nvPr/>
        </p:nvPicPr>
        <p:blipFill>
          <a:blip r:embed="rId21"/>
          <a:stretch/>
        </p:blipFill>
        <p:spPr>
          <a:xfrm>
            <a:off x="0" y="0"/>
            <a:ext cx="9360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火字上面一长横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971640" y="350028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军伸出手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军人跟他走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4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莫扎特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刚才弹的是什么曲子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呀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042920" y="328464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曲子虽然写得很简单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但它确实是小莫扎特自己作的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_GB2312"/>
              </a:rPr>
              <a:t>呀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 flipV="1">
            <a:off x="1692360" y="509184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1588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哦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!”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老师惊奇地走近钢琴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e62e81"/>
                </a:solidFill>
                <a:latin typeface="Tahoma"/>
                <a:ea typeface="楷体_GB2312"/>
              </a:rPr>
              <a:t>打量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着乐谱上</a:t>
            </a:r>
            <a:r>
              <a:rPr b="1" lang="zh-CN" sz="4400" spc="-1" strike="noStrike">
                <a:solidFill>
                  <a:srgbClr val="e62e81"/>
                </a:solidFill>
                <a:latin typeface="Tahoma"/>
                <a:ea typeface="楷体_GB2312"/>
              </a:rPr>
              <a:t>歪歪斜斜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的音符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47640" y="378936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9" descr="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莫扎特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你这里错了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!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瞧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现在两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只手正弹钢琴的两头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你这里有一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音符却</a:t>
            </a:r>
            <a:r>
              <a:rPr b="1" lang="zh-CN" sz="4000" spc="-1" strike="noStrike">
                <a:solidFill>
                  <a:srgbClr val="e62e81"/>
                </a:solidFill>
                <a:latin typeface="Tahoma"/>
                <a:ea typeface="楷体_GB2312"/>
              </a:rPr>
              <a:t>需要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在钢琴的中间同时弹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来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没有第三只手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怎么办呢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195640" y="522936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80600" y="3645000"/>
            <a:ext cx="454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917680" y="3716280"/>
            <a:ext cx="454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5640" y="291960"/>
            <a:ext cx="56242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62e81"/>
                </a:solidFill>
                <a:latin typeface="楷体_GB2312"/>
                <a:ea typeface="楷体_GB2312"/>
              </a:rPr>
              <a:t>余</a:t>
            </a:r>
            <a:r>
              <a:rPr b="1" lang="en-US" sz="6600" spc="-1" strike="noStrike">
                <a:solidFill>
                  <a:srgbClr val="e62e81"/>
                </a:solidFill>
                <a:latin typeface="楷体_GB2312"/>
                <a:ea typeface="楷体_GB2312"/>
              </a:rPr>
              <a:t>-----</a:t>
            </a:r>
            <a:r>
              <a:rPr b="1" lang="zh-CN" sz="6600" spc="-1" strike="noStrike">
                <a:solidFill>
                  <a:srgbClr val="e62e81"/>
                </a:solidFill>
                <a:latin typeface="楷体_GB2312"/>
                <a:ea typeface="楷体_GB2312"/>
              </a:rPr>
              <a:t>斜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60320" y="2481120"/>
            <a:ext cx="6126120" cy="35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62e81"/>
                </a:solidFill>
                <a:latin typeface="Tahoma"/>
                <a:ea typeface="楷体_GB2312"/>
              </a:rPr>
              <a:t>竹</a:t>
            </a:r>
            <a:r>
              <a:rPr b="1" lang="en-US" sz="6600" spc="-1" strike="noStrike">
                <a:solidFill>
                  <a:srgbClr val="e62e81"/>
                </a:solidFill>
                <a:latin typeface="Tahoma"/>
                <a:ea typeface="楷体_GB2312"/>
              </a:rPr>
              <a:t>------</a:t>
            </a:r>
            <a:r>
              <a:rPr b="1" lang="zh-CN" sz="6600" spc="-1" strike="noStrike">
                <a:solidFill>
                  <a:srgbClr val="e62e81"/>
                </a:solidFill>
                <a:latin typeface="Tahoma"/>
                <a:ea typeface="楷体_GB2312"/>
              </a:rPr>
              <a:t>简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62e81"/>
                </a:solidFill>
                <a:latin typeface="Tahoma"/>
                <a:ea typeface="楷体_GB2312"/>
              </a:rPr>
              <a:t>雨</a:t>
            </a:r>
            <a:r>
              <a:rPr b="1" lang="en-US" sz="6600" spc="-1" strike="noStrike">
                <a:solidFill>
                  <a:srgbClr val="e62e81"/>
                </a:solidFill>
                <a:latin typeface="Tahoma"/>
                <a:ea typeface="楷体_GB2312"/>
              </a:rPr>
              <a:t>------</a:t>
            </a:r>
            <a:r>
              <a:rPr b="1" lang="zh-CN" sz="6600" spc="-1" strike="noStrike">
                <a:solidFill>
                  <a:srgbClr val="e62e81"/>
                </a:solidFill>
                <a:latin typeface="Tahoma"/>
                <a:ea typeface="楷体_GB2312"/>
              </a:rPr>
              <a:t>需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255760" y="6118200"/>
            <a:ext cx="5989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cc00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4:02:16Z</dcterms:created>
  <dc:creator/>
  <dc:description/>
  <cp:keywords>幻灯片之家 http:/www.eeppt.com</cp:keywords>
  <dc:language>en-US</dc:language>
  <cp:lastModifiedBy/>
  <dcterms:modified xsi:type="dcterms:W3CDTF">2015-07-03T12:07:56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