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CC7-B2D1-4A9E-8F5E-F16E8D62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A24-BEF3-43C3-B94D-FD01B845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52D-B4B9-4A8C-8822-C5E9C86B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4B1-7606-495A-BE6C-EB62A4F3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EEF-32EB-4D6C-9015-F75149B3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056-EFBF-48FD-9418-9D29000D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646-C613-40A2-BECA-F4CE2341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84D-DF77-4B5D-A572-A2BAFBED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5AE-8BF4-454F-96FB-51A2C3A7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B986-2FC1-4A99-9C16-DB16113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907-95AC-473E-9C21-90B1274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0C3-E299-4AF3-835D-E3E9CB3A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D376-EC99-4102-ADDF-27E34AA57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6080" y="1054080"/>
            <a:ext cx="4277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圆的认识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下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1219320" y="1447920"/>
            <a:ext cx="3047760" cy="3047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362320" y="24224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43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V="1">
            <a:off x="27432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5181480" y="1523880"/>
            <a:ext cx="3048120" cy="304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24480" y="249876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705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 flipV="1">
            <a:off x="32004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50532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 flipV="1">
            <a:off x="396252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 flipV="1">
            <a:off x="43434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49528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54100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58672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63244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057400" y="5334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等圆的半径也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09480" y="304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95280" y="1066680"/>
            <a:ext cx="5639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两端都在圆上的线段叫圆的直径。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半径是连接圆心与圆上的直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等圆的半径都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圆的半径是直径的二分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95280" y="4038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6002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0020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523880" y="54864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23880" y="4876920"/>
            <a:ext cx="70106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43828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80060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01992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5909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8098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029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63244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731520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76960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723888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7238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72388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238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7620120" y="251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7696080" y="1538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76960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7696080" y="3200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2590920" y="5562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38098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50292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3244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769608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5B2-E354-4B43-A779-6550661CFF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47920" y="91440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用硬纸版做汽车模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轮胎规格为半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帮他设计一只轮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6546600" cy="1706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805360"/>
            <a:ext cx="61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Object 2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5762880" cy="2422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04812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半径</a:t>
            </a:r>
            <a:r>
              <a:rPr b="0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47242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能知道什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还想知道什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4427640" y="566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2933640" y="2014560"/>
          <a:ext cx="407664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3640" y="2014560"/>
                    <a:ext cx="40766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3"/>
          <p:cNvGraphicFramePr/>
          <p:nvPr/>
        </p:nvGraphicFramePr>
        <p:xfrm>
          <a:off x="2076480" y="2590920"/>
          <a:ext cx="752400" cy="17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3" descr="纸袋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6480" y="2590920"/>
                    <a:ext cx="75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4"/>
          <p:cNvSpPr/>
          <p:nvPr/>
        </p:nvSpPr>
        <p:spPr>
          <a:xfrm>
            <a:off x="1523880" y="5486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鱼是由哪些图形组成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33640" y="2014560"/>
          <a:ext cx="407664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3640" y="2014560"/>
                    <a:ext cx="40766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2133720" y="533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图形有哪些相同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38280" y="9144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由线段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076480" y="2590920"/>
          <a:ext cx="752400" cy="17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590920"/>
                    <a:ext cx="75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5"/>
          <p:cNvSpPr/>
          <p:nvPr/>
        </p:nvSpPr>
        <p:spPr>
          <a:xfrm>
            <a:off x="19810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由曲线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6"/>
          <p:cNvGraphicFramePr/>
          <p:nvPr/>
        </p:nvGraphicFramePr>
        <p:xfrm>
          <a:off x="1143000" y="380880"/>
          <a:ext cx="263052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80880"/>
                    <a:ext cx="2630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"/>
          <p:cNvGraphicFramePr/>
          <p:nvPr/>
        </p:nvGraphicFramePr>
        <p:xfrm>
          <a:off x="5103720" y="380880"/>
          <a:ext cx="2668680" cy="24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3720" y="380880"/>
                    <a:ext cx="266868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838080" y="3124080"/>
          <a:ext cx="3581640" cy="312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3124080"/>
                    <a:ext cx="35816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9"/>
          <p:cNvGraphicFramePr/>
          <p:nvPr/>
        </p:nvGraphicFramePr>
        <p:xfrm>
          <a:off x="5105520" y="3276720"/>
          <a:ext cx="3124080" cy="26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3276720"/>
                    <a:ext cx="3124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10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457200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7339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6483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24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33"/>
          <p:cNvSpPr/>
          <p:nvPr/>
        </p:nvSpPr>
        <p:spPr>
          <a:xfrm flipV="1">
            <a:off x="2940120" y="2145240"/>
            <a:ext cx="3187440" cy="272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419640" y="1717560"/>
            <a:ext cx="2306160" cy="3499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9"/>
          <p:cNvSpPr/>
          <p:nvPr/>
        </p:nvSpPr>
        <p:spPr>
          <a:xfrm flipH="1">
            <a:off x="3171600" y="1908720"/>
            <a:ext cx="2802240" cy="3116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2841840" y="2193480"/>
            <a:ext cx="3384000" cy="2472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4549320" y="1371600"/>
            <a:ext cx="46800" cy="4191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9"/>
          <p:cNvSpPr/>
          <p:nvPr/>
        </p:nvSpPr>
        <p:spPr>
          <a:xfrm>
            <a:off x="3899520" y="1482840"/>
            <a:ext cx="1346400" cy="3968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3284280" y="1814400"/>
            <a:ext cx="2576880" cy="3305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 flipV="1">
            <a:off x="2476080" y="3108960"/>
            <a:ext cx="4115520" cy="7941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2586240" y="2732760"/>
            <a:ext cx="3895200" cy="1546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 flipH="1">
            <a:off x="4008600" y="1449000"/>
            <a:ext cx="1128240" cy="4036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3099960" y="1976400"/>
            <a:ext cx="2945520" cy="2981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217760" y="1401840"/>
            <a:ext cx="709920" cy="4130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2715840" y="2463840"/>
            <a:ext cx="3636000" cy="2084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3739320" y="1544400"/>
            <a:ext cx="1666800" cy="3845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2472120" y="3130560"/>
            <a:ext cx="4123440" cy="750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2650320" y="2536560"/>
            <a:ext cx="3767040" cy="1837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623040" y="1599120"/>
            <a:ext cx="1899360" cy="3736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314600" y="1371600"/>
            <a:ext cx="513360" cy="4159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2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80988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4832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5105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59436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45"/>
          <p:cNvSpPr/>
          <p:nvPr/>
        </p:nvSpPr>
        <p:spPr>
          <a:xfrm flipH="1">
            <a:off x="4124520" y="3516480"/>
            <a:ext cx="437400" cy="2033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3"/>
          <p:cNvSpPr/>
          <p:nvPr/>
        </p:nvSpPr>
        <p:spPr>
          <a:xfrm flipH="1">
            <a:off x="3275280" y="3530520"/>
            <a:ext cx="1297080" cy="1625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2"/>
          <p:cNvSpPr/>
          <p:nvPr/>
        </p:nvSpPr>
        <p:spPr>
          <a:xfrm flipH="1">
            <a:off x="4613400" y="1492920"/>
            <a:ext cx="678960" cy="1965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4559040" y="3497040"/>
            <a:ext cx="178200" cy="2072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9"/>
          <p:cNvSpPr/>
          <p:nvPr/>
        </p:nvSpPr>
        <p:spPr>
          <a:xfrm>
            <a:off x="3540600" y="1639080"/>
            <a:ext cx="996120" cy="1825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591080" y="3436200"/>
            <a:ext cx="1638360" cy="1280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4541400" y="3449880"/>
            <a:ext cx="518400" cy="2014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6"/>
          <p:cNvSpPr/>
          <p:nvPr/>
        </p:nvSpPr>
        <p:spPr>
          <a:xfrm flipH="1" flipV="1">
            <a:off x="4006800" y="1393200"/>
            <a:ext cx="520200" cy="2013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4515840" y="3479400"/>
            <a:ext cx="2017080" cy="507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>
            <a:off x="2451600" y="3052440"/>
            <a:ext cx="2031120" cy="447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3"/>
          <p:cNvSpPr/>
          <p:nvPr/>
        </p:nvSpPr>
        <p:spPr>
          <a:xfrm flipH="1">
            <a:off x="4603680" y="1360800"/>
            <a:ext cx="88920" cy="2077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4547880" y="3499200"/>
            <a:ext cx="810360" cy="1915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 flipV="1">
            <a:off x="4613040" y="2275920"/>
            <a:ext cx="1670760" cy="1238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2858760" y="3497400"/>
            <a:ext cx="1673640" cy="1234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2438280" y="3505320"/>
            <a:ext cx="2057400" cy="304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4542840" y="3473280"/>
            <a:ext cx="1430280" cy="1510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 flipV="1">
            <a:off x="3668040" y="3518280"/>
            <a:ext cx="893520" cy="1878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7"/>
          <p:cNvSpPr/>
          <p:nvPr/>
        </p:nvSpPr>
        <p:spPr>
          <a:xfrm flipV="1">
            <a:off x="4579560" y="1847160"/>
            <a:ext cx="1280160" cy="1639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 flipV="1">
            <a:off x="4572000" y="3200040"/>
            <a:ext cx="2057400" cy="304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724280" y="3352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6553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3089160" y="1955520"/>
            <a:ext cx="1441800" cy="14990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 rot="21076200">
            <a:off x="5257440" y="3276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半径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733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1"/>
          <p:cNvSpPr/>
          <p:nvPr/>
        </p:nvSpPr>
        <p:spPr>
          <a:xfrm flipV="1">
            <a:off x="2554560" y="3563280"/>
            <a:ext cx="1977120" cy="645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H="1" flipV="1">
            <a:off x="2604600" y="2599200"/>
            <a:ext cx="1876680" cy="897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3124080" y="1981080"/>
            <a:ext cx="289584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962520" y="2133720"/>
            <a:ext cx="152388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124080" y="3657600"/>
            <a:ext cx="1447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4572000" y="3123720"/>
            <a:ext cx="9144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4800240" y="2362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895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9436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733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41008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66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381560" y="48006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72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9528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02888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哪些是半径？哪些是直径？哪些不是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0" y="34290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200400" y="29718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3962520" y="2133720"/>
            <a:ext cx="609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3:40:33Z</dcterms:created>
  <dc:creator/>
  <dc:description/>
  <cp:keywords>幻灯片之家 http:/www.eeppt.com</cp:keywords>
  <dc:language>en-US</dc:language>
  <cp:lastModifiedBy/>
  <dcterms:modified xsi:type="dcterms:W3CDTF">2015-07-18T14:02:32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