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2BF-85DA-41EE-8BD1-E917FCBF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EC7-647B-4BB2-B3F5-3197FC6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E14-BF1E-47F6-9473-E319D8DD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42C-51B1-490E-9377-F7301663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A63-952A-4A29-AE75-56D40CA7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CCF4-8066-4DF5-94BE-9D3B4B0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69F5-2773-44FF-ADA4-128E856A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CB5-B41D-4A18-86CF-BA9A3126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47CA-60D7-4568-946D-A16018C0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D443-9EA6-48E7-8C63-7E2F90E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FC3-FCB6-48CE-97C0-7FDDCF49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FC3-6539-4239-AFDC-F50A7F49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B048-1B48-48CB-963D-15E132B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32A7-24D8-4CB3-8D99-B7A217B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BB4-7533-45B1-8504-30654FC1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806E-239E-4F29-877B-98AFA280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B051-7D66-4BEB-8645-0ED5815D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A09-FF2D-4AF3-A92C-6752F41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5C7-4390-4544-8A0A-61123A7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7C0-78FA-4376-A461-0C379CAC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9002-0327-4D2B-928A-32714FC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44B-01DB-456C-A046-E80F608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1A6-F005-4ECB-8C63-D0F0E641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1016-D7EF-4641-9CBC-B69899D8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A433-BDAA-4D2E-A556-FE7207B58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B4F-B281-4FAD-B95D-3011C11D8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pic_2277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64548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8840" y="620640"/>
            <a:ext cx="287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《一去二三里》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03" name="Picture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835280" y="1989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573280" y="3068640"/>
            <a:ext cx="443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1835280" y="4221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2642040" y="5516640"/>
            <a:ext cx="44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ì    shì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山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ān    sān)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十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shí   sí 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 yī       ī )     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</a:rPr>
              <a:t>五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(wǔ    ǔ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143000" y="2133720"/>
          <a:ext cx="6781680" cy="228600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81160"/>
                <a:gridCol w="1079640"/>
                <a:gridCol w="113004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WordArt 25"/>
          <p:cNvSpPr txBox="1"/>
          <p:nvPr/>
        </p:nvSpPr>
        <p:spPr>
          <a:xfrm>
            <a:off x="1371600" y="3048120"/>
            <a:ext cx="1752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4" name="WordArt 26"/>
          <p:cNvSpPr txBox="1"/>
          <p:nvPr/>
        </p:nvSpPr>
        <p:spPr>
          <a:xfrm>
            <a:off x="4038480" y="2743200"/>
            <a:ext cx="990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5" name="WordArt 27"/>
          <p:cNvSpPr txBox="1"/>
          <p:nvPr/>
        </p:nvSpPr>
        <p:spPr>
          <a:xfrm>
            <a:off x="3581280" y="35053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6" name="WordArt 28"/>
          <p:cNvSpPr txBox="1"/>
          <p:nvPr/>
        </p:nvSpPr>
        <p:spPr>
          <a:xfrm>
            <a:off x="6310440" y="2590920"/>
            <a:ext cx="1041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7" name="WordArt 29"/>
          <p:cNvSpPr txBox="1"/>
          <p:nvPr/>
        </p:nvSpPr>
        <p:spPr>
          <a:xfrm>
            <a:off x="6400800" y="3124080"/>
            <a:ext cx="880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8" name="WordArt 30"/>
          <p:cNvSpPr txBox="1"/>
          <p:nvPr/>
        </p:nvSpPr>
        <p:spPr>
          <a:xfrm>
            <a:off x="5791320" y="3657600"/>
            <a:ext cx="19047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</a:t>
            </a:r>
            <a:endParaRPr b="0" lang="en-US" sz="2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7010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谜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468360" y="765000"/>
            <a:ext cx="92026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四和十，十和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和四十，四十和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说好四和十，得靠舌头和牙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认真学，常练习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十四，四十，四十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908000" y="549360"/>
            <a:ext cx="63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谜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线二线三四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六七八九十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千条线，万条线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掉进河里都不见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1832040" y="765000"/>
            <a:ext cx="583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量词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头牛，两匹马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三条鲤鱼四只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五本书，六支笔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七棵果树八朵花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九架飞机十辆车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量词千万别说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2050920" y="148428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一片一片又一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两片三片四五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六片七片八九片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香山红叶红满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BC0-8FF7-4E1E-9F74-A437781807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PM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BJ_041"/>
          <p:cNvPicPr/>
          <p:nvPr/>
        </p:nvPicPr>
        <p:blipFill>
          <a:blip r:embed="rId2"/>
          <a:stretch/>
        </p:blipFill>
        <p:spPr>
          <a:xfrm>
            <a:off x="1219320" y="42670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4169160" y="228600"/>
            <a:ext cx="37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   qù   èr   sān   l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137760" y="762120"/>
            <a:ext cx="55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3429000" y="1676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2495520" y="2209680"/>
            <a:ext cx="66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     去    二      三     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3505320" y="2895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352680" y="33526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     村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     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3505320" y="4038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5"/>
          <p:cNvSpPr/>
          <p:nvPr/>
        </p:nvSpPr>
        <p:spPr>
          <a:xfrm>
            <a:off x="3429000" y="44956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     台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六     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3429000" y="563724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八     九     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枝     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657600" y="495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505320" y="5095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030640" y="205740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030640" y="3276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6960" y="4419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5167080" y="548316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740880" y="-416880"/>
            <a:ext cx="7060680" cy="6825600"/>
            <a:chOff x="740880" y="-416880"/>
            <a:chExt cx="7060680" cy="6825600"/>
          </a:xfrm>
        </p:grpSpPr>
        <p:sp>
          <p:nvSpPr>
            <p:cNvPr id="257" name="Rectangle 3"/>
            <p:cNvSpPr/>
            <p:nvPr/>
          </p:nvSpPr>
          <p:spPr>
            <a:xfrm>
              <a:off x="3875040" y="4824360"/>
              <a:ext cx="1152360" cy="1584360"/>
            </a:xfrm>
            <a:prstGeom prst="rect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Cloud"/>
            <p:cNvSpPr/>
            <p:nvPr/>
          </p:nvSpPr>
          <p:spPr>
            <a:xfrm rot="11275200">
              <a:off x="1066680" y="0"/>
              <a:ext cx="6408720" cy="5175360"/>
            </a:xfrm>
            <a:custGeom>
              <a:avLst/>
              <a:gdLst>
                <a:gd name="textAreaLeft" fmla="*/ 882720 w 6408720"/>
                <a:gd name="textAreaRight" fmla="*/ 5070600 w 6408720"/>
                <a:gd name="textAreaTop" fmla="*/ 780840 h 5175360"/>
                <a:gd name="textAreaBottom" fmla="*/ 4154760 h 5175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5"/>
          <p:cNvGrpSpPr/>
          <p:nvPr/>
        </p:nvGrpSpPr>
        <p:grpSpPr>
          <a:xfrm>
            <a:off x="5867280" y="2590920"/>
            <a:ext cx="1160640" cy="1150920"/>
            <a:chOff x="5867280" y="2590920"/>
            <a:chExt cx="1160640" cy="1150920"/>
          </a:xfrm>
        </p:grpSpPr>
        <p:pic>
          <p:nvPicPr>
            <p:cNvPr id="260" name="Picture 6" descr="j0305493"/>
            <p:cNvPicPr/>
            <p:nvPr/>
          </p:nvPicPr>
          <p:blipFill>
            <a:blip r:embed="rId2"/>
            <a:stretch/>
          </p:blipFill>
          <p:spPr>
            <a:xfrm>
              <a:off x="5867280" y="259092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7"/>
            <p:cNvSpPr/>
            <p:nvPr/>
          </p:nvSpPr>
          <p:spPr>
            <a:xfrm>
              <a:off x="6019560" y="2971800"/>
              <a:ext cx="10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5105520" y="3657600"/>
            <a:ext cx="1150920" cy="1150920"/>
            <a:chOff x="5105520" y="3657600"/>
            <a:chExt cx="1150920" cy="1150920"/>
          </a:xfrm>
        </p:grpSpPr>
        <p:pic>
          <p:nvPicPr>
            <p:cNvPr id="263" name="Picture 9" descr="j0305493"/>
            <p:cNvPicPr/>
            <p:nvPr/>
          </p:nvPicPr>
          <p:blipFill>
            <a:blip r:embed="rId3"/>
            <a:stretch/>
          </p:blipFill>
          <p:spPr>
            <a:xfrm>
              <a:off x="5105520" y="36576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0"/>
            <p:cNvSpPr/>
            <p:nvPr/>
          </p:nvSpPr>
          <p:spPr>
            <a:xfrm>
              <a:off x="5321520" y="4017960"/>
              <a:ext cx="9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1"/>
          <p:cNvGrpSpPr/>
          <p:nvPr/>
        </p:nvGrpSpPr>
        <p:grpSpPr>
          <a:xfrm>
            <a:off x="1981080" y="457200"/>
            <a:ext cx="1139760" cy="1150920"/>
            <a:chOff x="1981080" y="457200"/>
            <a:chExt cx="1139760" cy="1150920"/>
          </a:xfrm>
        </p:grpSpPr>
        <p:pic>
          <p:nvPicPr>
            <p:cNvPr id="266" name="Picture 12" descr="j0305493"/>
            <p:cNvPicPr/>
            <p:nvPr/>
          </p:nvPicPr>
          <p:blipFill>
            <a:blip r:embed="rId4"/>
            <a:stretch/>
          </p:blipFill>
          <p:spPr>
            <a:xfrm>
              <a:off x="1981080" y="4572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3"/>
            <p:cNvSpPr/>
            <p:nvPr/>
          </p:nvSpPr>
          <p:spPr>
            <a:xfrm>
              <a:off x="2133360" y="762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4"/>
          <p:cNvGrpSpPr/>
          <p:nvPr/>
        </p:nvGrpSpPr>
        <p:grpSpPr>
          <a:xfrm>
            <a:off x="2743200" y="3886200"/>
            <a:ext cx="1218960" cy="1150920"/>
            <a:chOff x="2743200" y="3886200"/>
            <a:chExt cx="1218960" cy="1150920"/>
          </a:xfrm>
        </p:grpSpPr>
        <p:pic>
          <p:nvPicPr>
            <p:cNvPr id="269" name="Picture 15" descr="j0305493"/>
            <p:cNvPicPr/>
            <p:nvPr/>
          </p:nvPicPr>
          <p:blipFill>
            <a:blip r:embed="rId5"/>
            <a:stretch/>
          </p:blipFill>
          <p:spPr>
            <a:xfrm>
              <a:off x="2743200" y="3886200"/>
              <a:ext cx="12189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6"/>
            <p:cNvSpPr/>
            <p:nvPr/>
          </p:nvSpPr>
          <p:spPr>
            <a:xfrm>
              <a:off x="3069360" y="4267080"/>
              <a:ext cx="57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3657600" y="0"/>
            <a:ext cx="1495440" cy="1150920"/>
            <a:chOff x="3657600" y="0"/>
            <a:chExt cx="1495440" cy="1150920"/>
          </a:xfrm>
        </p:grpSpPr>
        <p:pic>
          <p:nvPicPr>
            <p:cNvPr id="272" name="Picture 18" descr="j0305493"/>
            <p:cNvPicPr/>
            <p:nvPr/>
          </p:nvPicPr>
          <p:blipFill>
            <a:blip r:embed="rId6"/>
            <a:stretch/>
          </p:blipFill>
          <p:spPr>
            <a:xfrm>
              <a:off x="3657600" y="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19"/>
            <p:cNvSpPr/>
            <p:nvPr/>
          </p:nvSpPr>
          <p:spPr>
            <a:xfrm>
              <a:off x="3809880" y="457200"/>
              <a:ext cx="134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0"/>
          <p:cNvGrpSpPr/>
          <p:nvPr/>
        </p:nvGrpSpPr>
        <p:grpSpPr>
          <a:xfrm>
            <a:off x="3429000" y="1600200"/>
            <a:ext cx="988920" cy="998640"/>
            <a:chOff x="3429000" y="1600200"/>
            <a:chExt cx="988920" cy="998640"/>
          </a:xfrm>
        </p:grpSpPr>
        <p:pic>
          <p:nvPicPr>
            <p:cNvPr id="275" name="Picture 21" descr="j0305493"/>
            <p:cNvPicPr/>
            <p:nvPr/>
          </p:nvPicPr>
          <p:blipFill>
            <a:blip r:embed="rId7"/>
            <a:stretch/>
          </p:blipFill>
          <p:spPr>
            <a:xfrm>
              <a:off x="3429000" y="1600200"/>
              <a:ext cx="988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22"/>
            <p:cNvSpPr/>
            <p:nvPr/>
          </p:nvSpPr>
          <p:spPr>
            <a:xfrm>
              <a:off x="3750840" y="18288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3"/>
          <p:cNvGrpSpPr/>
          <p:nvPr/>
        </p:nvGrpSpPr>
        <p:grpSpPr>
          <a:xfrm>
            <a:off x="2819520" y="2590920"/>
            <a:ext cx="912600" cy="922320"/>
            <a:chOff x="2819520" y="2590920"/>
            <a:chExt cx="912600" cy="922320"/>
          </a:xfrm>
        </p:grpSpPr>
        <p:pic>
          <p:nvPicPr>
            <p:cNvPr id="278" name="Picture 24" descr="j0305493"/>
            <p:cNvPicPr/>
            <p:nvPr/>
          </p:nvPicPr>
          <p:blipFill>
            <a:blip r:embed="rId8"/>
            <a:stretch/>
          </p:blipFill>
          <p:spPr>
            <a:xfrm>
              <a:off x="2819520" y="2590920"/>
              <a:ext cx="912600" cy="9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5"/>
            <p:cNvSpPr/>
            <p:nvPr/>
          </p:nvSpPr>
          <p:spPr>
            <a:xfrm>
              <a:off x="2988360" y="28101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Group 26"/>
          <p:cNvGrpSpPr/>
          <p:nvPr/>
        </p:nvGrpSpPr>
        <p:grpSpPr>
          <a:xfrm>
            <a:off x="4038480" y="2666880"/>
            <a:ext cx="1601640" cy="1150920"/>
            <a:chOff x="4038480" y="2666880"/>
            <a:chExt cx="1601640" cy="1150920"/>
          </a:xfrm>
        </p:grpSpPr>
        <p:pic>
          <p:nvPicPr>
            <p:cNvPr id="281" name="Picture 27" descr="j0305493"/>
            <p:cNvPicPr/>
            <p:nvPr/>
          </p:nvPicPr>
          <p:blipFill>
            <a:blip r:embed="rId9"/>
            <a:stretch/>
          </p:blipFill>
          <p:spPr>
            <a:xfrm>
              <a:off x="4038480" y="266688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28"/>
            <p:cNvSpPr/>
            <p:nvPr/>
          </p:nvSpPr>
          <p:spPr>
            <a:xfrm>
              <a:off x="4343400" y="3047760"/>
              <a:ext cx="12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29"/>
          <p:cNvGrpSpPr/>
          <p:nvPr/>
        </p:nvGrpSpPr>
        <p:grpSpPr>
          <a:xfrm>
            <a:off x="4788000" y="836640"/>
            <a:ext cx="1139760" cy="1150920"/>
            <a:chOff x="4788000" y="836640"/>
            <a:chExt cx="1139760" cy="1150920"/>
          </a:xfrm>
        </p:grpSpPr>
        <p:pic>
          <p:nvPicPr>
            <p:cNvPr id="284" name="Picture 30" descr="j0305493"/>
            <p:cNvPicPr/>
            <p:nvPr/>
          </p:nvPicPr>
          <p:blipFill>
            <a:blip r:embed="rId10"/>
            <a:stretch/>
          </p:blipFill>
          <p:spPr>
            <a:xfrm>
              <a:off x="4788000" y="83664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1"/>
            <p:cNvSpPr/>
            <p:nvPr/>
          </p:nvSpPr>
          <p:spPr>
            <a:xfrm>
              <a:off x="5109840" y="11415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Freeform 32"/>
          <p:cNvSpPr/>
          <p:nvPr/>
        </p:nvSpPr>
        <p:spPr>
          <a:xfrm>
            <a:off x="2238480" y="2327400"/>
            <a:ext cx="54000" cy="6336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51" y="0"/>
                </a:moveTo>
                <a:lnTo>
                  <a:pt x="0" y="109"/>
                </a:lnTo>
                <a:lnTo>
                  <a:pt x="1" y="110"/>
                </a:lnTo>
                <a:lnTo>
                  <a:pt x="5" y="113"/>
                </a:lnTo>
                <a:lnTo>
                  <a:pt x="11" y="117"/>
                </a:lnTo>
                <a:lnTo>
                  <a:pt x="19" y="119"/>
                </a:lnTo>
                <a:lnTo>
                  <a:pt x="31" y="121"/>
                </a:lnTo>
                <a:lnTo>
                  <a:pt x="45" y="119"/>
                </a:lnTo>
                <a:lnTo>
                  <a:pt x="62" y="113"/>
                </a:lnTo>
                <a:lnTo>
                  <a:pt x="81" y="102"/>
                </a:lnTo>
                <a:lnTo>
                  <a:pt x="102" y="89"/>
                </a:lnTo>
                <a:lnTo>
                  <a:pt x="51" y="0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33"/>
          <p:cNvSpPr/>
          <p:nvPr/>
        </p:nvSpPr>
        <p:spPr>
          <a:xfrm>
            <a:off x="2058840" y="2763720"/>
            <a:ext cx="123840" cy="85680"/>
          </a:xfrm>
          <a:custGeom>
            <a:avLst/>
            <a:gdLst/>
            <a:ahLst/>
            <a:rect l="l" t="t" r="r" b="b"/>
            <a:pathLst>
              <a:path w="236" h="160">
                <a:moveTo>
                  <a:pt x="26" y="6"/>
                </a:moveTo>
                <a:lnTo>
                  <a:pt x="23" y="9"/>
                </a:lnTo>
                <a:lnTo>
                  <a:pt x="19" y="16"/>
                </a:lnTo>
                <a:lnTo>
                  <a:pt x="14" y="25"/>
                </a:lnTo>
                <a:lnTo>
                  <a:pt x="7" y="38"/>
                </a:lnTo>
                <a:lnTo>
                  <a:pt x="3" y="53"/>
                </a:lnTo>
                <a:lnTo>
                  <a:pt x="0" y="70"/>
                </a:lnTo>
                <a:lnTo>
                  <a:pt x="0" y="89"/>
                </a:lnTo>
                <a:lnTo>
                  <a:pt x="5" y="108"/>
                </a:lnTo>
                <a:lnTo>
                  <a:pt x="5" y="109"/>
                </a:lnTo>
                <a:lnTo>
                  <a:pt x="7" y="111"/>
                </a:lnTo>
                <a:lnTo>
                  <a:pt x="9" y="113"/>
                </a:lnTo>
                <a:lnTo>
                  <a:pt x="13" y="117"/>
                </a:lnTo>
                <a:lnTo>
                  <a:pt x="18" y="123"/>
                </a:lnTo>
                <a:lnTo>
                  <a:pt x="23" y="127"/>
                </a:lnTo>
                <a:lnTo>
                  <a:pt x="31" y="132"/>
                </a:lnTo>
                <a:lnTo>
                  <a:pt x="40" y="137"/>
                </a:lnTo>
                <a:lnTo>
                  <a:pt x="51" y="143"/>
                </a:lnTo>
                <a:lnTo>
                  <a:pt x="64" y="148"/>
                </a:lnTo>
                <a:lnTo>
                  <a:pt x="78" y="152"/>
                </a:lnTo>
                <a:lnTo>
                  <a:pt x="93" y="156"/>
                </a:lnTo>
                <a:lnTo>
                  <a:pt x="112" y="159"/>
                </a:lnTo>
                <a:lnTo>
                  <a:pt x="132" y="160"/>
                </a:lnTo>
                <a:lnTo>
                  <a:pt x="154" y="160"/>
                </a:lnTo>
                <a:lnTo>
                  <a:pt x="179" y="159"/>
                </a:lnTo>
                <a:lnTo>
                  <a:pt x="182" y="157"/>
                </a:lnTo>
                <a:lnTo>
                  <a:pt x="191" y="155"/>
                </a:lnTo>
                <a:lnTo>
                  <a:pt x="202" y="148"/>
                </a:lnTo>
                <a:lnTo>
                  <a:pt x="215" y="136"/>
                </a:lnTo>
                <a:lnTo>
                  <a:pt x="226" y="121"/>
                </a:lnTo>
                <a:lnTo>
                  <a:pt x="233" y="100"/>
                </a:lnTo>
                <a:lnTo>
                  <a:pt x="236" y="73"/>
                </a:lnTo>
                <a:lnTo>
                  <a:pt x="230" y="38"/>
                </a:lnTo>
                <a:lnTo>
                  <a:pt x="229" y="37"/>
                </a:lnTo>
                <a:lnTo>
                  <a:pt x="227" y="32"/>
                </a:lnTo>
                <a:lnTo>
                  <a:pt x="224" y="26"/>
                </a:lnTo>
                <a:lnTo>
                  <a:pt x="219" y="18"/>
                </a:lnTo>
                <a:lnTo>
                  <a:pt x="214" y="12"/>
                </a:lnTo>
                <a:lnTo>
                  <a:pt x="206" y="6"/>
                </a:lnTo>
                <a:lnTo>
                  <a:pt x="199" y="1"/>
                </a:lnTo>
                <a:lnTo>
                  <a:pt x="189" y="0"/>
                </a:lnTo>
                <a:lnTo>
                  <a:pt x="189" y="97"/>
                </a:lnTo>
                <a:lnTo>
                  <a:pt x="26" y="89"/>
                </a:lnTo>
                <a:lnTo>
                  <a:pt x="26" y="6"/>
                </a:lnTo>
                <a:close/>
              </a:path>
            </a:pathLst>
          </a:custGeom>
          <a:solidFill>
            <a:srgbClr val="ffef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4"/>
          <p:cNvGrpSpPr/>
          <p:nvPr/>
        </p:nvGrpSpPr>
        <p:grpSpPr>
          <a:xfrm>
            <a:off x="1066680" y="1828800"/>
            <a:ext cx="1139760" cy="1150920"/>
            <a:chOff x="1066680" y="1828800"/>
            <a:chExt cx="1139760" cy="1150920"/>
          </a:xfrm>
        </p:grpSpPr>
        <p:grpSp>
          <p:nvGrpSpPr>
            <p:cNvPr id="289" name="Group 35"/>
            <p:cNvGrpSpPr/>
            <p:nvPr/>
          </p:nvGrpSpPr>
          <p:grpSpPr>
            <a:xfrm>
              <a:off x="1066680" y="1828800"/>
              <a:ext cx="1139760" cy="1150920"/>
              <a:chOff x="1066680" y="1828800"/>
              <a:chExt cx="1139760" cy="1150920"/>
            </a:xfrm>
          </p:grpSpPr>
          <p:sp>
            <p:nvSpPr>
              <p:cNvPr id="290" name="AutoShape 36"/>
              <p:cNvSpPr/>
              <p:nvPr/>
            </p:nvSpPr>
            <p:spPr>
              <a:xfrm>
                <a:off x="1066680" y="182880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37"/>
              <p:cNvSpPr/>
              <p:nvPr/>
            </p:nvSpPr>
            <p:spPr>
              <a:xfrm>
                <a:off x="1076040" y="182880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38"/>
              <p:cNvSpPr/>
              <p:nvPr/>
            </p:nvSpPr>
            <p:spPr>
              <a:xfrm>
                <a:off x="1922400" y="2044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39"/>
              <p:cNvSpPr/>
              <p:nvPr/>
            </p:nvSpPr>
            <p:spPr>
              <a:xfrm>
                <a:off x="1103040" y="207324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40"/>
              <p:cNvSpPr/>
              <p:nvPr/>
            </p:nvSpPr>
            <p:spPr>
              <a:xfrm>
                <a:off x="1479600" y="212868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41"/>
              <p:cNvSpPr/>
              <p:nvPr/>
            </p:nvSpPr>
            <p:spPr>
              <a:xfrm>
                <a:off x="1137960" y="210816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42"/>
              <p:cNvSpPr/>
              <p:nvPr/>
            </p:nvSpPr>
            <p:spPr>
              <a:xfrm>
                <a:off x="1871640" y="207180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43"/>
              <p:cNvSpPr/>
              <p:nvPr/>
            </p:nvSpPr>
            <p:spPr>
              <a:xfrm>
                <a:off x="1334880" y="210492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44"/>
              <p:cNvSpPr/>
              <p:nvPr/>
            </p:nvSpPr>
            <p:spPr>
              <a:xfrm>
                <a:off x="1222200" y="220680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45"/>
              <p:cNvSpPr/>
              <p:nvPr/>
            </p:nvSpPr>
            <p:spPr>
              <a:xfrm>
                <a:off x="1355760" y="223344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46"/>
              <p:cNvSpPr/>
              <p:nvPr/>
            </p:nvSpPr>
            <p:spPr>
              <a:xfrm>
                <a:off x="1552320" y="226548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47"/>
              <p:cNvSpPr/>
              <p:nvPr/>
            </p:nvSpPr>
            <p:spPr>
              <a:xfrm>
                <a:off x="1806480" y="210816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48"/>
              <p:cNvSpPr/>
              <p:nvPr/>
            </p:nvSpPr>
            <p:spPr>
              <a:xfrm>
                <a:off x="1744560" y="244800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49"/>
              <p:cNvSpPr/>
              <p:nvPr/>
            </p:nvSpPr>
            <p:spPr>
              <a:xfrm>
                <a:off x="1701720" y="232740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50"/>
              <p:cNvSpPr/>
              <p:nvPr/>
            </p:nvSpPr>
            <p:spPr>
              <a:xfrm>
                <a:off x="1145880" y="223848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51"/>
              <p:cNvSpPr/>
              <p:nvPr/>
            </p:nvSpPr>
            <p:spPr>
              <a:xfrm>
                <a:off x="1352520" y="213840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52"/>
              <p:cNvSpPr/>
              <p:nvPr/>
            </p:nvSpPr>
            <p:spPr>
              <a:xfrm>
                <a:off x="1353960" y="234936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53"/>
              <p:cNvSpPr/>
              <p:nvPr/>
            </p:nvSpPr>
            <p:spPr>
              <a:xfrm>
                <a:off x="1562040" y="236844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54"/>
              <p:cNvSpPr/>
              <p:nvPr/>
            </p:nvSpPr>
            <p:spPr>
              <a:xfrm>
                <a:off x="1508040" y="212256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55"/>
              <p:cNvSpPr/>
              <p:nvPr/>
            </p:nvSpPr>
            <p:spPr>
              <a:xfrm>
                <a:off x="1726920" y="244476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56"/>
              <p:cNvSpPr/>
              <p:nvPr/>
            </p:nvSpPr>
            <p:spPr>
              <a:xfrm>
                <a:off x="1915920" y="207180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57"/>
              <p:cNvSpPr/>
              <p:nvPr/>
            </p:nvSpPr>
            <p:spPr>
              <a:xfrm>
                <a:off x="2109600" y="223344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58"/>
              <p:cNvSpPr/>
              <p:nvPr/>
            </p:nvSpPr>
            <p:spPr>
              <a:xfrm>
                <a:off x="1842840" y="211788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59"/>
              <p:cNvSpPr/>
              <p:nvPr/>
            </p:nvSpPr>
            <p:spPr>
              <a:xfrm>
                <a:off x="1577880" y="186228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60"/>
              <p:cNvSpPr/>
              <p:nvPr/>
            </p:nvSpPr>
            <p:spPr>
              <a:xfrm>
                <a:off x="1590480" y="187164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61"/>
              <p:cNvSpPr/>
              <p:nvPr/>
            </p:nvSpPr>
            <p:spPr>
              <a:xfrm>
                <a:off x="1665000" y="190008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62"/>
              <p:cNvSpPr/>
              <p:nvPr/>
            </p:nvSpPr>
            <p:spPr>
              <a:xfrm>
                <a:off x="1671480" y="190656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63"/>
              <p:cNvSpPr/>
              <p:nvPr/>
            </p:nvSpPr>
            <p:spPr>
              <a:xfrm>
                <a:off x="1595160" y="187164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64"/>
              <p:cNvSpPr/>
              <p:nvPr/>
            </p:nvSpPr>
            <p:spPr>
              <a:xfrm>
                <a:off x="1479600" y="285588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65"/>
              <p:cNvSpPr/>
              <p:nvPr/>
            </p:nvSpPr>
            <p:spPr>
              <a:xfrm>
                <a:off x="1349280" y="221616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66"/>
              <p:cNvSpPr/>
              <p:nvPr/>
            </p:nvSpPr>
            <p:spPr>
              <a:xfrm>
                <a:off x="1788840" y="222552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67"/>
              <p:cNvSpPr/>
              <p:nvPr/>
            </p:nvSpPr>
            <p:spPr>
              <a:xfrm>
                <a:off x="1611360" y="241776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68"/>
              <p:cNvSpPr/>
              <p:nvPr/>
            </p:nvSpPr>
            <p:spPr>
              <a:xfrm>
                <a:off x="1546200" y="265752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69"/>
              <p:cNvSpPr/>
              <p:nvPr/>
            </p:nvSpPr>
            <p:spPr>
              <a:xfrm>
                <a:off x="1625400" y="265428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70"/>
              <p:cNvSpPr/>
              <p:nvPr/>
            </p:nvSpPr>
            <p:spPr>
              <a:xfrm>
                <a:off x="1380960" y="225252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71"/>
              <p:cNvSpPr/>
              <p:nvPr/>
            </p:nvSpPr>
            <p:spPr>
              <a:xfrm>
                <a:off x="1800000" y="227484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72"/>
              <p:cNvSpPr/>
              <p:nvPr/>
            </p:nvSpPr>
            <p:spPr>
              <a:xfrm>
                <a:off x="1622160" y="244332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73"/>
              <p:cNvSpPr/>
              <p:nvPr/>
            </p:nvSpPr>
            <p:spPr>
              <a:xfrm>
                <a:off x="1571400" y="266868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74"/>
              <p:cNvSpPr/>
              <p:nvPr/>
            </p:nvSpPr>
            <p:spPr>
              <a:xfrm>
                <a:off x="1360440" y="223200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75"/>
              <p:cNvSpPr/>
              <p:nvPr/>
            </p:nvSpPr>
            <p:spPr>
              <a:xfrm>
                <a:off x="1828800" y="223848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76"/>
              <p:cNvSpPr/>
              <p:nvPr/>
            </p:nvSpPr>
            <p:spPr>
              <a:xfrm>
                <a:off x="1560240" y="272556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77"/>
              <p:cNvSpPr/>
              <p:nvPr/>
            </p:nvSpPr>
            <p:spPr>
              <a:xfrm>
                <a:off x="1465200" y="221616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8"/>
              <p:cNvSpPr/>
              <p:nvPr/>
            </p:nvSpPr>
            <p:spPr>
              <a:xfrm>
                <a:off x="1828800" y="222552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79"/>
              <p:cNvSpPr/>
              <p:nvPr/>
            </p:nvSpPr>
            <p:spPr>
              <a:xfrm>
                <a:off x="1652400" y="241776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80"/>
              <p:cNvSpPr/>
              <p:nvPr/>
            </p:nvSpPr>
            <p:spPr>
              <a:xfrm>
                <a:off x="1428480" y="231948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81"/>
              <p:cNvSpPr/>
              <p:nvPr/>
            </p:nvSpPr>
            <p:spPr>
              <a:xfrm>
                <a:off x="1798560" y="230652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Text Box 82"/>
            <p:cNvSpPr/>
            <p:nvPr/>
          </p:nvSpPr>
          <p:spPr>
            <a:xfrm>
              <a:off x="1295280" y="220968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83"/>
          <p:cNvGrpSpPr/>
          <p:nvPr/>
        </p:nvGrpSpPr>
        <p:grpSpPr>
          <a:xfrm>
            <a:off x="1371600" y="3429000"/>
            <a:ext cx="1236600" cy="1150920"/>
            <a:chOff x="1371600" y="3429000"/>
            <a:chExt cx="1236600" cy="1150920"/>
          </a:xfrm>
        </p:grpSpPr>
        <p:pic>
          <p:nvPicPr>
            <p:cNvPr id="338" name="Picture 84" descr="j0305493"/>
            <p:cNvPicPr/>
            <p:nvPr/>
          </p:nvPicPr>
          <p:blipFill>
            <a:blip r:embed="rId11"/>
            <a:stretch/>
          </p:blipFill>
          <p:spPr>
            <a:xfrm>
              <a:off x="1371600" y="3429000"/>
              <a:ext cx="11397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85"/>
            <p:cNvSpPr/>
            <p:nvPr/>
          </p:nvSpPr>
          <p:spPr>
            <a:xfrm>
              <a:off x="1600200" y="373392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86"/>
          <p:cNvGrpSpPr/>
          <p:nvPr/>
        </p:nvGrpSpPr>
        <p:grpSpPr>
          <a:xfrm>
            <a:off x="6172200" y="1219320"/>
            <a:ext cx="1306440" cy="1150920"/>
            <a:chOff x="6172200" y="1219320"/>
            <a:chExt cx="1306440" cy="1150920"/>
          </a:xfrm>
        </p:grpSpPr>
        <p:grpSp>
          <p:nvGrpSpPr>
            <p:cNvPr id="341" name="Group 87"/>
            <p:cNvGrpSpPr/>
            <p:nvPr/>
          </p:nvGrpSpPr>
          <p:grpSpPr>
            <a:xfrm>
              <a:off x="6172200" y="1219320"/>
              <a:ext cx="1139760" cy="1150920"/>
              <a:chOff x="6172200" y="1219320"/>
              <a:chExt cx="1139760" cy="1150920"/>
            </a:xfrm>
          </p:grpSpPr>
          <p:sp>
            <p:nvSpPr>
              <p:cNvPr id="342" name="AutoShape 88"/>
              <p:cNvSpPr/>
              <p:nvPr/>
            </p:nvSpPr>
            <p:spPr>
              <a:xfrm>
                <a:off x="6172200" y="1219320"/>
                <a:ext cx="1139760" cy="11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89"/>
              <p:cNvSpPr/>
              <p:nvPr/>
            </p:nvSpPr>
            <p:spPr>
              <a:xfrm>
                <a:off x="6181560" y="1219320"/>
                <a:ext cx="1116000" cy="1147680"/>
              </a:xfrm>
              <a:custGeom>
                <a:avLst/>
                <a:gdLst/>
                <a:ahLst/>
                <a:rect l="l" t="t" r="r" b="b"/>
                <a:pathLst>
                  <a:path w="2108" h="2170">
                    <a:moveTo>
                      <a:pt x="2107" y="1073"/>
                    </a:moveTo>
                    <a:lnTo>
                      <a:pt x="2107" y="1071"/>
                    </a:lnTo>
                    <a:lnTo>
                      <a:pt x="2107" y="1068"/>
                    </a:lnTo>
                    <a:lnTo>
                      <a:pt x="2104" y="1057"/>
                    </a:lnTo>
                    <a:lnTo>
                      <a:pt x="2100" y="1028"/>
                    </a:lnTo>
                    <a:lnTo>
                      <a:pt x="2090" y="985"/>
                    </a:lnTo>
                    <a:lnTo>
                      <a:pt x="2076" y="930"/>
                    </a:lnTo>
                    <a:lnTo>
                      <a:pt x="2069" y="906"/>
                    </a:lnTo>
                    <a:lnTo>
                      <a:pt x="2061" y="881"/>
                    </a:lnTo>
                    <a:lnTo>
                      <a:pt x="2051" y="854"/>
                    </a:lnTo>
                    <a:lnTo>
                      <a:pt x="2041" y="827"/>
                    </a:lnTo>
                    <a:lnTo>
                      <a:pt x="2029" y="800"/>
                    </a:lnTo>
                    <a:lnTo>
                      <a:pt x="2017" y="772"/>
                    </a:lnTo>
                    <a:lnTo>
                      <a:pt x="2003" y="744"/>
                    </a:lnTo>
                    <a:lnTo>
                      <a:pt x="1989" y="717"/>
                    </a:lnTo>
                    <a:lnTo>
                      <a:pt x="1973" y="689"/>
                    </a:lnTo>
                    <a:lnTo>
                      <a:pt x="1955" y="661"/>
                    </a:lnTo>
                    <a:lnTo>
                      <a:pt x="1937" y="634"/>
                    </a:lnTo>
                    <a:lnTo>
                      <a:pt x="1916" y="609"/>
                    </a:lnTo>
                    <a:lnTo>
                      <a:pt x="1894" y="584"/>
                    </a:lnTo>
                    <a:lnTo>
                      <a:pt x="1872" y="558"/>
                    </a:lnTo>
                    <a:lnTo>
                      <a:pt x="1847" y="535"/>
                    </a:lnTo>
                    <a:lnTo>
                      <a:pt x="1821" y="513"/>
                    </a:lnTo>
                    <a:lnTo>
                      <a:pt x="1814" y="507"/>
                    </a:lnTo>
                    <a:lnTo>
                      <a:pt x="1807" y="502"/>
                    </a:lnTo>
                    <a:lnTo>
                      <a:pt x="1800" y="497"/>
                    </a:lnTo>
                    <a:lnTo>
                      <a:pt x="1793" y="491"/>
                    </a:lnTo>
                    <a:lnTo>
                      <a:pt x="1786" y="487"/>
                    </a:lnTo>
                    <a:lnTo>
                      <a:pt x="1778" y="482"/>
                    </a:lnTo>
                    <a:lnTo>
                      <a:pt x="1772" y="476"/>
                    </a:lnTo>
                    <a:lnTo>
                      <a:pt x="1764" y="472"/>
                    </a:lnTo>
                    <a:lnTo>
                      <a:pt x="1760" y="468"/>
                    </a:lnTo>
                    <a:lnTo>
                      <a:pt x="1756" y="464"/>
                    </a:lnTo>
                    <a:lnTo>
                      <a:pt x="1753" y="460"/>
                    </a:lnTo>
                    <a:lnTo>
                      <a:pt x="1750" y="458"/>
                    </a:lnTo>
                    <a:lnTo>
                      <a:pt x="1743" y="451"/>
                    </a:lnTo>
                    <a:lnTo>
                      <a:pt x="1736" y="447"/>
                    </a:lnTo>
                    <a:lnTo>
                      <a:pt x="1735" y="447"/>
                    </a:lnTo>
                    <a:lnTo>
                      <a:pt x="1732" y="446"/>
                    </a:lnTo>
                    <a:lnTo>
                      <a:pt x="1729" y="444"/>
                    </a:lnTo>
                    <a:lnTo>
                      <a:pt x="1725" y="442"/>
                    </a:lnTo>
                    <a:lnTo>
                      <a:pt x="1719" y="439"/>
                    </a:lnTo>
                    <a:lnTo>
                      <a:pt x="1713" y="436"/>
                    </a:lnTo>
                    <a:lnTo>
                      <a:pt x="1705" y="434"/>
                    </a:lnTo>
                    <a:lnTo>
                      <a:pt x="1696" y="430"/>
                    </a:lnTo>
                    <a:lnTo>
                      <a:pt x="1694" y="428"/>
                    </a:lnTo>
                    <a:lnTo>
                      <a:pt x="1692" y="426"/>
                    </a:lnTo>
                    <a:lnTo>
                      <a:pt x="1690" y="424"/>
                    </a:lnTo>
                    <a:lnTo>
                      <a:pt x="1688" y="423"/>
                    </a:lnTo>
                    <a:lnTo>
                      <a:pt x="1682" y="420"/>
                    </a:lnTo>
                    <a:lnTo>
                      <a:pt x="1674" y="415"/>
                    </a:lnTo>
                    <a:lnTo>
                      <a:pt x="1663" y="410"/>
                    </a:lnTo>
                    <a:lnTo>
                      <a:pt x="1650" y="406"/>
                    </a:lnTo>
                    <a:lnTo>
                      <a:pt x="1636" y="400"/>
                    </a:lnTo>
                    <a:lnTo>
                      <a:pt x="1619" y="398"/>
                    </a:lnTo>
                    <a:lnTo>
                      <a:pt x="1603" y="396"/>
                    </a:lnTo>
                    <a:lnTo>
                      <a:pt x="1586" y="398"/>
                    </a:lnTo>
                    <a:lnTo>
                      <a:pt x="1575" y="396"/>
                    </a:lnTo>
                    <a:lnTo>
                      <a:pt x="1564" y="395"/>
                    </a:lnTo>
                    <a:lnTo>
                      <a:pt x="1554" y="395"/>
                    </a:lnTo>
                    <a:lnTo>
                      <a:pt x="1543" y="395"/>
                    </a:lnTo>
                    <a:lnTo>
                      <a:pt x="1533" y="395"/>
                    </a:lnTo>
                    <a:lnTo>
                      <a:pt x="1524" y="396"/>
                    </a:lnTo>
                    <a:lnTo>
                      <a:pt x="1514" y="398"/>
                    </a:lnTo>
                    <a:lnTo>
                      <a:pt x="1505" y="399"/>
                    </a:lnTo>
                    <a:lnTo>
                      <a:pt x="1494" y="399"/>
                    </a:lnTo>
                    <a:lnTo>
                      <a:pt x="1484" y="399"/>
                    </a:lnTo>
                    <a:lnTo>
                      <a:pt x="1473" y="399"/>
                    </a:lnTo>
                    <a:lnTo>
                      <a:pt x="1463" y="399"/>
                    </a:lnTo>
                    <a:lnTo>
                      <a:pt x="1452" y="400"/>
                    </a:lnTo>
                    <a:lnTo>
                      <a:pt x="1441" y="400"/>
                    </a:lnTo>
                    <a:lnTo>
                      <a:pt x="1431" y="402"/>
                    </a:lnTo>
                    <a:lnTo>
                      <a:pt x="1420" y="402"/>
                    </a:lnTo>
                    <a:lnTo>
                      <a:pt x="1408" y="403"/>
                    </a:lnTo>
                    <a:lnTo>
                      <a:pt x="1397" y="404"/>
                    </a:lnTo>
                    <a:lnTo>
                      <a:pt x="1386" y="406"/>
                    </a:lnTo>
                    <a:lnTo>
                      <a:pt x="1376" y="408"/>
                    </a:lnTo>
                    <a:lnTo>
                      <a:pt x="1365" y="410"/>
                    </a:lnTo>
                    <a:lnTo>
                      <a:pt x="1354" y="412"/>
                    </a:lnTo>
                    <a:lnTo>
                      <a:pt x="1342" y="414"/>
                    </a:lnTo>
                    <a:lnTo>
                      <a:pt x="1331" y="416"/>
                    </a:lnTo>
                    <a:lnTo>
                      <a:pt x="1324" y="418"/>
                    </a:lnTo>
                    <a:lnTo>
                      <a:pt x="1318" y="420"/>
                    </a:lnTo>
                    <a:lnTo>
                      <a:pt x="1317" y="422"/>
                    </a:lnTo>
                    <a:lnTo>
                      <a:pt x="1311" y="423"/>
                    </a:lnTo>
                    <a:lnTo>
                      <a:pt x="1304" y="427"/>
                    </a:lnTo>
                    <a:lnTo>
                      <a:pt x="1293" y="431"/>
                    </a:lnTo>
                    <a:lnTo>
                      <a:pt x="1279" y="436"/>
                    </a:lnTo>
                    <a:lnTo>
                      <a:pt x="1261" y="443"/>
                    </a:lnTo>
                    <a:lnTo>
                      <a:pt x="1242" y="448"/>
                    </a:lnTo>
                    <a:lnTo>
                      <a:pt x="1219" y="455"/>
                    </a:lnTo>
                    <a:lnTo>
                      <a:pt x="1217" y="392"/>
                    </a:lnTo>
                    <a:lnTo>
                      <a:pt x="1222" y="337"/>
                    </a:lnTo>
                    <a:lnTo>
                      <a:pt x="1231" y="298"/>
                    </a:lnTo>
                    <a:lnTo>
                      <a:pt x="1235" y="284"/>
                    </a:lnTo>
                    <a:lnTo>
                      <a:pt x="1236" y="282"/>
                    </a:lnTo>
                    <a:lnTo>
                      <a:pt x="1236" y="281"/>
                    </a:lnTo>
                    <a:lnTo>
                      <a:pt x="1236" y="281"/>
                    </a:lnTo>
                    <a:lnTo>
                      <a:pt x="1236" y="280"/>
                    </a:lnTo>
                    <a:lnTo>
                      <a:pt x="1236" y="280"/>
                    </a:lnTo>
                    <a:lnTo>
                      <a:pt x="1265" y="186"/>
                    </a:lnTo>
                    <a:lnTo>
                      <a:pt x="1273" y="154"/>
                    </a:lnTo>
                    <a:lnTo>
                      <a:pt x="1257" y="127"/>
                    </a:lnTo>
                    <a:lnTo>
                      <a:pt x="1236" y="92"/>
                    </a:lnTo>
                    <a:lnTo>
                      <a:pt x="1221" y="68"/>
                    </a:lnTo>
                    <a:lnTo>
                      <a:pt x="1211" y="68"/>
                    </a:lnTo>
                    <a:lnTo>
                      <a:pt x="1211" y="66"/>
                    </a:lnTo>
                    <a:lnTo>
                      <a:pt x="1196" y="54"/>
                    </a:lnTo>
                    <a:lnTo>
                      <a:pt x="1175" y="36"/>
                    </a:lnTo>
                    <a:lnTo>
                      <a:pt x="1162" y="25"/>
                    </a:lnTo>
                    <a:lnTo>
                      <a:pt x="1147" y="25"/>
                    </a:lnTo>
                    <a:lnTo>
                      <a:pt x="1132" y="25"/>
                    </a:lnTo>
                    <a:lnTo>
                      <a:pt x="1125" y="19"/>
                    </a:lnTo>
                    <a:lnTo>
                      <a:pt x="1119" y="15"/>
                    </a:lnTo>
                    <a:lnTo>
                      <a:pt x="1112" y="9"/>
                    </a:lnTo>
                    <a:lnTo>
                      <a:pt x="1106" y="7"/>
                    </a:lnTo>
                    <a:lnTo>
                      <a:pt x="1099" y="4"/>
                    </a:lnTo>
                    <a:lnTo>
                      <a:pt x="1093" y="1"/>
                    </a:lnTo>
                    <a:lnTo>
                      <a:pt x="1086" y="0"/>
                    </a:lnTo>
                    <a:lnTo>
                      <a:pt x="1080" y="0"/>
                    </a:lnTo>
                    <a:lnTo>
                      <a:pt x="1059" y="0"/>
                    </a:lnTo>
                    <a:lnTo>
                      <a:pt x="1045" y="16"/>
                    </a:lnTo>
                    <a:lnTo>
                      <a:pt x="1009" y="63"/>
                    </a:lnTo>
                    <a:lnTo>
                      <a:pt x="980" y="116"/>
                    </a:lnTo>
                    <a:lnTo>
                      <a:pt x="957" y="175"/>
                    </a:lnTo>
                    <a:lnTo>
                      <a:pt x="937" y="238"/>
                    </a:lnTo>
                    <a:lnTo>
                      <a:pt x="923" y="300"/>
                    </a:lnTo>
                    <a:lnTo>
                      <a:pt x="913" y="361"/>
                    </a:lnTo>
                    <a:lnTo>
                      <a:pt x="906" y="420"/>
                    </a:lnTo>
                    <a:lnTo>
                      <a:pt x="901" y="472"/>
                    </a:lnTo>
                    <a:lnTo>
                      <a:pt x="881" y="470"/>
                    </a:lnTo>
                    <a:lnTo>
                      <a:pt x="860" y="467"/>
                    </a:lnTo>
                    <a:lnTo>
                      <a:pt x="838" y="464"/>
                    </a:lnTo>
                    <a:lnTo>
                      <a:pt x="817" y="460"/>
                    </a:lnTo>
                    <a:lnTo>
                      <a:pt x="796" y="456"/>
                    </a:lnTo>
                    <a:lnTo>
                      <a:pt x="775" y="452"/>
                    </a:lnTo>
                    <a:lnTo>
                      <a:pt x="753" y="447"/>
                    </a:lnTo>
                    <a:lnTo>
                      <a:pt x="732" y="442"/>
                    </a:lnTo>
                    <a:lnTo>
                      <a:pt x="727" y="440"/>
                    </a:lnTo>
                    <a:lnTo>
                      <a:pt x="716" y="439"/>
                    </a:lnTo>
                    <a:lnTo>
                      <a:pt x="701" y="436"/>
                    </a:lnTo>
                    <a:lnTo>
                      <a:pt x="682" y="434"/>
                    </a:lnTo>
                    <a:lnTo>
                      <a:pt x="658" y="432"/>
                    </a:lnTo>
                    <a:lnTo>
                      <a:pt x="628" y="432"/>
                    </a:lnTo>
                    <a:lnTo>
                      <a:pt x="597" y="435"/>
                    </a:lnTo>
                    <a:lnTo>
                      <a:pt x="561" y="439"/>
                    </a:lnTo>
                    <a:lnTo>
                      <a:pt x="523" y="448"/>
                    </a:lnTo>
                    <a:lnTo>
                      <a:pt x="481" y="460"/>
                    </a:lnTo>
                    <a:lnTo>
                      <a:pt x="438" y="476"/>
                    </a:lnTo>
                    <a:lnTo>
                      <a:pt x="393" y="499"/>
                    </a:lnTo>
                    <a:lnTo>
                      <a:pt x="346" y="526"/>
                    </a:lnTo>
                    <a:lnTo>
                      <a:pt x="297" y="561"/>
                    </a:lnTo>
                    <a:lnTo>
                      <a:pt x="249" y="602"/>
                    </a:lnTo>
                    <a:lnTo>
                      <a:pt x="200" y="650"/>
                    </a:lnTo>
                    <a:lnTo>
                      <a:pt x="195" y="655"/>
                    </a:lnTo>
                    <a:lnTo>
                      <a:pt x="187" y="667"/>
                    </a:lnTo>
                    <a:lnTo>
                      <a:pt x="172" y="683"/>
                    </a:lnTo>
                    <a:lnTo>
                      <a:pt x="156" y="705"/>
                    </a:lnTo>
                    <a:lnTo>
                      <a:pt x="138" y="735"/>
                    </a:lnTo>
                    <a:lnTo>
                      <a:pt x="117" y="768"/>
                    </a:lnTo>
                    <a:lnTo>
                      <a:pt x="96" y="808"/>
                    </a:lnTo>
                    <a:lnTo>
                      <a:pt x="76" y="853"/>
                    </a:lnTo>
                    <a:lnTo>
                      <a:pt x="51" y="916"/>
                    </a:lnTo>
                    <a:lnTo>
                      <a:pt x="30" y="981"/>
                    </a:lnTo>
                    <a:lnTo>
                      <a:pt x="16" y="1048"/>
                    </a:lnTo>
                    <a:lnTo>
                      <a:pt x="6" y="1115"/>
                    </a:lnTo>
                    <a:lnTo>
                      <a:pt x="0" y="1183"/>
                    </a:lnTo>
                    <a:lnTo>
                      <a:pt x="2" y="1251"/>
                    </a:lnTo>
                    <a:lnTo>
                      <a:pt x="7" y="1321"/>
                    </a:lnTo>
                    <a:lnTo>
                      <a:pt x="18" y="1389"/>
                    </a:lnTo>
                    <a:lnTo>
                      <a:pt x="24" y="1419"/>
                    </a:lnTo>
                    <a:lnTo>
                      <a:pt x="32" y="1448"/>
                    </a:lnTo>
                    <a:lnTo>
                      <a:pt x="40" y="1478"/>
                    </a:lnTo>
                    <a:lnTo>
                      <a:pt x="49" y="1507"/>
                    </a:lnTo>
                    <a:lnTo>
                      <a:pt x="59" y="1537"/>
                    </a:lnTo>
                    <a:lnTo>
                      <a:pt x="71" y="1566"/>
                    </a:lnTo>
                    <a:lnTo>
                      <a:pt x="83" y="1595"/>
                    </a:lnTo>
                    <a:lnTo>
                      <a:pt x="96" y="1625"/>
                    </a:lnTo>
                    <a:lnTo>
                      <a:pt x="110" y="1654"/>
                    </a:lnTo>
                    <a:lnTo>
                      <a:pt x="126" y="1684"/>
                    </a:lnTo>
                    <a:lnTo>
                      <a:pt x="142" y="1713"/>
                    </a:lnTo>
                    <a:lnTo>
                      <a:pt x="158" y="1741"/>
                    </a:lnTo>
                    <a:lnTo>
                      <a:pt x="177" y="1771"/>
                    </a:lnTo>
                    <a:lnTo>
                      <a:pt x="195" y="1800"/>
                    </a:lnTo>
                    <a:lnTo>
                      <a:pt x="215" y="1828"/>
                    </a:lnTo>
                    <a:lnTo>
                      <a:pt x="235" y="1858"/>
                    </a:lnTo>
                    <a:lnTo>
                      <a:pt x="239" y="1862"/>
                    </a:lnTo>
                    <a:lnTo>
                      <a:pt x="242" y="1864"/>
                    </a:lnTo>
                    <a:lnTo>
                      <a:pt x="245" y="1868"/>
                    </a:lnTo>
                    <a:lnTo>
                      <a:pt x="254" y="1875"/>
                    </a:lnTo>
                    <a:lnTo>
                      <a:pt x="266" y="1885"/>
                    </a:lnTo>
                    <a:lnTo>
                      <a:pt x="281" y="1898"/>
                    </a:lnTo>
                    <a:lnTo>
                      <a:pt x="301" y="1914"/>
                    </a:lnTo>
                    <a:lnTo>
                      <a:pt x="325" y="1931"/>
                    </a:lnTo>
                    <a:lnTo>
                      <a:pt x="352" y="1950"/>
                    </a:lnTo>
                    <a:lnTo>
                      <a:pt x="382" y="1970"/>
                    </a:lnTo>
                    <a:lnTo>
                      <a:pt x="417" y="1992"/>
                    </a:lnTo>
                    <a:lnTo>
                      <a:pt x="454" y="2013"/>
                    </a:lnTo>
                    <a:lnTo>
                      <a:pt x="495" y="2034"/>
                    </a:lnTo>
                    <a:lnTo>
                      <a:pt x="540" y="2056"/>
                    </a:lnTo>
                    <a:lnTo>
                      <a:pt x="587" y="2076"/>
                    </a:lnTo>
                    <a:lnTo>
                      <a:pt x="638" y="2095"/>
                    </a:lnTo>
                    <a:lnTo>
                      <a:pt x="691" y="2112"/>
                    </a:lnTo>
                    <a:lnTo>
                      <a:pt x="748" y="2128"/>
                    </a:lnTo>
                    <a:lnTo>
                      <a:pt x="752" y="2129"/>
                    </a:lnTo>
                    <a:lnTo>
                      <a:pt x="759" y="2131"/>
                    </a:lnTo>
                    <a:lnTo>
                      <a:pt x="767" y="2134"/>
                    </a:lnTo>
                    <a:lnTo>
                      <a:pt x="779" y="2138"/>
                    </a:lnTo>
                    <a:lnTo>
                      <a:pt x="794" y="2140"/>
                    </a:lnTo>
                    <a:lnTo>
                      <a:pt x="811" y="2144"/>
                    </a:lnTo>
                    <a:lnTo>
                      <a:pt x="829" y="2148"/>
                    </a:lnTo>
                    <a:lnTo>
                      <a:pt x="851" y="2152"/>
                    </a:lnTo>
                    <a:lnTo>
                      <a:pt x="874" y="2156"/>
                    </a:lnTo>
                    <a:lnTo>
                      <a:pt x="899" y="2159"/>
                    </a:lnTo>
                    <a:lnTo>
                      <a:pt x="926" y="2163"/>
                    </a:lnTo>
                    <a:lnTo>
                      <a:pt x="956" y="2166"/>
                    </a:lnTo>
                    <a:lnTo>
                      <a:pt x="986" y="2167"/>
                    </a:lnTo>
                    <a:lnTo>
                      <a:pt x="1019" y="2168"/>
                    </a:lnTo>
                    <a:lnTo>
                      <a:pt x="1052" y="2170"/>
                    </a:lnTo>
                    <a:lnTo>
                      <a:pt x="1087" y="2168"/>
                    </a:lnTo>
                    <a:lnTo>
                      <a:pt x="1098" y="2168"/>
                    </a:lnTo>
                    <a:lnTo>
                      <a:pt x="1109" y="2167"/>
                    </a:lnTo>
                    <a:lnTo>
                      <a:pt x="1120" y="2167"/>
                    </a:lnTo>
                    <a:lnTo>
                      <a:pt x="1132" y="2166"/>
                    </a:lnTo>
                    <a:lnTo>
                      <a:pt x="1143" y="2166"/>
                    </a:lnTo>
                    <a:lnTo>
                      <a:pt x="1154" y="2164"/>
                    </a:lnTo>
                    <a:lnTo>
                      <a:pt x="1165" y="2163"/>
                    </a:lnTo>
                    <a:lnTo>
                      <a:pt x="1176" y="2162"/>
                    </a:lnTo>
                    <a:lnTo>
                      <a:pt x="1187" y="2162"/>
                    </a:lnTo>
                    <a:lnTo>
                      <a:pt x="1198" y="2159"/>
                    </a:lnTo>
                    <a:lnTo>
                      <a:pt x="1209" y="2158"/>
                    </a:lnTo>
                    <a:lnTo>
                      <a:pt x="1220" y="2156"/>
                    </a:lnTo>
                    <a:lnTo>
                      <a:pt x="1232" y="2155"/>
                    </a:lnTo>
                    <a:lnTo>
                      <a:pt x="1243" y="2152"/>
                    </a:lnTo>
                    <a:lnTo>
                      <a:pt x="1254" y="2151"/>
                    </a:lnTo>
                    <a:lnTo>
                      <a:pt x="1265" y="2148"/>
                    </a:lnTo>
                    <a:lnTo>
                      <a:pt x="1281" y="2144"/>
                    </a:lnTo>
                    <a:lnTo>
                      <a:pt x="1298" y="2142"/>
                    </a:lnTo>
                    <a:lnTo>
                      <a:pt x="1315" y="2138"/>
                    </a:lnTo>
                    <a:lnTo>
                      <a:pt x="1331" y="2134"/>
                    </a:lnTo>
                    <a:lnTo>
                      <a:pt x="1347" y="2128"/>
                    </a:lnTo>
                    <a:lnTo>
                      <a:pt x="1365" y="2124"/>
                    </a:lnTo>
                    <a:lnTo>
                      <a:pt x="1381" y="2119"/>
                    </a:lnTo>
                    <a:lnTo>
                      <a:pt x="1397" y="2113"/>
                    </a:lnTo>
                    <a:lnTo>
                      <a:pt x="1414" y="2108"/>
                    </a:lnTo>
                    <a:lnTo>
                      <a:pt x="1430" y="2101"/>
                    </a:lnTo>
                    <a:lnTo>
                      <a:pt x="1446" y="2095"/>
                    </a:lnTo>
                    <a:lnTo>
                      <a:pt x="1463" y="2089"/>
                    </a:lnTo>
                    <a:lnTo>
                      <a:pt x="1478" y="2081"/>
                    </a:lnTo>
                    <a:lnTo>
                      <a:pt x="1494" y="2075"/>
                    </a:lnTo>
                    <a:lnTo>
                      <a:pt x="1510" y="2068"/>
                    </a:lnTo>
                    <a:lnTo>
                      <a:pt x="1526" y="2060"/>
                    </a:lnTo>
                    <a:lnTo>
                      <a:pt x="1549" y="2052"/>
                    </a:lnTo>
                    <a:lnTo>
                      <a:pt x="1570" y="2044"/>
                    </a:lnTo>
                    <a:lnTo>
                      <a:pt x="1588" y="2037"/>
                    </a:lnTo>
                    <a:lnTo>
                      <a:pt x="1603" y="2030"/>
                    </a:lnTo>
                    <a:lnTo>
                      <a:pt x="1616" y="2025"/>
                    </a:lnTo>
                    <a:lnTo>
                      <a:pt x="1625" y="2021"/>
                    </a:lnTo>
                    <a:lnTo>
                      <a:pt x="1631" y="2018"/>
                    </a:lnTo>
                    <a:lnTo>
                      <a:pt x="1633" y="2017"/>
                    </a:lnTo>
                    <a:lnTo>
                      <a:pt x="1655" y="2005"/>
                    </a:lnTo>
                    <a:lnTo>
                      <a:pt x="1677" y="1993"/>
                    </a:lnTo>
                    <a:lnTo>
                      <a:pt x="1698" y="1980"/>
                    </a:lnTo>
                    <a:lnTo>
                      <a:pt x="1718" y="1966"/>
                    </a:lnTo>
                    <a:lnTo>
                      <a:pt x="1739" y="1951"/>
                    </a:lnTo>
                    <a:lnTo>
                      <a:pt x="1757" y="1937"/>
                    </a:lnTo>
                    <a:lnTo>
                      <a:pt x="1777" y="1922"/>
                    </a:lnTo>
                    <a:lnTo>
                      <a:pt x="1795" y="1906"/>
                    </a:lnTo>
                    <a:lnTo>
                      <a:pt x="1798" y="1903"/>
                    </a:lnTo>
                    <a:lnTo>
                      <a:pt x="1800" y="1902"/>
                    </a:lnTo>
                    <a:lnTo>
                      <a:pt x="1800" y="1902"/>
                    </a:lnTo>
                    <a:lnTo>
                      <a:pt x="1801" y="1902"/>
                    </a:lnTo>
                    <a:lnTo>
                      <a:pt x="1802" y="1901"/>
                    </a:lnTo>
                    <a:lnTo>
                      <a:pt x="1802" y="1901"/>
                    </a:lnTo>
                    <a:lnTo>
                      <a:pt x="1807" y="1895"/>
                    </a:lnTo>
                    <a:lnTo>
                      <a:pt x="1821" y="1885"/>
                    </a:lnTo>
                    <a:lnTo>
                      <a:pt x="1838" y="1867"/>
                    </a:lnTo>
                    <a:lnTo>
                      <a:pt x="1860" y="1844"/>
                    </a:lnTo>
                    <a:lnTo>
                      <a:pt x="1885" y="1814"/>
                    </a:lnTo>
                    <a:lnTo>
                      <a:pt x="1912" y="1779"/>
                    </a:lnTo>
                    <a:lnTo>
                      <a:pt x="1941" y="1736"/>
                    </a:lnTo>
                    <a:lnTo>
                      <a:pt x="1971" y="1688"/>
                    </a:lnTo>
                    <a:lnTo>
                      <a:pt x="1999" y="1634"/>
                    </a:lnTo>
                    <a:lnTo>
                      <a:pt x="2026" y="1573"/>
                    </a:lnTo>
                    <a:lnTo>
                      <a:pt x="2051" y="1506"/>
                    </a:lnTo>
                    <a:lnTo>
                      <a:pt x="2073" y="1432"/>
                    </a:lnTo>
                    <a:lnTo>
                      <a:pt x="2090" y="1352"/>
                    </a:lnTo>
                    <a:lnTo>
                      <a:pt x="2102" y="1266"/>
                    </a:lnTo>
                    <a:lnTo>
                      <a:pt x="2108" y="1172"/>
                    </a:lnTo>
                    <a:lnTo>
                      <a:pt x="2107" y="10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90"/>
              <p:cNvSpPr/>
              <p:nvPr/>
            </p:nvSpPr>
            <p:spPr>
              <a:xfrm>
                <a:off x="7027920" y="143532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5" h="53">
                    <a:moveTo>
                      <a:pt x="7" y="53"/>
                    </a:moveTo>
                    <a:lnTo>
                      <a:pt x="5" y="53"/>
                    </a:lnTo>
                    <a:lnTo>
                      <a:pt x="4" y="53"/>
                    </a:lnTo>
                    <a:lnTo>
                      <a:pt x="2" y="53"/>
                    </a:lnTo>
                    <a:lnTo>
                      <a:pt x="0" y="53"/>
                    </a:lnTo>
                    <a:lnTo>
                      <a:pt x="15" y="0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91"/>
              <p:cNvSpPr/>
              <p:nvPr/>
            </p:nvSpPr>
            <p:spPr>
              <a:xfrm>
                <a:off x="6208560" y="1463760"/>
                <a:ext cx="1013040" cy="849240"/>
              </a:xfrm>
              <a:custGeom>
                <a:avLst/>
                <a:gdLst/>
                <a:ahLst/>
                <a:rect l="l" t="t" r="r" b="b"/>
                <a:pathLst>
                  <a:path w="1913" h="1605">
                    <a:moveTo>
                      <a:pt x="738" y="1580"/>
                    </a:moveTo>
                    <a:lnTo>
                      <a:pt x="742" y="1582"/>
                    </a:lnTo>
                    <a:lnTo>
                      <a:pt x="751" y="1585"/>
                    </a:lnTo>
                    <a:lnTo>
                      <a:pt x="767" y="1587"/>
                    </a:lnTo>
                    <a:lnTo>
                      <a:pt x="784" y="1589"/>
                    </a:lnTo>
                    <a:lnTo>
                      <a:pt x="804" y="1590"/>
                    </a:lnTo>
                    <a:lnTo>
                      <a:pt x="822" y="1587"/>
                    </a:lnTo>
                    <a:lnTo>
                      <a:pt x="841" y="1582"/>
                    </a:lnTo>
                    <a:lnTo>
                      <a:pt x="855" y="1572"/>
                    </a:lnTo>
                    <a:lnTo>
                      <a:pt x="858" y="1575"/>
                    </a:lnTo>
                    <a:lnTo>
                      <a:pt x="867" y="1580"/>
                    </a:lnTo>
                    <a:lnTo>
                      <a:pt x="882" y="1589"/>
                    </a:lnTo>
                    <a:lnTo>
                      <a:pt x="901" y="1594"/>
                    </a:lnTo>
                    <a:lnTo>
                      <a:pt x="925" y="1598"/>
                    </a:lnTo>
                    <a:lnTo>
                      <a:pt x="954" y="1598"/>
                    </a:lnTo>
                    <a:lnTo>
                      <a:pt x="985" y="1590"/>
                    </a:lnTo>
                    <a:lnTo>
                      <a:pt x="1020" y="1572"/>
                    </a:lnTo>
                    <a:lnTo>
                      <a:pt x="1021" y="1572"/>
                    </a:lnTo>
                    <a:lnTo>
                      <a:pt x="1023" y="1575"/>
                    </a:lnTo>
                    <a:lnTo>
                      <a:pt x="1029" y="1578"/>
                    </a:lnTo>
                    <a:lnTo>
                      <a:pt x="1034" y="1580"/>
                    </a:lnTo>
                    <a:lnTo>
                      <a:pt x="1042" y="1585"/>
                    </a:lnTo>
                    <a:lnTo>
                      <a:pt x="1052" y="1587"/>
                    </a:lnTo>
                    <a:lnTo>
                      <a:pt x="1062" y="1591"/>
                    </a:lnTo>
                    <a:lnTo>
                      <a:pt x="1074" y="1594"/>
                    </a:lnTo>
                    <a:lnTo>
                      <a:pt x="1088" y="1595"/>
                    </a:lnTo>
                    <a:lnTo>
                      <a:pt x="1103" y="1597"/>
                    </a:lnTo>
                    <a:lnTo>
                      <a:pt x="1118" y="1597"/>
                    </a:lnTo>
                    <a:lnTo>
                      <a:pt x="1135" y="1594"/>
                    </a:lnTo>
                    <a:lnTo>
                      <a:pt x="1153" y="1590"/>
                    </a:lnTo>
                    <a:lnTo>
                      <a:pt x="1171" y="1585"/>
                    </a:lnTo>
                    <a:lnTo>
                      <a:pt x="1191" y="1575"/>
                    </a:lnTo>
                    <a:lnTo>
                      <a:pt x="1212" y="1564"/>
                    </a:lnTo>
                    <a:lnTo>
                      <a:pt x="1267" y="1506"/>
                    </a:lnTo>
                    <a:lnTo>
                      <a:pt x="1266" y="1508"/>
                    </a:lnTo>
                    <a:lnTo>
                      <a:pt x="1265" y="1516"/>
                    </a:lnTo>
                    <a:lnTo>
                      <a:pt x="1265" y="1527"/>
                    </a:lnTo>
                    <a:lnTo>
                      <a:pt x="1268" y="1538"/>
                    </a:lnTo>
                    <a:lnTo>
                      <a:pt x="1275" y="1547"/>
                    </a:lnTo>
                    <a:lnTo>
                      <a:pt x="1288" y="1551"/>
                    </a:lnTo>
                    <a:lnTo>
                      <a:pt x="1307" y="1550"/>
                    </a:lnTo>
                    <a:lnTo>
                      <a:pt x="1336" y="1539"/>
                    </a:lnTo>
                    <a:lnTo>
                      <a:pt x="1368" y="1523"/>
                    </a:lnTo>
                    <a:lnTo>
                      <a:pt x="1399" y="1506"/>
                    </a:lnTo>
                    <a:lnTo>
                      <a:pt x="1427" y="1488"/>
                    </a:lnTo>
                    <a:lnTo>
                      <a:pt x="1452" y="1472"/>
                    </a:lnTo>
                    <a:lnTo>
                      <a:pt x="1473" y="1459"/>
                    </a:lnTo>
                    <a:lnTo>
                      <a:pt x="1488" y="1447"/>
                    </a:lnTo>
                    <a:lnTo>
                      <a:pt x="1498" y="1440"/>
                    </a:lnTo>
                    <a:lnTo>
                      <a:pt x="1501" y="1437"/>
                    </a:lnTo>
                    <a:lnTo>
                      <a:pt x="1604" y="1293"/>
                    </a:lnTo>
                    <a:lnTo>
                      <a:pt x="1577" y="1404"/>
                    </a:lnTo>
                    <a:lnTo>
                      <a:pt x="1578" y="1406"/>
                    </a:lnTo>
                    <a:lnTo>
                      <a:pt x="1582" y="1411"/>
                    </a:lnTo>
                    <a:lnTo>
                      <a:pt x="1590" y="1415"/>
                    </a:lnTo>
                    <a:lnTo>
                      <a:pt x="1602" y="1413"/>
                    </a:lnTo>
                    <a:lnTo>
                      <a:pt x="1619" y="1405"/>
                    </a:lnTo>
                    <a:lnTo>
                      <a:pt x="1643" y="1385"/>
                    </a:lnTo>
                    <a:lnTo>
                      <a:pt x="1675" y="1353"/>
                    </a:lnTo>
                    <a:lnTo>
                      <a:pt x="1714" y="1302"/>
                    </a:lnTo>
                    <a:lnTo>
                      <a:pt x="1721" y="1291"/>
                    </a:lnTo>
                    <a:lnTo>
                      <a:pt x="1737" y="1259"/>
                    </a:lnTo>
                    <a:lnTo>
                      <a:pt x="1761" y="1204"/>
                    </a:lnTo>
                    <a:lnTo>
                      <a:pt x="1787" y="1127"/>
                    </a:lnTo>
                    <a:lnTo>
                      <a:pt x="1812" y="1028"/>
                    </a:lnTo>
                    <a:lnTo>
                      <a:pt x="1833" y="905"/>
                    </a:lnTo>
                    <a:lnTo>
                      <a:pt x="1845" y="760"/>
                    </a:lnTo>
                    <a:lnTo>
                      <a:pt x="1845" y="590"/>
                    </a:lnTo>
                    <a:lnTo>
                      <a:pt x="1846" y="606"/>
                    </a:lnTo>
                    <a:lnTo>
                      <a:pt x="1850" y="650"/>
                    </a:lnTo>
                    <a:lnTo>
                      <a:pt x="1854" y="715"/>
                    </a:lnTo>
                    <a:lnTo>
                      <a:pt x="1860" y="791"/>
                    </a:lnTo>
                    <a:lnTo>
                      <a:pt x="1863" y="874"/>
                    </a:lnTo>
                    <a:lnTo>
                      <a:pt x="1865" y="955"/>
                    </a:lnTo>
                    <a:lnTo>
                      <a:pt x="1864" y="1026"/>
                    </a:lnTo>
                    <a:lnTo>
                      <a:pt x="1859" y="1081"/>
                    </a:lnTo>
                    <a:lnTo>
                      <a:pt x="1861" y="1077"/>
                    </a:lnTo>
                    <a:lnTo>
                      <a:pt x="1865" y="1064"/>
                    </a:lnTo>
                    <a:lnTo>
                      <a:pt x="1872" y="1042"/>
                    </a:lnTo>
                    <a:lnTo>
                      <a:pt x="1879" y="1014"/>
                    </a:lnTo>
                    <a:lnTo>
                      <a:pt x="1888" y="978"/>
                    </a:lnTo>
                    <a:lnTo>
                      <a:pt x="1896" y="935"/>
                    </a:lnTo>
                    <a:lnTo>
                      <a:pt x="1903" y="886"/>
                    </a:lnTo>
                    <a:lnTo>
                      <a:pt x="1910" y="831"/>
                    </a:lnTo>
                    <a:lnTo>
                      <a:pt x="1913" y="769"/>
                    </a:lnTo>
                    <a:lnTo>
                      <a:pt x="1913" y="704"/>
                    </a:lnTo>
                    <a:lnTo>
                      <a:pt x="1910" y="633"/>
                    </a:lnTo>
                    <a:lnTo>
                      <a:pt x="1902" y="557"/>
                    </a:lnTo>
                    <a:lnTo>
                      <a:pt x="1889" y="478"/>
                    </a:lnTo>
                    <a:lnTo>
                      <a:pt x="1870" y="395"/>
                    </a:lnTo>
                    <a:lnTo>
                      <a:pt x="1845" y="309"/>
                    </a:lnTo>
                    <a:lnTo>
                      <a:pt x="1811" y="219"/>
                    </a:lnTo>
                    <a:lnTo>
                      <a:pt x="1810" y="217"/>
                    </a:lnTo>
                    <a:lnTo>
                      <a:pt x="1807" y="210"/>
                    </a:lnTo>
                    <a:lnTo>
                      <a:pt x="1800" y="198"/>
                    </a:lnTo>
                    <a:lnTo>
                      <a:pt x="1792" y="183"/>
                    </a:lnTo>
                    <a:lnTo>
                      <a:pt x="1783" y="167"/>
                    </a:lnTo>
                    <a:lnTo>
                      <a:pt x="1770" y="147"/>
                    </a:lnTo>
                    <a:lnTo>
                      <a:pt x="1757" y="126"/>
                    </a:lnTo>
                    <a:lnTo>
                      <a:pt x="1740" y="104"/>
                    </a:lnTo>
                    <a:lnTo>
                      <a:pt x="1721" y="89"/>
                    </a:lnTo>
                    <a:lnTo>
                      <a:pt x="1699" y="75"/>
                    </a:lnTo>
                    <a:lnTo>
                      <a:pt x="1677" y="61"/>
                    </a:lnTo>
                    <a:lnTo>
                      <a:pt x="1654" y="49"/>
                    </a:lnTo>
                    <a:lnTo>
                      <a:pt x="1629" y="37"/>
                    </a:lnTo>
                    <a:lnTo>
                      <a:pt x="1604" y="28"/>
                    </a:lnTo>
                    <a:lnTo>
                      <a:pt x="1578" y="20"/>
                    </a:lnTo>
                    <a:lnTo>
                      <a:pt x="1551" y="12"/>
                    </a:lnTo>
                    <a:lnTo>
                      <a:pt x="1522" y="6"/>
                    </a:lnTo>
                    <a:lnTo>
                      <a:pt x="1492" y="2"/>
                    </a:lnTo>
                    <a:lnTo>
                      <a:pt x="1462" y="0"/>
                    </a:lnTo>
                    <a:lnTo>
                      <a:pt x="1429" y="0"/>
                    </a:lnTo>
                    <a:lnTo>
                      <a:pt x="1395" y="1"/>
                    </a:lnTo>
                    <a:lnTo>
                      <a:pt x="1361" y="4"/>
                    </a:lnTo>
                    <a:lnTo>
                      <a:pt x="1325" y="9"/>
                    </a:lnTo>
                    <a:lnTo>
                      <a:pt x="1288" y="16"/>
                    </a:lnTo>
                    <a:lnTo>
                      <a:pt x="1285" y="17"/>
                    </a:lnTo>
                    <a:lnTo>
                      <a:pt x="1277" y="21"/>
                    </a:lnTo>
                    <a:lnTo>
                      <a:pt x="1264" y="27"/>
                    </a:lnTo>
                    <a:lnTo>
                      <a:pt x="1246" y="35"/>
                    </a:lnTo>
                    <a:lnTo>
                      <a:pt x="1223" y="43"/>
                    </a:lnTo>
                    <a:lnTo>
                      <a:pt x="1195" y="51"/>
                    </a:lnTo>
                    <a:lnTo>
                      <a:pt x="1163" y="59"/>
                    </a:lnTo>
                    <a:lnTo>
                      <a:pt x="1126" y="67"/>
                    </a:lnTo>
                    <a:lnTo>
                      <a:pt x="1083" y="73"/>
                    </a:lnTo>
                    <a:lnTo>
                      <a:pt x="1036" y="77"/>
                    </a:lnTo>
                    <a:lnTo>
                      <a:pt x="986" y="80"/>
                    </a:lnTo>
                    <a:lnTo>
                      <a:pt x="931" y="80"/>
                    </a:lnTo>
                    <a:lnTo>
                      <a:pt x="872" y="76"/>
                    </a:lnTo>
                    <a:lnTo>
                      <a:pt x="808" y="69"/>
                    </a:lnTo>
                    <a:lnTo>
                      <a:pt x="742" y="57"/>
                    </a:lnTo>
                    <a:lnTo>
                      <a:pt x="670" y="41"/>
                    </a:lnTo>
                    <a:lnTo>
                      <a:pt x="666" y="40"/>
                    </a:lnTo>
                    <a:lnTo>
                      <a:pt x="659" y="39"/>
                    </a:lnTo>
                    <a:lnTo>
                      <a:pt x="646" y="37"/>
                    </a:lnTo>
                    <a:lnTo>
                      <a:pt x="628" y="35"/>
                    </a:lnTo>
                    <a:lnTo>
                      <a:pt x="607" y="33"/>
                    </a:lnTo>
                    <a:lnTo>
                      <a:pt x="581" y="35"/>
                    </a:lnTo>
                    <a:lnTo>
                      <a:pt x="551" y="36"/>
                    </a:lnTo>
                    <a:lnTo>
                      <a:pt x="519" y="40"/>
                    </a:lnTo>
                    <a:lnTo>
                      <a:pt x="483" y="48"/>
                    </a:lnTo>
                    <a:lnTo>
                      <a:pt x="445" y="60"/>
                    </a:lnTo>
                    <a:lnTo>
                      <a:pt x="404" y="75"/>
                    </a:lnTo>
                    <a:lnTo>
                      <a:pt x="362" y="95"/>
                    </a:lnTo>
                    <a:lnTo>
                      <a:pt x="318" y="122"/>
                    </a:lnTo>
                    <a:lnTo>
                      <a:pt x="273" y="152"/>
                    </a:lnTo>
                    <a:lnTo>
                      <a:pt x="227" y="191"/>
                    </a:lnTo>
                    <a:lnTo>
                      <a:pt x="181" y="237"/>
                    </a:lnTo>
                    <a:lnTo>
                      <a:pt x="179" y="239"/>
                    </a:lnTo>
                    <a:lnTo>
                      <a:pt x="172" y="249"/>
                    </a:lnTo>
                    <a:lnTo>
                      <a:pt x="160" y="263"/>
                    </a:lnTo>
                    <a:lnTo>
                      <a:pt x="144" y="285"/>
                    </a:lnTo>
                    <a:lnTo>
                      <a:pt x="127" y="310"/>
                    </a:lnTo>
                    <a:lnTo>
                      <a:pt x="108" y="342"/>
                    </a:lnTo>
                    <a:lnTo>
                      <a:pt x="88" y="379"/>
                    </a:lnTo>
                    <a:lnTo>
                      <a:pt x="68" y="420"/>
                    </a:lnTo>
                    <a:lnTo>
                      <a:pt x="50" y="467"/>
                    </a:lnTo>
                    <a:lnTo>
                      <a:pt x="32" y="518"/>
                    </a:lnTo>
                    <a:lnTo>
                      <a:pt x="18" y="574"/>
                    </a:lnTo>
                    <a:lnTo>
                      <a:pt x="8" y="633"/>
                    </a:lnTo>
                    <a:lnTo>
                      <a:pt x="2" y="697"/>
                    </a:lnTo>
                    <a:lnTo>
                      <a:pt x="0" y="765"/>
                    </a:lnTo>
                    <a:lnTo>
                      <a:pt x="5" y="838"/>
                    </a:lnTo>
                    <a:lnTo>
                      <a:pt x="16" y="913"/>
                    </a:lnTo>
                    <a:lnTo>
                      <a:pt x="21" y="938"/>
                    </a:lnTo>
                    <a:lnTo>
                      <a:pt x="28" y="963"/>
                    </a:lnTo>
                    <a:lnTo>
                      <a:pt x="36" y="989"/>
                    </a:lnTo>
                    <a:lnTo>
                      <a:pt x="43" y="1014"/>
                    </a:lnTo>
                    <a:lnTo>
                      <a:pt x="52" y="1041"/>
                    </a:lnTo>
                    <a:lnTo>
                      <a:pt x="63" y="1068"/>
                    </a:lnTo>
                    <a:lnTo>
                      <a:pt x="74" y="1095"/>
                    </a:lnTo>
                    <a:lnTo>
                      <a:pt x="86" y="1123"/>
                    </a:lnTo>
                    <a:lnTo>
                      <a:pt x="99" y="1151"/>
                    </a:lnTo>
                    <a:lnTo>
                      <a:pt x="113" y="1179"/>
                    </a:lnTo>
                    <a:lnTo>
                      <a:pt x="128" y="1207"/>
                    </a:lnTo>
                    <a:lnTo>
                      <a:pt x="144" y="1235"/>
                    </a:lnTo>
                    <a:lnTo>
                      <a:pt x="163" y="1265"/>
                    </a:lnTo>
                    <a:lnTo>
                      <a:pt x="181" y="1294"/>
                    </a:lnTo>
                    <a:lnTo>
                      <a:pt x="201" y="1324"/>
                    </a:lnTo>
                    <a:lnTo>
                      <a:pt x="223" y="1353"/>
                    </a:lnTo>
                    <a:lnTo>
                      <a:pt x="225" y="1354"/>
                    </a:lnTo>
                    <a:lnTo>
                      <a:pt x="231" y="1361"/>
                    </a:lnTo>
                    <a:lnTo>
                      <a:pt x="241" y="1369"/>
                    </a:lnTo>
                    <a:lnTo>
                      <a:pt x="256" y="1381"/>
                    </a:lnTo>
                    <a:lnTo>
                      <a:pt x="275" y="1396"/>
                    </a:lnTo>
                    <a:lnTo>
                      <a:pt x="297" y="1412"/>
                    </a:lnTo>
                    <a:lnTo>
                      <a:pt x="323" y="1431"/>
                    </a:lnTo>
                    <a:lnTo>
                      <a:pt x="352" y="1451"/>
                    </a:lnTo>
                    <a:lnTo>
                      <a:pt x="386" y="1471"/>
                    </a:lnTo>
                    <a:lnTo>
                      <a:pt x="422" y="1491"/>
                    </a:lnTo>
                    <a:lnTo>
                      <a:pt x="462" y="1512"/>
                    </a:lnTo>
                    <a:lnTo>
                      <a:pt x="505" y="1534"/>
                    </a:lnTo>
                    <a:lnTo>
                      <a:pt x="552" y="1552"/>
                    </a:lnTo>
                    <a:lnTo>
                      <a:pt x="601" y="1572"/>
                    </a:lnTo>
                    <a:lnTo>
                      <a:pt x="653" y="1589"/>
                    </a:lnTo>
                    <a:lnTo>
                      <a:pt x="709" y="1605"/>
                    </a:lnTo>
                    <a:lnTo>
                      <a:pt x="717" y="1601"/>
                    </a:lnTo>
                    <a:lnTo>
                      <a:pt x="725" y="1595"/>
                    </a:lnTo>
                    <a:lnTo>
                      <a:pt x="732" y="1589"/>
                    </a:lnTo>
                    <a:lnTo>
                      <a:pt x="738" y="158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92"/>
              <p:cNvSpPr/>
              <p:nvPr/>
            </p:nvSpPr>
            <p:spPr>
              <a:xfrm>
                <a:off x="6585120" y="1519200"/>
                <a:ext cx="685800" cy="811440"/>
              </a:xfrm>
              <a:custGeom>
                <a:avLst/>
                <a:gdLst/>
                <a:ahLst/>
                <a:rect l="l" t="t" r="r" b="b"/>
                <a:pathLst>
                  <a:path w="1296" h="1534">
                    <a:moveTo>
                      <a:pt x="1294" y="511"/>
                    </a:moveTo>
                    <a:lnTo>
                      <a:pt x="1293" y="502"/>
                    </a:lnTo>
                    <a:lnTo>
                      <a:pt x="1289" y="477"/>
                    </a:lnTo>
                    <a:lnTo>
                      <a:pt x="1280" y="437"/>
                    </a:lnTo>
                    <a:lnTo>
                      <a:pt x="1266" y="386"/>
                    </a:lnTo>
                    <a:lnTo>
                      <a:pt x="1260" y="364"/>
                    </a:lnTo>
                    <a:lnTo>
                      <a:pt x="1252" y="340"/>
                    </a:lnTo>
                    <a:lnTo>
                      <a:pt x="1244" y="317"/>
                    </a:lnTo>
                    <a:lnTo>
                      <a:pt x="1235" y="292"/>
                    </a:lnTo>
                    <a:lnTo>
                      <a:pt x="1225" y="267"/>
                    </a:lnTo>
                    <a:lnTo>
                      <a:pt x="1213" y="241"/>
                    </a:lnTo>
                    <a:lnTo>
                      <a:pt x="1201" y="216"/>
                    </a:lnTo>
                    <a:lnTo>
                      <a:pt x="1187" y="190"/>
                    </a:lnTo>
                    <a:lnTo>
                      <a:pt x="1173" y="163"/>
                    </a:lnTo>
                    <a:lnTo>
                      <a:pt x="1156" y="138"/>
                    </a:lnTo>
                    <a:lnTo>
                      <a:pt x="1139" y="114"/>
                    </a:lnTo>
                    <a:lnTo>
                      <a:pt x="1120" y="89"/>
                    </a:lnTo>
                    <a:lnTo>
                      <a:pt x="1100" y="66"/>
                    </a:lnTo>
                    <a:lnTo>
                      <a:pt x="1079" y="43"/>
                    </a:lnTo>
                    <a:lnTo>
                      <a:pt x="1056" y="20"/>
                    </a:lnTo>
                    <a:lnTo>
                      <a:pt x="1031" y="0"/>
                    </a:lnTo>
                    <a:lnTo>
                      <a:pt x="1048" y="22"/>
                    </a:lnTo>
                    <a:lnTo>
                      <a:pt x="1061" y="43"/>
                    </a:lnTo>
                    <a:lnTo>
                      <a:pt x="1074" y="63"/>
                    </a:lnTo>
                    <a:lnTo>
                      <a:pt x="1083" y="79"/>
                    </a:lnTo>
                    <a:lnTo>
                      <a:pt x="1091" y="94"/>
                    </a:lnTo>
                    <a:lnTo>
                      <a:pt x="1098" y="106"/>
                    </a:lnTo>
                    <a:lnTo>
                      <a:pt x="1101" y="113"/>
                    </a:lnTo>
                    <a:lnTo>
                      <a:pt x="1102" y="115"/>
                    </a:lnTo>
                    <a:lnTo>
                      <a:pt x="1136" y="205"/>
                    </a:lnTo>
                    <a:lnTo>
                      <a:pt x="1161" y="291"/>
                    </a:lnTo>
                    <a:lnTo>
                      <a:pt x="1180" y="374"/>
                    </a:lnTo>
                    <a:lnTo>
                      <a:pt x="1193" y="453"/>
                    </a:lnTo>
                    <a:lnTo>
                      <a:pt x="1201" y="529"/>
                    </a:lnTo>
                    <a:lnTo>
                      <a:pt x="1204" y="600"/>
                    </a:lnTo>
                    <a:lnTo>
                      <a:pt x="1204" y="665"/>
                    </a:lnTo>
                    <a:lnTo>
                      <a:pt x="1201" y="727"/>
                    </a:lnTo>
                    <a:lnTo>
                      <a:pt x="1194" y="782"/>
                    </a:lnTo>
                    <a:lnTo>
                      <a:pt x="1187" y="831"/>
                    </a:lnTo>
                    <a:lnTo>
                      <a:pt x="1179" y="874"/>
                    </a:lnTo>
                    <a:lnTo>
                      <a:pt x="1170" y="910"/>
                    </a:lnTo>
                    <a:lnTo>
                      <a:pt x="1163" y="938"/>
                    </a:lnTo>
                    <a:lnTo>
                      <a:pt x="1156" y="960"/>
                    </a:lnTo>
                    <a:lnTo>
                      <a:pt x="1152" y="973"/>
                    </a:lnTo>
                    <a:lnTo>
                      <a:pt x="1150" y="977"/>
                    </a:lnTo>
                    <a:lnTo>
                      <a:pt x="1155" y="922"/>
                    </a:lnTo>
                    <a:lnTo>
                      <a:pt x="1156" y="851"/>
                    </a:lnTo>
                    <a:lnTo>
                      <a:pt x="1154" y="770"/>
                    </a:lnTo>
                    <a:lnTo>
                      <a:pt x="1151" y="687"/>
                    </a:lnTo>
                    <a:lnTo>
                      <a:pt x="1145" y="611"/>
                    </a:lnTo>
                    <a:lnTo>
                      <a:pt x="1141" y="546"/>
                    </a:lnTo>
                    <a:lnTo>
                      <a:pt x="1137" y="502"/>
                    </a:lnTo>
                    <a:lnTo>
                      <a:pt x="1136" y="486"/>
                    </a:lnTo>
                    <a:lnTo>
                      <a:pt x="1136" y="656"/>
                    </a:lnTo>
                    <a:lnTo>
                      <a:pt x="1124" y="801"/>
                    </a:lnTo>
                    <a:lnTo>
                      <a:pt x="1103" y="924"/>
                    </a:lnTo>
                    <a:lnTo>
                      <a:pt x="1078" y="1023"/>
                    </a:lnTo>
                    <a:lnTo>
                      <a:pt x="1052" y="1100"/>
                    </a:lnTo>
                    <a:lnTo>
                      <a:pt x="1028" y="1155"/>
                    </a:lnTo>
                    <a:lnTo>
                      <a:pt x="1012" y="1187"/>
                    </a:lnTo>
                    <a:lnTo>
                      <a:pt x="1005" y="1198"/>
                    </a:lnTo>
                    <a:lnTo>
                      <a:pt x="966" y="1249"/>
                    </a:lnTo>
                    <a:lnTo>
                      <a:pt x="934" y="1281"/>
                    </a:lnTo>
                    <a:lnTo>
                      <a:pt x="910" y="1301"/>
                    </a:lnTo>
                    <a:lnTo>
                      <a:pt x="893" y="1309"/>
                    </a:lnTo>
                    <a:lnTo>
                      <a:pt x="881" y="1311"/>
                    </a:lnTo>
                    <a:lnTo>
                      <a:pt x="873" y="1307"/>
                    </a:lnTo>
                    <a:lnTo>
                      <a:pt x="869" y="1302"/>
                    </a:lnTo>
                    <a:lnTo>
                      <a:pt x="868" y="1300"/>
                    </a:lnTo>
                    <a:lnTo>
                      <a:pt x="895" y="1189"/>
                    </a:lnTo>
                    <a:lnTo>
                      <a:pt x="792" y="1333"/>
                    </a:lnTo>
                    <a:lnTo>
                      <a:pt x="789" y="1336"/>
                    </a:lnTo>
                    <a:lnTo>
                      <a:pt x="779" y="1343"/>
                    </a:lnTo>
                    <a:lnTo>
                      <a:pt x="764" y="1355"/>
                    </a:lnTo>
                    <a:lnTo>
                      <a:pt x="743" y="1368"/>
                    </a:lnTo>
                    <a:lnTo>
                      <a:pt x="718" y="1384"/>
                    </a:lnTo>
                    <a:lnTo>
                      <a:pt x="690" y="1402"/>
                    </a:lnTo>
                    <a:lnTo>
                      <a:pt x="659" y="1419"/>
                    </a:lnTo>
                    <a:lnTo>
                      <a:pt x="627" y="1435"/>
                    </a:lnTo>
                    <a:lnTo>
                      <a:pt x="598" y="1446"/>
                    </a:lnTo>
                    <a:lnTo>
                      <a:pt x="579" y="1447"/>
                    </a:lnTo>
                    <a:lnTo>
                      <a:pt x="566" y="1443"/>
                    </a:lnTo>
                    <a:lnTo>
                      <a:pt x="559" y="1434"/>
                    </a:lnTo>
                    <a:lnTo>
                      <a:pt x="556" y="1423"/>
                    </a:lnTo>
                    <a:lnTo>
                      <a:pt x="556" y="1412"/>
                    </a:lnTo>
                    <a:lnTo>
                      <a:pt x="557" y="1404"/>
                    </a:lnTo>
                    <a:lnTo>
                      <a:pt x="558" y="1402"/>
                    </a:lnTo>
                    <a:lnTo>
                      <a:pt x="503" y="1460"/>
                    </a:lnTo>
                    <a:lnTo>
                      <a:pt x="482" y="1471"/>
                    </a:lnTo>
                    <a:lnTo>
                      <a:pt x="462" y="1481"/>
                    </a:lnTo>
                    <a:lnTo>
                      <a:pt x="444" y="1486"/>
                    </a:lnTo>
                    <a:lnTo>
                      <a:pt x="426" y="1490"/>
                    </a:lnTo>
                    <a:lnTo>
                      <a:pt x="409" y="1493"/>
                    </a:lnTo>
                    <a:lnTo>
                      <a:pt x="394" y="1493"/>
                    </a:lnTo>
                    <a:lnTo>
                      <a:pt x="379" y="1491"/>
                    </a:lnTo>
                    <a:lnTo>
                      <a:pt x="365" y="1490"/>
                    </a:lnTo>
                    <a:lnTo>
                      <a:pt x="353" y="1487"/>
                    </a:lnTo>
                    <a:lnTo>
                      <a:pt x="343" y="1483"/>
                    </a:lnTo>
                    <a:lnTo>
                      <a:pt x="333" y="1481"/>
                    </a:lnTo>
                    <a:lnTo>
                      <a:pt x="325" y="1476"/>
                    </a:lnTo>
                    <a:lnTo>
                      <a:pt x="320" y="1474"/>
                    </a:lnTo>
                    <a:lnTo>
                      <a:pt x="314" y="1471"/>
                    </a:lnTo>
                    <a:lnTo>
                      <a:pt x="312" y="1468"/>
                    </a:lnTo>
                    <a:lnTo>
                      <a:pt x="311" y="1468"/>
                    </a:lnTo>
                    <a:lnTo>
                      <a:pt x="276" y="1486"/>
                    </a:lnTo>
                    <a:lnTo>
                      <a:pt x="245" y="1494"/>
                    </a:lnTo>
                    <a:lnTo>
                      <a:pt x="216" y="1494"/>
                    </a:lnTo>
                    <a:lnTo>
                      <a:pt x="192" y="1490"/>
                    </a:lnTo>
                    <a:lnTo>
                      <a:pt x="173" y="1485"/>
                    </a:lnTo>
                    <a:lnTo>
                      <a:pt x="158" y="1476"/>
                    </a:lnTo>
                    <a:lnTo>
                      <a:pt x="149" y="1471"/>
                    </a:lnTo>
                    <a:lnTo>
                      <a:pt x="146" y="1468"/>
                    </a:lnTo>
                    <a:lnTo>
                      <a:pt x="132" y="1478"/>
                    </a:lnTo>
                    <a:lnTo>
                      <a:pt x="113" y="1483"/>
                    </a:lnTo>
                    <a:lnTo>
                      <a:pt x="95" y="1486"/>
                    </a:lnTo>
                    <a:lnTo>
                      <a:pt x="75" y="1485"/>
                    </a:lnTo>
                    <a:lnTo>
                      <a:pt x="58" y="1483"/>
                    </a:lnTo>
                    <a:lnTo>
                      <a:pt x="42" y="1481"/>
                    </a:lnTo>
                    <a:lnTo>
                      <a:pt x="33" y="1478"/>
                    </a:lnTo>
                    <a:lnTo>
                      <a:pt x="29" y="1476"/>
                    </a:lnTo>
                    <a:lnTo>
                      <a:pt x="23" y="1485"/>
                    </a:lnTo>
                    <a:lnTo>
                      <a:pt x="16" y="1491"/>
                    </a:lnTo>
                    <a:lnTo>
                      <a:pt x="8" y="1497"/>
                    </a:lnTo>
                    <a:lnTo>
                      <a:pt x="0" y="1501"/>
                    </a:lnTo>
                    <a:lnTo>
                      <a:pt x="25" y="1506"/>
                    </a:lnTo>
                    <a:lnTo>
                      <a:pt x="50" y="1511"/>
                    </a:lnTo>
                    <a:lnTo>
                      <a:pt x="76" y="1517"/>
                    </a:lnTo>
                    <a:lnTo>
                      <a:pt x="102" y="1521"/>
                    </a:lnTo>
                    <a:lnTo>
                      <a:pt x="129" y="1525"/>
                    </a:lnTo>
                    <a:lnTo>
                      <a:pt x="157" y="1529"/>
                    </a:lnTo>
                    <a:lnTo>
                      <a:pt x="185" y="1530"/>
                    </a:lnTo>
                    <a:lnTo>
                      <a:pt x="213" y="1533"/>
                    </a:lnTo>
                    <a:lnTo>
                      <a:pt x="243" y="1534"/>
                    </a:lnTo>
                    <a:lnTo>
                      <a:pt x="271" y="1534"/>
                    </a:lnTo>
                    <a:lnTo>
                      <a:pt x="301" y="1533"/>
                    </a:lnTo>
                    <a:lnTo>
                      <a:pt x="331" y="1531"/>
                    </a:lnTo>
                    <a:lnTo>
                      <a:pt x="361" y="1530"/>
                    </a:lnTo>
                    <a:lnTo>
                      <a:pt x="393" y="1527"/>
                    </a:lnTo>
                    <a:lnTo>
                      <a:pt x="424" y="1523"/>
                    </a:lnTo>
                    <a:lnTo>
                      <a:pt x="456" y="1518"/>
                    </a:lnTo>
                    <a:lnTo>
                      <a:pt x="487" y="1513"/>
                    </a:lnTo>
                    <a:lnTo>
                      <a:pt x="520" y="1505"/>
                    </a:lnTo>
                    <a:lnTo>
                      <a:pt x="554" y="1497"/>
                    </a:lnTo>
                    <a:lnTo>
                      <a:pt x="586" y="1489"/>
                    </a:lnTo>
                    <a:lnTo>
                      <a:pt x="620" y="1478"/>
                    </a:lnTo>
                    <a:lnTo>
                      <a:pt x="654" y="1467"/>
                    </a:lnTo>
                    <a:lnTo>
                      <a:pt x="689" y="1454"/>
                    </a:lnTo>
                    <a:lnTo>
                      <a:pt x="723" y="1440"/>
                    </a:lnTo>
                    <a:lnTo>
                      <a:pt x="758" y="1426"/>
                    </a:lnTo>
                    <a:lnTo>
                      <a:pt x="793" y="1410"/>
                    </a:lnTo>
                    <a:lnTo>
                      <a:pt x="829" y="1391"/>
                    </a:lnTo>
                    <a:lnTo>
                      <a:pt x="865" y="1372"/>
                    </a:lnTo>
                    <a:lnTo>
                      <a:pt x="901" y="1352"/>
                    </a:lnTo>
                    <a:lnTo>
                      <a:pt x="938" y="1331"/>
                    </a:lnTo>
                    <a:lnTo>
                      <a:pt x="975" y="1307"/>
                    </a:lnTo>
                    <a:lnTo>
                      <a:pt x="1012" y="1282"/>
                    </a:lnTo>
                    <a:lnTo>
                      <a:pt x="1015" y="1280"/>
                    </a:lnTo>
                    <a:lnTo>
                      <a:pt x="1025" y="1270"/>
                    </a:lnTo>
                    <a:lnTo>
                      <a:pt x="1040" y="1256"/>
                    </a:lnTo>
                    <a:lnTo>
                      <a:pt x="1060" y="1234"/>
                    </a:lnTo>
                    <a:lnTo>
                      <a:pt x="1082" y="1207"/>
                    </a:lnTo>
                    <a:lnTo>
                      <a:pt x="1108" y="1175"/>
                    </a:lnTo>
                    <a:lnTo>
                      <a:pt x="1136" y="1135"/>
                    </a:lnTo>
                    <a:lnTo>
                      <a:pt x="1163" y="1091"/>
                    </a:lnTo>
                    <a:lnTo>
                      <a:pt x="1191" y="1040"/>
                    </a:lnTo>
                    <a:lnTo>
                      <a:pt x="1217" y="983"/>
                    </a:lnTo>
                    <a:lnTo>
                      <a:pt x="1241" y="920"/>
                    </a:lnTo>
                    <a:lnTo>
                      <a:pt x="1262" y="850"/>
                    </a:lnTo>
                    <a:lnTo>
                      <a:pt x="1278" y="774"/>
                    </a:lnTo>
                    <a:lnTo>
                      <a:pt x="1290" y="693"/>
                    </a:lnTo>
                    <a:lnTo>
                      <a:pt x="1296" y="605"/>
                    </a:lnTo>
                    <a:lnTo>
                      <a:pt x="1294" y="511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93"/>
              <p:cNvSpPr/>
              <p:nvPr/>
            </p:nvSpPr>
            <p:spPr>
              <a:xfrm>
                <a:off x="6243480" y="1498680"/>
                <a:ext cx="316080" cy="792360"/>
              </a:xfrm>
              <a:custGeom>
                <a:avLst/>
                <a:gdLst/>
                <a:ahLst/>
                <a:rect l="l" t="t" r="r" b="b"/>
                <a:pathLst>
                  <a:path w="598" h="1497">
                    <a:moveTo>
                      <a:pt x="523" y="0"/>
                    </a:moveTo>
                    <a:lnTo>
                      <a:pt x="519" y="0"/>
                    </a:lnTo>
                    <a:lnTo>
                      <a:pt x="505" y="1"/>
                    </a:lnTo>
                    <a:lnTo>
                      <a:pt x="484" y="4"/>
                    </a:lnTo>
                    <a:lnTo>
                      <a:pt x="457" y="10"/>
                    </a:lnTo>
                    <a:lnTo>
                      <a:pt x="424" y="21"/>
                    </a:lnTo>
                    <a:lnTo>
                      <a:pt x="388" y="36"/>
                    </a:lnTo>
                    <a:lnTo>
                      <a:pt x="349" y="57"/>
                    </a:lnTo>
                    <a:lnTo>
                      <a:pt x="309" y="85"/>
                    </a:lnTo>
                    <a:lnTo>
                      <a:pt x="267" y="121"/>
                    </a:lnTo>
                    <a:lnTo>
                      <a:pt x="227" y="167"/>
                    </a:lnTo>
                    <a:lnTo>
                      <a:pt x="189" y="222"/>
                    </a:lnTo>
                    <a:lnTo>
                      <a:pt x="154" y="289"/>
                    </a:lnTo>
                    <a:lnTo>
                      <a:pt x="123" y="368"/>
                    </a:lnTo>
                    <a:lnTo>
                      <a:pt x="98" y="459"/>
                    </a:lnTo>
                    <a:lnTo>
                      <a:pt x="79" y="565"/>
                    </a:lnTo>
                    <a:lnTo>
                      <a:pt x="68" y="685"/>
                    </a:lnTo>
                    <a:lnTo>
                      <a:pt x="68" y="690"/>
                    </a:lnTo>
                    <a:lnTo>
                      <a:pt x="68" y="706"/>
                    </a:lnTo>
                    <a:lnTo>
                      <a:pt x="71" y="732"/>
                    </a:lnTo>
                    <a:lnTo>
                      <a:pt x="75" y="767"/>
                    </a:lnTo>
                    <a:lnTo>
                      <a:pt x="81" y="808"/>
                    </a:lnTo>
                    <a:lnTo>
                      <a:pt x="93" y="858"/>
                    </a:lnTo>
                    <a:lnTo>
                      <a:pt x="109" y="911"/>
                    </a:lnTo>
                    <a:lnTo>
                      <a:pt x="129" y="970"/>
                    </a:lnTo>
                    <a:lnTo>
                      <a:pt x="158" y="1033"/>
                    </a:lnTo>
                    <a:lnTo>
                      <a:pt x="192" y="1099"/>
                    </a:lnTo>
                    <a:lnTo>
                      <a:pt x="235" y="1165"/>
                    </a:lnTo>
                    <a:lnTo>
                      <a:pt x="286" y="1234"/>
                    </a:lnTo>
                    <a:lnTo>
                      <a:pt x="348" y="1302"/>
                    </a:lnTo>
                    <a:lnTo>
                      <a:pt x="420" y="1370"/>
                    </a:lnTo>
                    <a:lnTo>
                      <a:pt x="502" y="1435"/>
                    </a:lnTo>
                    <a:lnTo>
                      <a:pt x="598" y="1497"/>
                    </a:lnTo>
                    <a:lnTo>
                      <a:pt x="592" y="1496"/>
                    </a:lnTo>
                    <a:lnTo>
                      <a:pt x="574" y="1489"/>
                    </a:lnTo>
                    <a:lnTo>
                      <a:pt x="546" y="1479"/>
                    </a:lnTo>
                    <a:lnTo>
                      <a:pt x="510" y="1463"/>
                    </a:lnTo>
                    <a:lnTo>
                      <a:pt x="467" y="1440"/>
                    </a:lnTo>
                    <a:lnTo>
                      <a:pt x="418" y="1412"/>
                    </a:lnTo>
                    <a:lnTo>
                      <a:pt x="366" y="1376"/>
                    </a:lnTo>
                    <a:lnTo>
                      <a:pt x="312" y="1333"/>
                    </a:lnTo>
                    <a:lnTo>
                      <a:pt x="258" y="1281"/>
                    </a:lnTo>
                    <a:lnTo>
                      <a:pt x="204" y="1219"/>
                    </a:lnTo>
                    <a:lnTo>
                      <a:pt x="154" y="1149"/>
                    </a:lnTo>
                    <a:lnTo>
                      <a:pt x="108" y="1069"/>
                    </a:lnTo>
                    <a:lnTo>
                      <a:pt x="68" y="978"/>
                    </a:lnTo>
                    <a:lnTo>
                      <a:pt x="36" y="875"/>
                    </a:lnTo>
                    <a:lnTo>
                      <a:pt x="12" y="761"/>
                    </a:lnTo>
                    <a:lnTo>
                      <a:pt x="0" y="634"/>
                    </a:lnTo>
                    <a:lnTo>
                      <a:pt x="0" y="627"/>
                    </a:lnTo>
                    <a:lnTo>
                      <a:pt x="1" y="607"/>
                    </a:lnTo>
                    <a:lnTo>
                      <a:pt x="4" y="578"/>
                    </a:lnTo>
                    <a:lnTo>
                      <a:pt x="10" y="539"/>
                    </a:lnTo>
                    <a:lnTo>
                      <a:pt x="18" y="492"/>
                    </a:lnTo>
                    <a:lnTo>
                      <a:pt x="31" y="440"/>
                    </a:lnTo>
                    <a:lnTo>
                      <a:pt x="48" y="384"/>
                    </a:lnTo>
                    <a:lnTo>
                      <a:pt x="71" y="326"/>
                    </a:lnTo>
                    <a:lnTo>
                      <a:pt x="99" y="269"/>
                    </a:lnTo>
                    <a:lnTo>
                      <a:pt x="134" y="211"/>
                    </a:lnTo>
                    <a:lnTo>
                      <a:pt x="176" y="158"/>
                    </a:lnTo>
                    <a:lnTo>
                      <a:pt x="226" y="109"/>
                    </a:lnTo>
                    <a:lnTo>
                      <a:pt x="286" y="68"/>
                    </a:lnTo>
                    <a:lnTo>
                      <a:pt x="354" y="34"/>
                    </a:lnTo>
                    <a:lnTo>
                      <a:pt x="433" y="1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94"/>
              <p:cNvSpPr/>
              <p:nvPr/>
            </p:nvSpPr>
            <p:spPr>
              <a:xfrm>
                <a:off x="6977160" y="1462320"/>
                <a:ext cx="188640" cy="257040"/>
              </a:xfrm>
              <a:custGeom>
                <a:avLst/>
                <a:gdLst/>
                <a:ahLst/>
                <a:rect l="l" t="t" r="r" b="b"/>
                <a:pathLst>
                  <a:path w="358" h="487">
                    <a:moveTo>
                      <a:pt x="0" y="5"/>
                    </a:moveTo>
                    <a:lnTo>
                      <a:pt x="3" y="6"/>
                    </a:lnTo>
                    <a:lnTo>
                      <a:pt x="13" y="10"/>
                    </a:lnTo>
                    <a:lnTo>
                      <a:pt x="28" y="17"/>
                    </a:lnTo>
                    <a:lnTo>
                      <a:pt x="48" y="27"/>
                    </a:lnTo>
                    <a:lnTo>
                      <a:pt x="72" y="40"/>
                    </a:lnTo>
                    <a:lnTo>
                      <a:pt x="99" y="57"/>
                    </a:lnTo>
                    <a:lnTo>
                      <a:pt x="127" y="79"/>
                    </a:lnTo>
                    <a:lnTo>
                      <a:pt x="158" y="103"/>
                    </a:lnTo>
                    <a:lnTo>
                      <a:pt x="189" y="134"/>
                    </a:lnTo>
                    <a:lnTo>
                      <a:pt x="220" y="167"/>
                    </a:lnTo>
                    <a:lnTo>
                      <a:pt x="250" y="207"/>
                    </a:lnTo>
                    <a:lnTo>
                      <a:pt x="278" y="251"/>
                    </a:lnTo>
                    <a:lnTo>
                      <a:pt x="304" y="301"/>
                    </a:lnTo>
                    <a:lnTo>
                      <a:pt x="326" y="357"/>
                    </a:lnTo>
                    <a:lnTo>
                      <a:pt x="345" y="419"/>
                    </a:lnTo>
                    <a:lnTo>
                      <a:pt x="358" y="487"/>
                    </a:lnTo>
                    <a:lnTo>
                      <a:pt x="358" y="475"/>
                    </a:lnTo>
                    <a:lnTo>
                      <a:pt x="356" y="440"/>
                    </a:lnTo>
                    <a:lnTo>
                      <a:pt x="350" y="388"/>
                    </a:lnTo>
                    <a:lnTo>
                      <a:pt x="339" y="325"/>
                    </a:lnTo>
                    <a:lnTo>
                      <a:pt x="323" y="254"/>
                    </a:lnTo>
                    <a:lnTo>
                      <a:pt x="297" y="180"/>
                    </a:lnTo>
                    <a:lnTo>
                      <a:pt x="261" y="111"/>
                    </a:lnTo>
                    <a:lnTo>
                      <a:pt x="213" y="48"/>
                    </a:lnTo>
                    <a:lnTo>
                      <a:pt x="212" y="47"/>
                    </a:lnTo>
                    <a:lnTo>
                      <a:pt x="208" y="45"/>
                    </a:lnTo>
                    <a:lnTo>
                      <a:pt x="200" y="41"/>
                    </a:lnTo>
                    <a:lnTo>
                      <a:pt x="191" y="37"/>
                    </a:lnTo>
                    <a:lnTo>
                      <a:pt x="180" y="33"/>
                    </a:lnTo>
                    <a:lnTo>
                      <a:pt x="167" y="28"/>
                    </a:lnTo>
                    <a:lnTo>
                      <a:pt x="153" y="23"/>
                    </a:lnTo>
                    <a:lnTo>
                      <a:pt x="138" y="17"/>
                    </a:lnTo>
                    <a:lnTo>
                      <a:pt x="121" y="12"/>
                    </a:lnTo>
                    <a:lnTo>
                      <a:pt x="103" y="8"/>
                    </a:lnTo>
                    <a:lnTo>
                      <a:pt x="86" y="4"/>
                    </a:lnTo>
                    <a:lnTo>
                      <a:pt x="68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16" y="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95"/>
              <p:cNvSpPr/>
              <p:nvPr/>
            </p:nvSpPr>
            <p:spPr>
              <a:xfrm>
                <a:off x="6440400" y="1495440"/>
                <a:ext cx="435240" cy="111240"/>
              </a:xfrm>
              <a:custGeom>
                <a:avLst/>
                <a:gdLst/>
                <a:ahLst/>
                <a:rect l="l" t="t" r="r" b="b"/>
                <a:pathLst>
                  <a:path w="824" h="211">
                    <a:moveTo>
                      <a:pt x="377" y="42"/>
                    </a:moveTo>
                    <a:lnTo>
                      <a:pt x="213" y="0"/>
                    </a:lnTo>
                    <a:lnTo>
                      <a:pt x="214" y="1"/>
                    </a:lnTo>
                    <a:lnTo>
                      <a:pt x="217" y="6"/>
                    </a:lnTo>
                    <a:lnTo>
                      <a:pt x="223" y="13"/>
                    </a:lnTo>
                    <a:lnTo>
                      <a:pt x="229" y="21"/>
                    </a:lnTo>
                    <a:lnTo>
                      <a:pt x="237" y="29"/>
                    </a:lnTo>
                    <a:lnTo>
                      <a:pt x="245" y="36"/>
                    </a:lnTo>
                    <a:lnTo>
                      <a:pt x="253" y="41"/>
                    </a:lnTo>
                    <a:lnTo>
                      <a:pt x="261" y="42"/>
                    </a:lnTo>
                    <a:lnTo>
                      <a:pt x="260" y="42"/>
                    </a:lnTo>
                    <a:lnTo>
                      <a:pt x="258" y="41"/>
                    </a:lnTo>
                    <a:lnTo>
                      <a:pt x="253" y="40"/>
                    </a:lnTo>
                    <a:lnTo>
                      <a:pt x="247" y="38"/>
                    </a:lnTo>
                    <a:lnTo>
                      <a:pt x="239" y="37"/>
                    </a:lnTo>
                    <a:lnTo>
                      <a:pt x="229" y="37"/>
                    </a:lnTo>
                    <a:lnTo>
                      <a:pt x="217" y="38"/>
                    </a:lnTo>
                    <a:lnTo>
                      <a:pt x="202" y="40"/>
                    </a:lnTo>
                    <a:lnTo>
                      <a:pt x="186" y="44"/>
                    </a:lnTo>
                    <a:lnTo>
                      <a:pt x="167" y="51"/>
                    </a:lnTo>
                    <a:lnTo>
                      <a:pt x="146" y="59"/>
                    </a:lnTo>
                    <a:lnTo>
                      <a:pt x="122" y="71"/>
                    </a:lnTo>
                    <a:lnTo>
                      <a:pt x="96" y="85"/>
                    </a:lnTo>
                    <a:lnTo>
                      <a:pt x="66" y="104"/>
                    </a:lnTo>
                    <a:lnTo>
                      <a:pt x="35" y="125"/>
                    </a:lnTo>
                    <a:lnTo>
                      <a:pt x="0" y="152"/>
                    </a:lnTo>
                    <a:lnTo>
                      <a:pt x="2" y="151"/>
                    </a:lnTo>
                    <a:lnTo>
                      <a:pt x="9" y="147"/>
                    </a:lnTo>
                    <a:lnTo>
                      <a:pt x="18" y="142"/>
                    </a:lnTo>
                    <a:lnTo>
                      <a:pt x="33" y="134"/>
                    </a:lnTo>
                    <a:lnTo>
                      <a:pt x="50" y="124"/>
                    </a:lnTo>
                    <a:lnTo>
                      <a:pt x="69" y="115"/>
                    </a:lnTo>
                    <a:lnTo>
                      <a:pt x="92" y="105"/>
                    </a:lnTo>
                    <a:lnTo>
                      <a:pt x="116" y="96"/>
                    </a:lnTo>
                    <a:lnTo>
                      <a:pt x="143" y="87"/>
                    </a:lnTo>
                    <a:lnTo>
                      <a:pt x="172" y="80"/>
                    </a:lnTo>
                    <a:lnTo>
                      <a:pt x="201" y="73"/>
                    </a:lnTo>
                    <a:lnTo>
                      <a:pt x="232" y="69"/>
                    </a:lnTo>
                    <a:lnTo>
                      <a:pt x="263" y="68"/>
                    </a:lnTo>
                    <a:lnTo>
                      <a:pt x="295" y="71"/>
                    </a:lnTo>
                    <a:lnTo>
                      <a:pt x="325" y="75"/>
                    </a:lnTo>
                    <a:lnTo>
                      <a:pt x="357" y="84"/>
                    </a:lnTo>
                    <a:lnTo>
                      <a:pt x="352" y="87"/>
                    </a:lnTo>
                    <a:lnTo>
                      <a:pt x="340" y="95"/>
                    </a:lnTo>
                    <a:lnTo>
                      <a:pt x="323" y="107"/>
                    </a:lnTo>
                    <a:lnTo>
                      <a:pt x="302" y="121"/>
                    </a:lnTo>
                    <a:lnTo>
                      <a:pt x="279" y="142"/>
                    </a:lnTo>
                    <a:lnTo>
                      <a:pt x="259" y="163"/>
                    </a:lnTo>
                    <a:lnTo>
                      <a:pt x="240" y="186"/>
                    </a:lnTo>
                    <a:lnTo>
                      <a:pt x="226" y="211"/>
                    </a:lnTo>
                    <a:lnTo>
                      <a:pt x="227" y="210"/>
                    </a:lnTo>
                    <a:lnTo>
                      <a:pt x="232" y="206"/>
                    </a:lnTo>
                    <a:lnTo>
                      <a:pt x="237" y="200"/>
                    </a:lnTo>
                    <a:lnTo>
                      <a:pt x="246" y="194"/>
                    </a:lnTo>
                    <a:lnTo>
                      <a:pt x="256" y="186"/>
                    </a:lnTo>
                    <a:lnTo>
                      <a:pt x="267" y="176"/>
                    </a:lnTo>
                    <a:lnTo>
                      <a:pt x="281" y="167"/>
                    </a:lnTo>
                    <a:lnTo>
                      <a:pt x="295" y="156"/>
                    </a:lnTo>
                    <a:lnTo>
                      <a:pt x="309" y="146"/>
                    </a:lnTo>
                    <a:lnTo>
                      <a:pt x="325" y="136"/>
                    </a:lnTo>
                    <a:lnTo>
                      <a:pt x="340" y="127"/>
                    </a:lnTo>
                    <a:lnTo>
                      <a:pt x="357" y="119"/>
                    </a:lnTo>
                    <a:lnTo>
                      <a:pt x="373" y="112"/>
                    </a:lnTo>
                    <a:lnTo>
                      <a:pt x="389" y="107"/>
                    </a:lnTo>
                    <a:lnTo>
                      <a:pt x="405" y="103"/>
                    </a:lnTo>
                    <a:lnTo>
                      <a:pt x="419" y="101"/>
                    </a:lnTo>
                    <a:lnTo>
                      <a:pt x="443" y="103"/>
                    </a:lnTo>
                    <a:lnTo>
                      <a:pt x="460" y="104"/>
                    </a:lnTo>
                    <a:lnTo>
                      <a:pt x="470" y="107"/>
                    </a:lnTo>
                    <a:lnTo>
                      <a:pt x="475" y="109"/>
                    </a:lnTo>
                    <a:lnTo>
                      <a:pt x="476" y="112"/>
                    </a:lnTo>
                    <a:lnTo>
                      <a:pt x="476" y="115"/>
                    </a:lnTo>
                    <a:lnTo>
                      <a:pt x="475" y="116"/>
                    </a:lnTo>
                    <a:lnTo>
                      <a:pt x="474" y="117"/>
                    </a:lnTo>
                    <a:lnTo>
                      <a:pt x="454" y="194"/>
                    </a:lnTo>
                    <a:lnTo>
                      <a:pt x="455" y="191"/>
                    </a:lnTo>
                    <a:lnTo>
                      <a:pt x="459" y="182"/>
                    </a:lnTo>
                    <a:lnTo>
                      <a:pt x="465" y="170"/>
                    </a:lnTo>
                    <a:lnTo>
                      <a:pt x="474" y="155"/>
                    </a:lnTo>
                    <a:lnTo>
                      <a:pt x="484" y="142"/>
                    </a:lnTo>
                    <a:lnTo>
                      <a:pt x="495" y="129"/>
                    </a:lnTo>
                    <a:lnTo>
                      <a:pt x="505" y="120"/>
                    </a:lnTo>
                    <a:lnTo>
                      <a:pt x="516" y="117"/>
                    </a:lnTo>
                    <a:lnTo>
                      <a:pt x="525" y="117"/>
                    </a:lnTo>
                    <a:lnTo>
                      <a:pt x="536" y="116"/>
                    </a:lnTo>
                    <a:lnTo>
                      <a:pt x="545" y="115"/>
                    </a:lnTo>
                    <a:lnTo>
                      <a:pt x="554" y="113"/>
                    </a:lnTo>
                    <a:lnTo>
                      <a:pt x="560" y="112"/>
                    </a:lnTo>
                    <a:lnTo>
                      <a:pt x="567" y="111"/>
                    </a:lnTo>
                    <a:lnTo>
                      <a:pt x="570" y="109"/>
                    </a:lnTo>
                    <a:lnTo>
                      <a:pt x="571" y="109"/>
                    </a:lnTo>
                    <a:lnTo>
                      <a:pt x="618" y="160"/>
                    </a:lnTo>
                    <a:lnTo>
                      <a:pt x="631" y="135"/>
                    </a:lnTo>
                    <a:lnTo>
                      <a:pt x="624" y="92"/>
                    </a:lnTo>
                    <a:lnTo>
                      <a:pt x="626" y="92"/>
                    </a:lnTo>
                    <a:lnTo>
                      <a:pt x="632" y="92"/>
                    </a:lnTo>
                    <a:lnTo>
                      <a:pt x="640" y="92"/>
                    </a:lnTo>
                    <a:lnTo>
                      <a:pt x="650" y="93"/>
                    </a:lnTo>
                    <a:lnTo>
                      <a:pt x="663" y="93"/>
                    </a:lnTo>
                    <a:lnTo>
                      <a:pt x="679" y="95"/>
                    </a:lnTo>
                    <a:lnTo>
                      <a:pt x="695" y="97"/>
                    </a:lnTo>
                    <a:lnTo>
                      <a:pt x="711" y="100"/>
                    </a:lnTo>
                    <a:lnTo>
                      <a:pt x="729" y="103"/>
                    </a:lnTo>
                    <a:lnTo>
                      <a:pt x="746" y="107"/>
                    </a:lnTo>
                    <a:lnTo>
                      <a:pt x="762" y="112"/>
                    </a:lnTo>
                    <a:lnTo>
                      <a:pt x="779" y="117"/>
                    </a:lnTo>
                    <a:lnTo>
                      <a:pt x="793" y="124"/>
                    </a:lnTo>
                    <a:lnTo>
                      <a:pt x="806" y="132"/>
                    </a:lnTo>
                    <a:lnTo>
                      <a:pt x="817" y="142"/>
                    </a:lnTo>
                    <a:lnTo>
                      <a:pt x="824" y="152"/>
                    </a:lnTo>
                    <a:lnTo>
                      <a:pt x="823" y="150"/>
                    </a:lnTo>
                    <a:lnTo>
                      <a:pt x="820" y="140"/>
                    </a:lnTo>
                    <a:lnTo>
                      <a:pt x="814" y="127"/>
                    </a:lnTo>
                    <a:lnTo>
                      <a:pt x="807" y="112"/>
                    </a:lnTo>
                    <a:lnTo>
                      <a:pt x="798" y="96"/>
                    </a:lnTo>
                    <a:lnTo>
                      <a:pt x="790" y="80"/>
                    </a:lnTo>
                    <a:lnTo>
                      <a:pt x="779" y="68"/>
                    </a:lnTo>
                    <a:lnTo>
                      <a:pt x="769" y="59"/>
                    </a:lnTo>
                    <a:lnTo>
                      <a:pt x="761" y="52"/>
                    </a:lnTo>
                    <a:lnTo>
                      <a:pt x="759" y="47"/>
                    </a:lnTo>
                    <a:lnTo>
                      <a:pt x="761" y="41"/>
                    </a:lnTo>
                    <a:lnTo>
                      <a:pt x="766" y="36"/>
                    </a:lnTo>
                    <a:lnTo>
                      <a:pt x="771" y="32"/>
                    </a:lnTo>
                    <a:lnTo>
                      <a:pt x="777" y="28"/>
                    </a:lnTo>
                    <a:lnTo>
                      <a:pt x="781" y="26"/>
                    </a:lnTo>
                    <a:lnTo>
                      <a:pt x="783" y="25"/>
                    </a:lnTo>
                    <a:lnTo>
                      <a:pt x="782" y="25"/>
                    </a:lnTo>
                    <a:lnTo>
                      <a:pt x="779" y="26"/>
                    </a:lnTo>
                    <a:lnTo>
                      <a:pt x="773" y="28"/>
                    </a:lnTo>
                    <a:lnTo>
                      <a:pt x="767" y="29"/>
                    </a:lnTo>
                    <a:lnTo>
                      <a:pt x="757" y="30"/>
                    </a:lnTo>
                    <a:lnTo>
                      <a:pt x="746" y="33"/>
                    </a:lnTo>
                    <a:lnTo>
                      <a:pt x="733" y="36"/>
                    </a:lnTo>
                    <a:lnTo>
                      <a:pt x="719" y="37"/>
                    </a:lnTo>
                    <a:lnTo>
                      <a:pt x="702" y="40"/>
                    </a:lnTo>
                    <a:lnTo>
                      <a:pt x="683" y="42"/>
                    </a:lnTo>
                    <a:lnTo>
                      <a:pt x="662" y="45"/>
                    </a:lnTo>
                    <a:lnTo>
                      <a:pt x="641" y="47"/>
                    </a:lnTo>
                    <a:lnTo>
                      <a:pt x="617" y="48"/>
                    </a:lnTo>
                    <a:lnTo>
                      <a:pt x="592" y="49"/>
                    </a:lnTo>
                    <a:lnTo>
                      <a:pt x="564" y="51"/>
                    </a:lnTo>
                    <a:lnTo>
                      <a:pt x="536" y="51"/>
                    </a:lnTo>
                    <a:lnTo>
                      <a:pt x="533" y="51"/>
                    </a:lnTo>
                    <a:lnTo>
                      <a:pt x="524" y="52"/>
                    </a:lnTo>
                    <a:lnTo>
                      <a:pt x="510" y="52"/>
                    </a:lnTo>
                    <a:lnTo>
                      <a:pt x="490" y="52"/>
                    </a:lnTo>
                    <a:lnTo>
                      <a:pt x="468" y="52"/>
                    </a:lnTo>
                    <a:lnTo>
                      <a:pt x="440" y="51"/>
                    </a:lnTo>
                    <a:lnTo>
                      <a:pt x="410" y="48"/>
                    </a:lnTo>
                    <a:lnTo>
                      <a:pt x="377" y="42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96"/>
              <p:cNvSpPr/>
              <p:nvPr/>
            </p:nvSpPr>
            <p:spPr>
              <a:xfrm>
                <a:off x="6327720" y="1597320"/>
                <a:ext cx="231840" cy="693720"/>
              </a:xfrm>
              <a:custGeom>
                <a:avLst/>
                <a:gdLst/>
                <a:ahLst/>
                <a:rect l="l" t="t" r="r" b="b"/>
                <a:pathLst>
                  <a:path w="439" h="1311">
                    <a:moveTo>
                      <a:pt x="185" y="0"/>
                    </a:moveTo>
                    <a:lnTo>
                      <a:pt x="180" y="6"/>
                    </a:lnTo>
                    <a:lnTo>
                      <a:pt x="170" y="28"/>
                    </a:lnTo>
                    <a:lnTo>
                      <a:pt x="154" y="63"/>
                    </a:lnTo>
                    <a:lnTo>
                      <a:pt x="137" y="108"/>
                    </a:lnTo>
                    <a:lnTo>
                      <a:pt x="117" y="166"/>
                    </a:lnTo>
                    <a:lnTo>
                      <a:pt x="99" y="233"/>
                    </a:lnTo>
                    <a:lnTo>
                      <a:pt x="83" y="308"/>
                    </a:lnTo>
                    <a:lnTo>
                      <a:pt x="73" y="392"/>
                    </a:lnTo>
                    <a:lnTo>
                      <a:pt x="67" y="483"/>
                    </a:lnTo>
                    <a:lnTo>
                      <a:pt x="71" y="581"/>
                    </a:lnTo>
                    <a:lnTo>
                      <a:pt x="86" y="682"/>
                    </a:lnTo>
                    <a:lnTo>
                      <a:pt x="112" y="788"/>
                    </a:lnTo>
                    <a:lnTo>
                      <a:pt x="153" y="898"/>
                    </a:lnTo>
                    <a:lnTo>
                      <a:pt x="209" y="1009"/>
                    </a:lnTo>
                    <a:lnTo>
                      <a:pt x="284" y="1123"/>
                    </a:lnTo>
                    <a:lnTo>
                      <a:pt x="377" y="1235"/>
                    </a:lnTo>
                    <a:lnTo>
                      <a:pt x="439" y="1311"/>
                    </a:lnTo>
                    <a:lnTo>
                      <a:pt x="436" y="1310"/>
                    </a:lnTo>
                    <a:lnTo>
                      <a:pt x="425" y="1303"/>
                    </a:lnTo>
                    <a:lnTo>
                      <a:pt x="409" y="1294"/>
                    </a:lnTo>
                    <a:lnTo>
                      <a:pt x="387" y="1281"/>
                    </a:lnTo>
                    <a:lnTo>
                      <a:pt x="361" y="1265"/>
                    </a:lnTo>
                    <a:lnTo>
                      <a:pt x="331" y="1246"/>
                    </a:lnTo>
                    <a:lnTo>
                      <a:pt x="300" y="1223"/>
                    </a:lnTo>
                    <a:lnTo>
                      <a:pt x="265" y="1198"/>
                    </a:lnTo>
                    <a:lnTo>
                      <a:pt x="230" y="1170"/>
                    </a:lnTo>
                    <a:lnTo>
                      <a:pt x="194" y="1139"/>
                    </a:lnTo>
                    <a:lnTo>
                      <a:pt x="160" y="1107"/>
                    </a:lnTo>
                    <a:lnTo>
                      <a:pt x="126" y="1072"/>
                    </a:lnTo>
                    <a:lnTo>
                      <a:pt x="94" y="1034"/>
                    </a:lnTo>
                    <a:lnTo>
                      <a:pt x="65" y="996"/>
                    </a:lnTo>
                    <a:lnTo>
                      <a:pt x="40" y="955"/>
                    </a:lnTo>
                    <a:lnTo>
                      <a:pt x="19" y="913"/>
                    </a:lnTo>
                    <a:lnTo>
                      <a:pt x="21" y="914"/>
                    </a:lnTo>
                    <a:lnTo>
                      <a:pt x="27" y="915"/>
                    </a:lnTo>
                    <a:lnTo>
                      <a:pt x="36" y="918"/>
                    </a:lnTo>
                    <a:lnTo>
                      <a:pt x="44" y="921"/>
                    </a:lnTo>
                    <a:lnTo>
                      <a:pt x="54" y="919"/>
                    </a:lnTo>
                    <a:lnTo>
                      <a:pt x="64" y="917"/>
                    </a:lnTo>
                    <a:lnTo>
                      <a:pt x="70" y="909"/>
                    </a:lnTo>
                    <a:lnTo>
                      <a:pt x="75" y="897"/>
                    </a:lnTo>
                    <a:lnTo>
                      <a:pt x="73" y="891"/>
                    </a:lnTo>
                    <a:lnTo>
                      <a:pt x="66" y="874"/>
                    </a:lnTo>
                    <a:lnTo>
                      <a:pt x="56" y="847"/>
                    </a:lnTo>
                    <a:lnTo>
                      <a:pt x="44" y="811"/>
                    </a:lnTo>
                    <a:lnTo>
                      <a:pt x="32" y="767"/>
                    </a:lnTo>
                    <a:lnTo>
                      <a:pt x="20" y="714"/>
                    </a:lnTo>
                    <a:lnTo>
                      <a:pt x="11" y="657"/>
                    </a:lnTo>
                    <a:lnTo>
                      <a:pt x="3" y="594"/>
                    </a:lnTo>
                    <a:lnTo>
                      <a:pt x="0" y="526"/>
                    </a:lnTo>
                    <a:lnTo>
                      <a:pt x="2" y="453"/>
                    </a:lnTo>
                    <a:lnTo>
                      <a:pt x="9" y="380"/>
                    </a:lnTo>
                    <a:lnTo>
                      <a:pt x="25" y="304"/>
                    </a:lnTo>
                    <a:lnTo>
                      <a:pt x="50" y="227"/>
                    </a:lnTo>
                    <a:lnTo>
                      <a:pt x="83" y="150"/>
                    </a:lnTo>
                    <a:lnTo>
                      <a:pt x="128" y="73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97"/>
              <p:cNvSpPr/>
              <p:nvPr/>
            </p:nvSpPr>
            <p:spPr>
              <a:xfrm>
                <a:off x="6461280" y="1623960"/>
                <a:ext cx="106200" cy="578160"/>
              </a:xfrm>
              <a:custGeom>
                <a:avLst/>
                <a:gdLst/>
                <a:ahLst/>
                <a:rect l="l" t="t" r="r" b="b"/>
                <a:pathLst>
                  <a:path w="199" h="1090">
                    <a:moveTo>
                      <a:pt x="158" y="0"/>
                    </a:moveTo>
                    <a:lnTo>
                      <a:pt x="156" y="6"/>
                    </a:lnTo>
                    <a:lnTo>
                      <a:pt x="149" y="25"/>
                    </a:lnTo>
                    <a:lnTo>
                      <a:pt x="141" y="57"/>
                    </a:lnTo>
                    <a:lnTo>
                      <a:pt x="130" y="99"/>
                    </a:lnTo>
                    <a:lnTo>
                      <a:pt x="118" y="151"/>
                    </a:lnTo>
                    <a:lnTo>
                      <a:pt x="106" y="211"/>
                    </a:lnTo>
                    <a:lnTo>
                      <a:pt x="95" y="279"/>
                    </a:lnTo>
                    <a:lnTo>
                      <a:pt x="86" y="354"/>
                    </a:lnTo>
                    <a:lnTo>
                      <a:pt x="80" y="436"/>
                    </a:lnTo>
                    <a:lnTo>
                      <a:pt x="77" y="523"/>
                    </a:lnTo>
                    <a:lnTo>
                      <a:pt x="80" y="613"/>
                    </a:lnTo>
                    <a:lnTo>
                      <a:pt x="88" y="706"/>
                    </a:lnTo>
                    <a:lnTo>
                      <a:pt x="104" y="801"/>
                    </a:lnTo>
                    <a:lnTo>
                      <a:pt x="126" y="898"/>
                    </a:lnTo>
                    <a:lnTo>
                      <a:pt x="158" y="994"/>
                    </a:lnTo>
                    <a:lnTo>
                      <a:pt x="199" y="1090"/>
                    </a:lnTo>
                    <a:lnTo>
                      <a:pt x="195" y="1084"/>
                    </a:lnTo>
                    <a:lnTo>
                      <a:pt x="182" y="1065"/>
                    </a:lnTo>
                    <a:lnTo>
                      <a:pt x="163" y="1036"/>
                    </a:lnTo>
                    <a:lnTo>
                      <a:pt x="139" y="995"/>
                    </a:lnTo>
                    <a:lnTo>
                      <a:pt x="113" y="945"/>
                    </a:lnTo>
                    <a:lnTo>
                      <a:pt x="86" y="886"/>
                    </a:lnTo>
                    <a:lnTo>
                      <a:pt x="60" y="819"/>
                    </a:lnTo>
                    <a:lnTo>
                      <a:pt x="37" y="745"/>
                    </a:lnTo>
                    <a:lnTo>
                      <a:pt x="18" y="665"/>
                    </a:lnTo>
                    <a:lnTo>
                      <a:pt x="5" y="579"/>
                    </a:lnTo>
                    <a:lnTo>
                      <a:pt x="0" y="488"/>
                    </a:lnTo>
                    <a:lnTo>
                      <a:pt x="5" y="394"/>
                    </a:lnTo>
                    <a:lnTo>
                      <a:pt x="21" y="298"/>
                    </a:lnTo>
                    <a:lnTo>
                      <a:pt x="51" y="199"/>
                    </a:lnTo>
                    <a:lnTo>
                      <a:pt x="96" y="10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98"/>
              <p:cNvSpPr/>
              <p:nvPr/>
            </p:nvSpPr>
            <p:spPr>
              <a:xfrm>
                <a:off x="6657840" y="1656000"/>
                <a:ext cx="34920" cy="573120"/>
              </a:xfrm>
              <a:custGeom>
                <a:avLst/>
                <a:gdLst/>
                <a:ahLst/>
                <a:rect l="l" t="t" r="r" b="b"/>
                <a:pathLst>
                  <a:path w="65" h="1081">
                    <a:moveTo>
                      <a:pt x="56" y="0"/>
                    </a:moveTo>
                    <a:lnTo>
                      <a:pt x="51" y="27"/>
                    </a:lnTo>
                    <a:lnTo>
                      <a:pt x="39" y="102"/>
                    </a:lnTo>
                    <a:lnTo>
                      <a:pt x="24" y="215"/>
                    </a:lnTo>
                    <a:lnTo>
                      <a:pt x="10" y="360"/>
                    </a:lnTo>
                    <a:lnTo>
                      <a:pt x="0" y="527"/>
                    </a:lnTo>
                    <a:lnTo>
                      <a:pt x="0" y="709"/>
                    </a:lnTo>
                    <a:lnTo>
                      <a:pt x="12" y="897"/>
                    </a:lnTo>
                    <a:lnTo>
                      <a:pt x="42" y="1081"/>
                    </a:lnTo>
                    <a:lnTo>
                      <a:pt x="44" y="1047"/>
                    </a:lnTo>
                    <a:lnTo>
                      <a:pt x="48" y="954"/>
                    </a:lnTo>
                    <a:lnTo>
                      <a:pt x="53" y="816"/>
                    </a:lnTo>
                    <a:lnTo>
                      <a:pt x="59" y="650"/>
                    </a:lnTo>
                    <a:lnTo>
                      <a:pt x="63" y="471"/>
                    </a:lnTo>
                    <a:lnTo>
                      <a:pt x="65" y="293"/>
                    </a:lnTo>
                    <a:lnTo>
                      <a:pt x="63" y="1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99"/>
              <p:cNvSpPr/>
              <p:nvPr/>
            </p:nvSpPr>
            <p:spPr>
              <a:xfrm>
                <a:off x="6912000" y="1498680"/>
                <a:ext cx="139680" cy="339840"/>
              </a:xfrm>
              <a:custGeom>
                <a:avLst/>
                <a:gdLst/>
                <a:ahLst/>
                <a:rect l="l" t="t" r="r" b="b"/>
                <a:pathLst>
                  <a:path w="262" h="642">
                    <a:moveTo>
                      <a:pt x="0" y="0"/>
                    </a:moveTo>
                    <a:lnTo>
                      <a:pt x="2" y="2"/>
                    </a:lnTo>
                    <a:lnTo>
                      <a:pt x="10" y="10"/>
                    </a:lnTo>
                    <a:lnTo>
                      <a:pt x="22" y="22"/>
                    </a:lnTo>
                    <a:lnTo>
                      <a:pt x="37" y="41"/>
                    </a:lnTo>
                    <a:lnTo>
                      <a:pt x="54" y="64"/>
                    </a:lnTo>
                    <a:lnTo>
                      <a:pt x="75" y="92"/>
                    </a:lnTo>
                    <a:lnTo>
                      <a:pt x="97" y="124"/>
                    </a:lnTo>
                    <a:lnTo>
                      <a:pt x="120" y="163"/>
                    </a:lnTo>
                    <a:lnTo>
                      <a:pt x="143" y="206"/>
                    </a:lnTo>
                    <a:lnTo>
                      <a:pt x="165" y="254"/>
                    </a:lnTo>
                    <a:lnTo>
                      <a:pt x="186" y="306"/>
                    </a:lnTo>
                    <a:lnTo>
                      <a:pt x="206" y="364"/>
                    </a:lnTo>
                    <a:lnTo>
                      <a:pt x="223" y="427"/>
                    </a:lnTo>
                    <a:lnTo>
                      <a:pt x="237" y="494"/>
                    </a:lnTo>
                    <a:lnTo>
                      <a:pt x="248" y="566"/>
                    </a:lnTo>
                    <a:lnTo>
                      <a:pt x="255" y="642"/>
                    </a:lnTo>
                    <a:lnTo>
                      <a:pt x="256" y="638"/>
                    </a:lnTo>
                    <a:lnTo>
                      <a:pt x="257" y="625"/>
                    </a:lnTo>
                    <a:lnTo>
                      <a:pt x="259" y="603"/>
                    </a:lnTo>
                    <a:lnTo>
                      <a:pt x="261" y="575"/>
                    </a:lnTo>
                    <a:lnTo>
                      <a:pt x="262" y="540"/>
                    </a:lnTo>
                    <a:lnTo>
                      <a:pt x="261" y="502"/>
                    </a:lnTo>
                    <a:lnTo>
                      <a:pt x="258" y="457"/>
                    </a:lnTo>
                    <a:lnTo>
                      <a:pt x="251" y="409"/>
                    </a:lnTo>
                    <a:lnTo>
                      <a:pt x="240" y="360"/>
                    </a:lnTo>
                    <a:lnTo>
                      <a:pt x="225" y="308"/>
                    </a:lnTo>
                    <a:lnTo>
                      <a:pt x="206" y="254"/>
                    </a:lnTo>
                    <a:lnTo>
                      <a:pt x="178" y="200"/>
                    </a:lnTo>
                    <a:lnTo>
                      <a:pt x="146" y="147"/>
                    </a:lnTo>
                    <a:lnTo>
                      <a:pt x="106" y="95"/>
                    </a:lnTo>
                    <a:lnTo>
                      <a:pt x="58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100"/>
              <p:cNvSpPr/>
              <p:nvPr/>
            </p:nvSpPr>
            <p:spPr>
              <a:xfrm>
                <a:off x="6850080" y="1838520"/>
                <a:ext cx="95400" cy="452520"/>
              </a:xfrm>
              <a:custGeom>
                <a:avLst/>
                <a:gdLst/>
                <a:ahLst/>
                <a:rect l="l" t="t" r="r" b="b"/>
                <a:pathLst>
                  <a:path w="180" h="855">
                    <a:moveTo>
                      <a:pt x="0" y="855"/>
                    </a:moveTo>
                    <a:lnTo>
                      <a:pt x="2" y="853"/>
                    </a:lnTo>
                    <a:lnTo>
                      <a:pt x="9" y="843"/>
                    </a:lnTo>
                    <a:lnTo>
                      <a:pt x="20" y="827"/>
                    </a:lnTo>
                    <a:lnTo>
                      <a:pt x="33" y="805"/>
                    </a:lnTo>
                    <a:lnTo>
                      <a:pt x="48" y="776"/>
                    </a:lnTo>
                    <a:lnTo>
                      <a:pt x="65" y="742"/>
                    </a:lnTo>
                    <a:lnTo>
                      <a:pt x="82" y="699"/>
                    </a:lnTo>
                    <a:lnTo>
                      <a:pt x="99" y="651"/>
                    </a:lnTo>
                    <a:lnTo>
                      <a:pt x="114" y="594"/>
                    </a:lnTo>
                    <a:lnTo>
                      <a:pt x="127" y="532"/>
                    </a:lnTo>
                    <a:lnTo>
                      <a:pt x="137" y="462"/>
                    </a:lnTo>
                    <a:lnTo>
                      <a:pt x="142" y="384"/>
                    </a:lnTo>
                    <a:lnTo>
                      <a:pt x="143" y="299"/>
                    </a:lnTo>
                    <a:lnTo>
                      <a:pt x="139" y="208"/>
                    </a:lnTo>
                    <a:lnTo>
                      <a:pt x="128" y="107"/>
                    </a:lnTo>
                    <a:lnTo>
                      <a:pt x="110" y="0"/>
                    </a:lnTo>
                    <a:lnTo>
                      <a:pt x="113" y="6"/>
                    </a:lnTo>
                    <a:lnTo>
                      <a:pt x="118" y="20"/>
                    </a:lnTo>
                    <a:lnTo>
                      <a:pt x="127" y="44"/>
                    </a:lnTo>
                    <a:lnTo>
                      <a:pt x="137" y="76"/>
                    </a:lnTo>
                    <a:lnTo>
                      <a:pt x="147" y="117"/>
                    </a:lnTo>
                    <a:lnTo>
                      <a:pt x="158" y="163"/>
                    </a:lnTo>
                    <a:lnTo>
                      <a:pt x="167" y="216"/>
                    </a:lnTo>
                    <a:lnTo>
                      <a:pt x="175" y="275"/>
                    </a:lnTo>
                    <a:lnTo>
                      <a:pt x="179" y="337"/>
                    </a:lnTo>
                    <a:lnTo>
                      <a:pt x="180" y="404"/>
                    </a:lnTo>
                    <a:lnTo>
                      <a:pt x="176" y="474"/>
                    </a:lnTo>
                    <a:lnTo>
                      <a:pt x="166" y="546"/>
                    </a:lnTo>
                    <a:lnTo>
                      <a:pt x="149" y="620"/>
                    </a:lnTo>
                    <a:lnTo>
                      <a:pt x="125" y="696"/>
                    </a:lnTo>
                    <a:lnTo>
                      <a:pt x="91" y="771"/>
                    </a:lnTo>
                    <a:lnTo>
                      <a:pt x="48" y="846"/>
                    </a:lnTo>
                    <a:lnTo>
                      <a:pt x="0" y="855"/>
                    </a:lnTo>
                    <a:close/>
                  </a:path>
                </a:pathLst>
              </a:custGeom>
              <a:solidFill>
                <a:srgbClr val="ea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01"/>
              <p:cNvSpPr/>
              <p:nvPr/>
            </p:nvSpPr>
            <p:spPr>
              <a:xfrm>
                <a:off x="6807240" y="1717920"/>
                <a:ext cx="55440" cy="511200"/>
              </a:xfrm>
              <a:custGeom>
                <a:avLst/>
                <a:gdLst/>
                <a:ahLst/>
                <a:rect l="l" t="t" r="r" b="b"/>
                <a:pathLst>
                  <a:path w="105" h="965">
                    <a:moveTo>
                      <a:pt x="14" y="965"/>
                    </a:moveTo>
                    <a:lnTo>
                      <a:pt x="16" y="940"/>
                    </a:lnTo>
                    <a:lnTo>
                      <a:pt x="23" y="872"/>
                    </a:lnTo>
                    <a:lnTo>
                      <a:pt x="29" y="767"/>
                    </a:lnTo>
                    <a:lnTo>
                      <a:pt x="36" y="635"/>
                    </a:lnTo>
                    <a:lnTo>
                      <a:pt x="38" y="485"/>
                    </a:lnTo>
                    <a:lnTo>
                      <a:pt x="35" y="323"/>
                    </a:lnTo>
                    <a:lnTo>
                      <a:pt x="23" y="15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10" y="19"/>
                    </a:lnTo>
                    <a:lnTo>
                      <a:pt x="19" y="43"/>
                    </a:lnTo>
                    <a:lnTo>
                      <a:pt x="32" y="75"/>
                    </a:lnTo>
                    <a:lnTo>
                      <a:pt x="46" y="115"/>
                    </a:lnTo>
                    <a:lnTo>
                      <a:pt x="61" y="162"/>
                    </a:lnTo>
                    <a:lnTo>
                      <a:pt x="75" y="217"/>
                    </a:lnTo>
                    <a:lnTo>
                      <a:pt x="87" y="280"/>
                    </a:lnTo>
                    <a:lnTo>
                      <a:pt x="97" y="348"/>
                    </a:lnTo>
                    <a:lnTo>
                      <a:pt x="103" y="422"/>
                    </a:lnTo>
                    <a:lnTo>
                      <a:pt x="105" y="501"/>
                    </a:lnTo>
                    <a:lnTo>
                      <a:pt x="102" y="585"/>
                    </a:lnTo>
                    <a:lnTo>
                      <a:pt x="92" y="675"/>
                    </a:lnTo>
                    <a:lnTo>
                      <a:pt x="75" y="769"/>
                    </a:lnTo>
                    <a:lnTo>
                      <a:pt x="49" y="865"/>
                    </a:lnTo>
                    <a:lnTo>
                      <a:pt x="14" y="965"/>
                    </a:lnTo>
                    <a:close/>
                  </a:path>
                </a:pathLst>
              </a:custGeom>
              <a:solidFill>
                <a:srgbClr val="ffa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02"/>
              <p:cNvSpPr/>
              <p:nvPr/>
            </p:nvSpPr>
            <p:spPr>
              <a:xfrm>
                <a:off x="6251400" y="1629000"/>
                <a:ext cx="231840" cy="622080"/>
              </a:xfrm>
              <a:custGeom>
                <a:avLst/>
                <a:gdLst/>
                <a:ahLst/>
                <a:rect l="l" t="t" r="r" b="b"/>
                <a:pathLst>
                  <a:path w="437" h="1175">
                    <a:moveTo>
                      <a:pt x="161" y="641"/>
                    </a:moveTo>
                    <a:lnTo>
                      <a:pt x="168" y="683"/>
                    </a:lnTo>
                    <a:lnTo>
                      <a:pt x="176" y="725"/>
                    </a:lnTo>
                    <a:lnTo>
                      <a:pt x="187" y="770"/>
                    </a:lnTo>
                    <a:lnTo>
                      <a:pt x="201" y="814"/>
                    </a:lnTo>
                    <a:lnTo>
                      <a:pt x="217" y="859"/>
                    </a:lnTo>
                    <a:lnTo>
                      <a:pt x="235" y="905"/>
                    </a:lnTo>
                    <a:lnTo>
                      <a:pt x="256" y="950"/>
                    </a:lnTo>
                    <a:lnTo>
                      <a:pt x="280" y="997"/>
                    </a:lnTo>
                    <a:lnTo>
                      <a:pt x="278" y="996"/>
                    </a:lnTo>
                    <a:lnTo>
                      <a:pt x="273" y="992"/>
                    </a:lnTo>
                    <a:lnTo>
                      <a:pt x="266" y="985"/>
                    </a:lnTo>
                    <a:lnTo>
                      <a:pt x="255" y="976"/>
                    </a:lnTo>
                    <a:lnTo>
                      <a:pt x="243" y="962"/>
                    </a:lnTo>
                    <a:lnTo>
                      <a:pt x="227" y="948"/>
                    </a:lnTo>
                    <a:lnTo>
                      <a:pt x="212" y="929"/>
                    </a:lnTo>
                    <a:lnTo>
                      <a:pt x="195" y="909"/>
                    </a:lnTo>
                    <a:lnTo>
                      <a:pt x="177" y="885"/>
                    </a:lnTo>
                    <a:lnTo>
                      <a:pt x="159" y="857"/>
                    </a:lnTo>
                    <a:lnTo>
                      <a:pt x="140" y="827"/>
                    </a:lnTo>
                    <a:lnTo>
                      <a:pt x="123" y="794"/>
                    </a:lnTo>
                    <a:lnTo>
                      <a:pt x="106" y="756"/>
                    </a:lnTo>
                    <a:lnTo>
                      <a:pt x="88" y="717"/>
                    </a:lnTo>
                    <a:lnTo>
                      <a:pt x="73" y="675"/>
                    </a:lnTo>
                    <a:lnTo>
                      <a:pt x="60" y="628"/>
                    </a:lnTo>
                    <a:lnTo>
                      <a:pt x="46" y="566"/>
                    </a:lnTo>
                    <a:lnTo>
                      <a:pt x="36" y="501"/>
                    </a:lnTo>
                    <a:lnTo>
                      <a:pt x="32" y="432"/>
                    </a:lnTo>
                    <a:lnTo>
                      <a:pt x="33" y="359"/>
                    </a:lnTo>
                    <a:lnTo>
                      <a:pt x="39" y="280"/>
                    </a:lnTo>
                    <a:lnTo>
                      <a:pt x="52" y="194"/>
                    </a:lnTo>
                    <a:lnTo>
                      <a:pt x="73" y="100"/>
                    </a:lnTo>
                    <a:lnTo>
                      <a:pt x="101" y="0"/>
                    </a:lnTo>
                    <a:lnTo>
                      <a:pt x="95" y="12"/>
                    </a:lnTo>
                    <a:lnTo>
                      <a:pt x="77" y="44"/>
                    </a:lnTo>
                    <a:lnTo>
                      <a:pt x="56" y="98"/>
                    </a:lnTo>
                    <a:lnTo>
                      <a:pt x="32" y="169"/>
                    </a:lnTo>
                    <a:lnTo>
                      <a:pt x="12" y="254"/>
                    </a:lnTo>
                    <a:lnTo>
                      <a:pt x="0" y="355"/>
                    </a:lnTo>
                    <a:lnTo>
                      <a:pt x="1" y="467"/>
                    </a:lnTo>
                    <a:lnTo>
                      <a:pt x="20" y="590"/>
                    </a:lnTo>
                    <a:lnTo>
                      <a:pt x="28" y="626"/>
                    </a:lnTo>
                    <a:lnTo>
                      <a:pt x="39" y="664"/>
                    </a:lnTo>
                    <a:lnTo>
                      <a:pt x="52" y="700"/>
                    </a:lnTo>
                    <a:lnTo>
                      <a:pt x="68" y="737"/>
                    </a:lnTo>
                    <a:lnTo>
                      <a:pt x="84" y="775"/>
                    </a:lnTo>
                    <a:lnTo>
                      <a:pt x="103" y="811"/>
                    </a:lnTo>
                    <a:lnTo>
                      <a:pt x="124" y="849"/>
                    </a:lnTo>
                    <a:lnTo>
                      <a:pt x="148" y="886"/>
                    </a:lnTo>
                    <a:lnTo>
                      <a:pt x="174" y="924"/>
                    </a:lnTo>
                    <a:lnTo>
                      <a:pt x="204" y="960"/>
                    </a:lnTo>
                    <a:lnTo>
                      <a:pt x="235" y="997"/>
                    </a:lnTo>
                    <a:lnTo>
                      <a:pt x="270" y="1033"/>
                    </a:lnTo>
                    <a:lnTo>
                      <a:pt x="307" y="1069"/>
                    </a:lnTo>
                    <a:lnTo>
                      <a:pt x="347" y="1106"/>
                    </a:lnTo>
                    <a:lnTo>
                      <a:pt x="391" y="1140"/>
                    </a:lnTo>
                    <a:lnTo>
                      <a:pt x="437" y="1175"/>
                    </a:lnTo>
                    <a:lnTo>
                      <a:pt x="435" y="1172"/>
                    </a:lnTo>
                    <a:lnTo>
                      <a:pt x="430" y="1164"/>
                    </a:lnTo>
                    <a:lnTo>
                      <a:pt x="421" y="1151"/>
                    </a:lnTo>
                    <a:lnTo>
                      <a:pt x="410" y="1132"/>
                    </a:lnTo>
                    <a:lnTo>
                      <a:pt x="396" y="1110"/>
                    </a:lnTo>
                    <a:lnTo>
                      <a:pt x="380" y="1081"/>
                    </a:lnTo>
                    <a:lnTo>
                      <a:pt x="362" y="1051"/>
                    </a:lnTo>
                    <a:lnTo>
                      <a:pt x="344" y="1016"/>
                    </a:lnTo>
                    <a:lnTo>
                      <a:pt x="324" y="977"/>
                    </a:lnTo>
                    <a:lnTo>
                      <a:pt x="305" y="936"/>
                    </a:lnTo>
                    <a:lnTo>
                      <a:pt x="285" y="891"/>
                    </a:lnTo>
                    <a:lnTo>
                      <a:pt x="264" y="843"/>
                    </a:lnTo>
                    <a:lnTo>
                      <a:pt x="246" y="795"/>
                    </a:lnTo>
                    <a:lnTo>
                      <a:pt x="227" y="743"/>
                    </a:lnTo>
                    <a:lnTo>
                      <a:pt x="211" y="691"/>
                    </a:lnTo>
                    <a:lnTo>
                      <a:pt x="197" y="636"/>
                    </a:lnTo>
                    <a:lnTo>
                      <a:pt x="185" y="573"/>
                    </a:lnTo>
                    <a:lnTo>
                      <a:pt x="176" y="509"/>
                    </a:lnTo>
                    <a:lnTo>
                      <a:pt x="173" y="444"/>
                    </a:lnTo>
                    <a:lnTo>
                      <a:pt x="173" y="379"/>
                    </a:lnTo>
                    <a:lnTo>
                      <a:pt x="179" y="315"/>
                    </a:lnTo>
                    <a:lnTo>
                      <a:pt x="187" y="253"/>
                    </a:lnTo>
                    <a:lnTo>
                      <a:pt x="200" y="193"/>
                    </a:lnTo>
                    <a:lnTo>
                      <a:pt x="218" y="135"/>
                    </a:lnTo>
                    <a:lnTo>
                      <a:pt x="213" y="145"/>
                    </a:lnTo>
                    <a:lnTo>
                      <a:pt x="204" y="173"/>
                    </a:lnTo>
                    <a:lnTo>
                      <a:pt x="189" y="218"/>
                    </a:lnTo>
                    <a:lnTo>
                      <a:pt x="174" y="278"/>
                    </a:lnTo>
                    <a:lnTo>
                      <a:pt x="161" y="352"/>
                    </a:lnTo>
                    <a:lnTo>
                      <a:pt x="152" y="439"/>
                    </a:lnTo>
                    <a:lnTo>
                      <a:pt x="151" y="535"/>
                    </a:lnTo>
                    <a:lnTo>
                      <a:pt x="161" y="641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03"/>
              <p:cNvSpPr/>
              <p:nvPr/>
            </p:nvSpPr>
            <p:spPr>
              <a:xfrm>
                <a:off x="6458040" y="152892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227" h="71">
                    <a:moveTo>
                      <a:pt x="227" y="4"/>
                    </a:moveTo>
                    <a:lnTo>
                      <a:pt x="226" y="4"/>
                    </a:lnTo>
                    <a:lnTo>
                      <a:pt x="222" y="4"/>
                    </a:lnTo>
                    <a:lnTo>
                      <a:pt x="215" y="5"/>
                    </a:lnTo>
                    <a:lnTo>
                      <a:pt x="207" y="7"/>
                    </a:lnTo>
                    <a:lnTo>
                      <a:pt x="196" y="8"/>
                    </a:lnTo>
                    <a:lnTo>
                      <a:pt x="185" y="9"/>
                    </a:lnTo>
                    <a:lnTo>
                      <a:pt x="170" y="12"/>
                    </a:lnTo>
                    <a:lnTo>
                      <a:pt x="154" y="15"/>
                    </a:lnTo>
                    <a:lnTo>
                      <a:pt x="138" y="19"/>
                    </a:lnTo>
                    <a:lnTo>
                      <a:pt x="120" y="24"/>
                    </a:lnTo>
                    <a:lnTo>
                      <a:pt x="101" y="29"/>
                    </a:lnTo>
                    <a:lnTo>
                      <a:pt x="81" y="36"/>
                    </a:lnTo>
                    <a:lnTo>
                      <a:pt x="62" y="43"/>
                    </a:lnTo>
                    <a:lnTo>
                      <a:pt x="41" y="51"/>
                    </a:lnTo>
                    <a:lnTo>
                      <a:pt x="20" y="60"/>
                    </a:lnTo>
                    <a:lnTo>
                      <a:pt x="0" y="71"/>
                    </a:lnTo>
                    <a:lnTo>
                      <a:pt x="1" y="70"/>
                    </a:lnTo>
                    <a:lnTo>
                      <a:pt x="4" y="67"/>
                    </a:lnTo>
                    <a:lnTo>
                      <a:pt x="8" y="63"/>
                    </a:lnTo>
                    <a:lnTo>
                      <a:pt x="16" y="57"/>
                    </a:lnTo>
                    <a:lnTo>
                      <a:pt x="25" y="51"/>
                    </a:lnTo>
                    <a:lnTo>
                      <a:pt x="35" y="43"/>
                    </a:lnTo>
                    <a:lnTo>
                      <a:pt x="47" y="36"/>
                    </a:lnTo>
                    <a:lnTo>
                      <a:pt x="62" y="28"/>
                    </a:lnTo>
                    <a:lnTo>
                      <a:pt x="77" y="20"/>
                    </a:lnTo>
                    <a:lnTo>
                      <a:pt x="94" y="13"/>
                    </a:lnTo>
                    <a:lnTo>
                      <a:pt x="113" y="8"/>
                    </a:lnTo>
                    <a:lnTo>
                      <a:pt x="133" y="4"/>
                    </a:lnTo>
                    <a:lnTo>
                      <a:pt x="155" y="1"/>
                    </a:lnTo>
                    <a:lnTo>
                      <a:pt x="178" y="0"/>
                    </a:lnTo>
                    <a:lnTo>
                      <a:pt x="202" y="0"/>
                    </a:lnTo>
                    <a:lnTo>
                      <a:pt x="227" y="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04"/>
              <p:cNvSpPr/>
              <p:nvPr/>
            </p:nvSpPr>
            <p:spPr>
              <a:xfrm>
                <a:off x="6459480" y="1739880"/>
                <a:ext cx="71640" cy="400320"/>
              </a:xfrm>
              <a:custGeom>
                <a:avLst/>
                <a:gdLst/>
                <a:ahLst/>
                <a:rect l="l" t="t" r="r" b="b"/>
                <a:pathLst>
                  <a:path w="134" h="754">
                    <a:moveTo>
                      <a:pt x="51" y="0"/>
                    </a:moveTo>
                    <a:lnTo>
                      <a:pt x="48" y="13"/>
                    </a:lnTo>
                    <a:lnTo>
                      <a:pt x="41" y="51"/>
                    </a:lnTo>
                    <a:lnTo>
                      <a:pt x="36" y="114"/>
                    </a:lnTo>
                    <a:lnTo>
                      <a:pt x="33" y="200"/>
                    </a:lnTo>
                    <a:lnTo>
                      <a:pt x="38" y="307"/>
                    </a:lnTo>
                    <a:lnTo>
                      <a:pt x="54" y="436"/>
                    </a:lnTo>
                    <a:lnTo>
                      <a:pt x="85" y="585"/>
                    </a:lnTo>
                    <a:lnTo>
                      <a:pt x="134" y="754"/>
                    </a:lnTo>
                    <a:lnTo>
                      <a:pt x="132" y="750"/>
                    </a:lnTo>
                    <a:lnTo>
                      <a:pt x="124" y="736"/>
                    </a:lnTo>
                    <a:lnTo>
                      <a:pt x="113" y="716"/>
                    </a:lnTo>
                    <a:lnTo>
                      <a:pt x="100" y="688"/>
                    </a:lnTo>
                    <a:lnTo>
                      <a:pt x="84" y="653"/>
                    </a:lnTo>
                    <a:lnTo>
                      <a:pt x="67" y="613"/>
                    </a:lnTo>
                    <a:lnTo>
                      <a:pt x="51" y="568"/>
                    </a:lnTo>
                    <a:lnTo>
                      <a:pt x="36" y="517"/>
                    </a:lnTo>
                    <a:lnTo>
                      <a:pt x="22" y="461"/>
                    </a:lnTo>
                    <a:lnTo>
                      <a:pt x="11" y="402"/>
                    </a:lnTo>
                    <a:lnTo>
                      <a:pt x="3" y="340"/>
                    </a:lnTo>
                    <a:lnTo>
                      <a:pt x="0" y="274"/>
                    </a:lnTo>
                    <a:lnTo>
                      <a:pt x="2" y="208"/>
                    </a:lnTo>
                    <a:lnTo>
                      <a:pt x="11" y="139"/>
                    </a:lnTo>
                    <a:lnTo>
                      <a:pt x="27" y="7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05"/>
              <p:cNvSpPr/>
              <p:nvPr/>
            </p:nvSpPr>
            <p:spPr>
              <a:xfrm>
                <a:off x="6667560" y="1758960"/>
                <a:ext cx="15840" cy="393840"/>
              </a:xfrm>
              <a:custGeom>
                <a:avLst/>
                <a:gdLst/>
                <a:ahLst/>
                <a:rect l="l" t="t" r="r" b="b"/>
                <a:pathLst>
                  <a:path w="29" h="745">
                    <a:moveTo>
                      <a:pt x="29" y="0"/>
                    </a:moveTo>
                    <a:lnTo>
                      <a:pt x="28" y="96"/>
                    </a:lnTo>
                    <a:lnTo>
                      <a:pt x="26" y="318"/>
                    </a:lnTo>
                    <a:lnTo>
                      <a:pt x="24" y="567"/>
                    </a:lnTo>
                    <a:lnTo>
                      <a:pt x="23" y="745"/>
                    </a:lnTo>
                    <a:lnTo>
                      <a:pt x="20" y="720"/>
                    </a:lnTo>
                    <a:lnTo>
                      <a:pt x="15" y="651"/>
                    </a:lnTo>
                    <a:lnTo>
                      <a:pt x="8" y="551"/>
                    </a:lnTo>
                    <a:lnTo>
                      <a:pt x="3" y="432"/>
                    </a:lnTo>
                    <a:lnTo>
                      <a:pt x="0" y="306"/>
                    </a:lnTo>
                    <a:lnTo>
                      <a:pt x="2" y="184"/>
                    </a:lnTo>
                    <a:lnTo>
                      <a:pt x="11" y="7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06"/>
              <p:cNvSpPr/>
              <p:nvPr/>
            </p:nvSpPr>
            <p:spPr>
              <a:xfrm>
                <a:off x="6613560" y="1513080"/>
                <a:ext cx="204840" cy="44280"/>
              </a:xfrm>
              <a:custGeom>
                <a:avLst/>
                <a:gdLst/>
                <a:ahLst/>
                <a:rect l="l" t="t" r="r" b="b"/>
                <a:pathLst>
                  <a:path w="385" h="84">
                    <a:moveTo>
                      <a:pt x="90" y="35"/>
                    </a:moveTo>
                    <a:lnTo>
                      <a:pt x="88" y="36"/>
                    </a:lnTo>
                    <a:lnTo>
                      <a:pt x="81" y="38"/>
                    </a:lnTo>
                    <a:lnTo>
                      <a:pt x="70" y="42"/>
                    </a:lnTo>
                    <a:lnTo>
                      <a:pt x="58" y="47"/>
                    </a:lnTo>
                    <a:lnTo>
                      <a:pt x="44" y="54"/>
                    </a:lnTo>
                    <a:lnTo>
                      <a:pt x="29" y="63"/>
                    </a:lnTo>
                    <a:lnTo>
                      <a:pt x="15" y="72"/>
                    </a:lnTo>
                    <a:lnTo>
                      <a:pt x="0" y="84"/>
                    </a:lnTo>
                    <a:lnTo>
                      <a:pt x="4" y="82"/>
                    </a:lnTo>
                    <a:lnTo>
                      <a:pt x="11" y="76"/>
                    </a:lnTo>
                    <a:lnTo>
                      <a:pt x="26" y="70"/>
                    </a:lnTo>
                    <a:lnTo>
                      <a:pt x="42" y="62"/>
                    </a:lnTo>
                    <a:lnTo>
                      <a:pt x="63" y="55"/>
                    </a:lnTo>
                    <a:lnTo>
                      <a:pt x="86" y="50"/>
                    </a:lnTo>
                    <a:lnTo>
                      <a:pt x="111" y="48"/>
                    </a:lnTo>
                    <a:lnTo>
                      <a:pt x="139" y="51"/>
                    </a:lnTo>
                    <a:lnTo>
                      <a:pt x="145" y="84"/>
                    </a:lnTo>
                    <a:lnTo>
                      <a:pt x="180" y="51"/>
                    </a:lnTo>
                    <a:lnTo>
                      <a:pt x="183" y="51"/>
                    </a:lnTo>
                    <a:lnTo>
                      <a:pt x="191" y="51"/>
                    </a:lnTo>
                    <a:lnTo>
                      <a:pt x="203" y="52"/>
                    </a:lnTo>
                    <a:lnTo>
                      <a:pt x="218" y="54"/>
                    </a:lnTo>
                    <a:lnTo>
                      <a:pt x="233" y="58"/>
                    </a:lnTo>
                    <a:lnTo>
                      <a:pt x="249" y="62"/>
                    </a:lnTo>
                    <a:lnTo>
                      <a:pt x="263" y="68"/>
                    </a:lnTo>
                    <a:lnTo>
                      <a:pt x="275" y="76"/>
                    </a:lnTo>
                    <a:lnTo>
                      <a:pt x="282" y="35"/>
                    </a:lnTo>
                    <a:lnTo>
                      <a:pt x="286" y="35"/>
                    </a:lnTo>
                    <a:lnTo>
                      <a:pt x="293" y="34"/>
                    </a:lnTo>
                    <a:lnTo>
                      <a:pt x="306" y="34"/>
                    </a:lnTo>
                    <a:lnTo>
                      <a:pt x="320" y="34"/>
                    </a:lnTo>
                    <a:lnTo>
                      <a:pt x="338" y="35"/>
                    </a:lnTo>
                    <a:lnTo>
                      <a:pt x="354" y="38"/>
                    </a:lnTo>
                    <a:lnTo>
                      <a:pt x="370" y="43"/>
                    </a:lnTo>
                    <a:lnTo>
                      <a:pt x="385" y="51"/>
                    </a:lnTo>
                    <a:lnTo>
                      <a:pt x="383" y="50"/>
                    </a:lnTo>
                    <a:lnTo>
                      <a:pt x="381" y="47"/>
                    </a:lnTo>
                    <a:lnTo>
                      <a:pt x="378" y="42"/>
                    </a:lnTo>
                    <a:lnTo>
                      <a:pt x="373" y="36"/>
                    </a:lnTo>
                    <a:lnTo>
                      <a:pt x="365" y="30"/>
                    </a:lnTo>
                    <a:lnTo>
                      <a:pt x="355" y="23"/>
                    </a:lnTo>
                    <a:lnTo>
                      <a:pt x="342" y="16"/>
                    </a:lnTo>
                    <a:lnTo>
                      <a:pt x="327" y="11"/>
                    </a:lnTo>
                    <a:lnTo>
                      <a:pt x="309" y="5"/>
                    </a:lnTo>
                    <a:lnTo>
                      <a:pt x="289" y="3"/>
                    </a:lnTo>
                    <a:lnTo>
                      <a:pt x="265" y="0"/>
                    </a:lnTo>
                    <a:lnTo>
                      <a:pt x="238" y="1"/>
                    </a:lnTo>
                    <a:lnTo>
                      <a:pt x="206" y="4"/>
                    </a:lnTo>
                    <a:lnTo>
                      <a:pt x="171" y="11"/>
                    </a:lnTo>
                    <a:lnTo>
                      <a:pt x="132" y="22"/>
                    </a:lnTo>
                    <a:lnTo>
                      <a:pt x="90" y="3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Freeform 107"/>
              <p:cNvSpPr/>
              <p:nvPr/>
            </p:nvSpPr>
            <p:spPr>
              <a:xfrm>
                <a:off x="6832440" y="1835280"/>
                <a:ext cx="428760" cy="477720"/>
              </a:xfrm>
              <a:custGeom>
                <a:avLst/>
                <a:gdLst/>
                <a:ahLst/>
                <a:rect l="l" t="t" r="r" b="b"/>
                <a:pathLst>
                  <a:path w="811" h="905">
                    <a:moveTo>
                      <a:pt x="0" y="905"/>
                    </a:moveTo>
                    <a:lnTo>
                      <a:pt x="2" y="902"/>
                    </a:lnTo>
                    <a:lnTo>
                      <a:pt x="10" y="896"/>
                    </a:lnTo>
                    <a:lnTo>
                      <a:pt x="22" y="884"/>
                    </a:lnTo>
                    <a:lnTo>
                      <a:pt x="36" y="866"/>
                    </a:lnTo>
                    <a:lnTo>
                      <a:pt x="52" y="842"/>
                    </a:lnTo>
                    <a:lnTo>
                      <a:pt x="72" y="813"/>
                    </a:lnTo>
                    <a:lnTo>
                      <a:pt x="91" y="778"/>
                    </a:lnTo>
                    <a:lnTo>
                      <a:pt x="111" y="736"/>
                    </a:lnTo>
                    <a:lnTo>
                      <a:pt x="130" y="687"/>
                    </a:lnTo>
                    <a:lnTo>
                      <a:pt x="148" y="632"/>
                    </a:lnTo>
                    <a:lnTo>
                      <a:pt x="164" y="569"/>
                    </a:lnTo>
                    <a:lnTo>
                      <a:pt x="176" y="498"/>
                    </a:lnTo>
                    <a:lnTo>
                      <a:pt x="186" y="420"/>
                    </a:lnTo>
                    <a:lnTo>
                      <a:pt x="191" y="333"/>
                    </a:lnTo>
                    <a:lnTo>
                      <a:pt x="191" y="238"/>
                    </a:lnTo>
                    <a:lnTo>
                      <a:pt x="185" y="135"/>
                    </a:lnTo>
                    <a:lnTo>
                      <a:pt x="186" y="141"/>
                    </a:lnTo>
                    <a:lnTo>
                      <a:pt x="188" y="155"/>
                    </a:lnTo>
                    <a:lnTo>
                      <a:pt x="191" y="178"/>
                    </a:lnTo>
                    <a:lnTo>
                      <a:pt x="196" y="209"/>
                    </a:lnTo>
                    <a:lnTo>
                      <a:pt x="200" y="246"/>
                    </a:lnTo>
                    <a:lnTo>
                      <a:pt x="203" y="289"/>
                    </a:lnTo>
                    <a:lnTo>
                      <a:pt x="205" y="337"/>
                    </a:lnTo>
                    <a:lnTo>
                      <a:pt x="205" y="390"/>
                    </a:lnTo>
                    <a:lnTo>
                      <a:pt x="204" y="446"/>
                    </a:lnTo>
                    <a:lnTo>
                      <a:pt x="200" y="505"/>
                    </a:lnTo>
                    <a:lnTo>
                      <a:pt x="191" y="564"/>
                    </a:lnTo>
                    <a:lnTo>
                      <a:pt x="179" y="624"/>
                    </a:lnTo>
                    <a:lnTo>
                      <a:pt x="163" y="684"/>
                    </a:lnTo>
                    <a:lnTo>
                      <a:pt x="142" y="743"/>
                    </a:lnTo>
                    <a:lnTo>
                      <a:pt x="115" y="801"/>
                    </a:lnTo>
                    <a:lnTo>
                      <a:pt x="82" y="854"/>
                    </a:lnTo>
                    <a:lnTo>
                      <a:pt x="62" y="871"/>
                    </a:lnTo>
                    <a:lnTo>
                      <a:pt x="64" y="871"/>
                    </a:lnTo>
                    <a:lnTo>
                      <a:pt x="68" y="871"/>
                    </a:lnTo>
                    <a:lnTo>
                      <a:pt x="77" y="870"/>
                    </a:lnTo>
                    <a:lnTo>
                      <a:pt x="88" y="869"/>
                    </a:lnTo>
                    <a:lnTo>
                      <a:pt x="101" y="867"/>
                    </a:lnTo>
                    <a:lnTo>
                      <a:pt x="116" y="865"/>
                    </a:lnTo>
                    <a:lnTo>
                      <a:pt x="135" y="861"/>
                    </a:lnTo>
                    <a:lnTo>
                      <a:pt x="154" y="857"/>
                    </a:lnTo>
                    <a:lnTo>
                      <a:pt x="175" y="851"/>
                    </a:lnTo>
                    <a:lnTo>
                      <a:pt x="197" y="846"/>
                    </a:lnTo>
                    <a:lnTo>
                      <a:pt x="221" y="838"/>
                    </a:lnTo>
                    <a:lnTo>
                      <a:pt x="245" y="829"/>
                    </a:lnTo>
                    <a:lnTo>
                      <a:pt x="270" y="819"/>
                    </a:lnTo>
                    <a:lnTo>
                      <a:pt x="294" y="807"/>
                    </a:lnTo>
                    <a:lnTo>
                      <a:pt x="319" y="794"/>
                    </a:lnTo>
                    <a:lnTo>
                      <a:pt x="344" y="779"/>
                    </a:lnTo>
                    <a:lnTo>
                      <a:pt x="378" y="703"/>
                    </a:lnTo>
                    <a:lnTo>
                      <a:pt x="385" y="754"/>
                    </a:lnTo>
                    <a:lnTo>
                      <a:pt x="386" y="754"/>
                    </a:lnTo>
                    <a:lnTo>
                      <a:pt x="391" y="754"/>
                    </a:lnTo>
                    <a:lnTo>
                      <a:pt x="398" y="752"/>
                    </a:lnTo>
                    <a:lnTo>
                      <a:pt x="408" y="751"/>
                    </a:lnTo>
                    <a:lnTo>
                      <a:pt x="420" y="747"/>
                    </a:lnTo>
                    <a:lnTo>
                      <a:pt x="434" y="743"/>
                    </a:lnTo>
                    <a:lnTo>
                      <a:pt x="450" y="735"/>
                    </a:lnTo>
                    <a:lnTo>
                      <a:pt x="468" y="724"/>
                    </a:lnTo>
                    <a:lnTo>
                      <a:pt x="486" y="712"/>
                    </a:lnTo>
                    <a:lnTo>
                      <a:pt x="506" y="695"/>
                    </a:lnTo>
                    <a:lnTo>
                      <a:pt x="526" y="675"/>
                    </a:lnTo>
                    <a:lnTo>
                      <a:pt x="547" y="649"/>
                    </a:lnTo>
                    <a:lnTo>
                      <a:pt x="569" y="620"/>
                    </a:lnTo>
                    <a:lnTo>
                      <a:pt x="591" y="585"/>
                    </a:lnTo>
                    <a:lnTo>
                      <a:pt x="612" y="545"/>
                    </a:lnTo>
                    <a:lnTo>
                      <a:pt x="633" y="499"/>
                    </a:lnTo>
                    <a:lnTo>
                      <a:pt x="635" y="490"/>
                    </a:lnTo>
                    <a:lnTo>
                      <a:pt x="641" y="466"/>
                    </a:lnTo>
                    <a:lnTo>
                      <a:pt x="648" y="428"/>
                    </a:lnTo>
                    <a:lnTo>
                      <a:pt x="657" y="386"/>
                    </a:lnTo>
                    <a:lnTo>
                      <a:pt x="666" y="339"/>
                    </a:lnTo>
                    <a:lnTo>
                      <a:pt x="673" y="292"/>
                    </a:lnTo>
                    <a:lnTo>
                      <a:pt x="679" y="252"/>
                    </a:lnTo>
                    <a:lnTo>
                      <a:pt x="681" y="220"/>
                    </a:lnTo>
                    <a:lnTo>
                      <a:pt x="683" y="244"/>
                    </a:lnTo>
                    <a:lnTo>
                      <a:pt x="684" y="305"/>
                    </a:lnTo>
                    <a:lnTo>
                      <a:pt x="681" y="388"/>
                    </a:lnTo>
                    <a:lnTo>
                      <a:pt x="667" y="474"/>
                    </a:lnTo>
                    <a:lnTo>
                      <a:pt x="672" y="466"/>
                    </a:lnTo>
                    <a:lnTo>
                      <a:pt x="686" y="444"/>
                    </a:lnTo>
                    <a:lnTo>
                      <a:pt x="707" y="407"/>
                    </a:lnTo>
                    <a:lnTo>
                      <a:pt x="731" y="355"/>
                    </a:lnTo>
                    <a:lnTo>
                      <a:pt x="757" y="288"/>
                    </a:lnTo>
                    <a:lnTo>
                      <a:pt x="780" y="206"/>
                    </a:lnTo>
                    <a:lnTo>
                      <a:pt x="799" y="110"/>
                    </a:lnTo>
                    <a:lnTo>
                      <a:pt x="811" y="0"/>
                    </a:lnTo>
                    <a:lnTo>
                      <a:pt x="811" y="9"/>
                    </a:lnTo>
                    <a:lnTo>
                      <a:pt x="811" y="38"/>
                    </a:lnTo>
                    <a:lnTo>
                      <a:pt x="809" y="80"/>
                    </a:lnTo>
                    <a:lnTo>
                      <a:pt x="804" y="137"/>
                    </a:lnTo>
                    <a:lnTo>
                      <a:pt x="794" y="204"/>
                    </a:lnTo>
                    <a:lnTo>
                      <a:pt x="777" y="277"/>
                    </a:lnTo>
                    <a:lnTo>
                      <a:pt x="753" y="357"/>
                    </a:lnTo>
                    <a:lnTo>
                      <a:pt x="719" y="439"/>
                    </a:lnTo>
                    <a:lnTo>
                      <a:pt x="707" y="465"/>
                    </a:lnTo>
                    <a:lnTo>
                      <a:pt x="694" y="489"/>
                    </a:lnTo>
                    <a:lnTo>
                      <a:pt x="680" y="514"/>
                    </a:lnTo>
                    <a:lnTo>
                      <a:pt x="664" y="538"/>
                    </a:lnTo>
                    <a:lnTo>
                      <a:pt x="648" y="564"/>
                    </a:lnTo>
                    <a:lnTo>
                      <a:pt x="631" y="588"/>
                    </a:lnTo>
                    <a:lnTo>
                      <a:pt x="612" y="610"/>
                    </a:lnTo>
                    <a:lnTo>
                      <a:pt x="593" y="635"/>
                    </a:lnTo>
                    <a:lnTo>
                      <a:pt x="572" y="657"/>
                    </a:lnTo>
                    <a:lnTo>
                      <a:pt x="549" y="679"/>
                    </a:lnTo>
                    <a:lnTo>
                      <a:pt x="525" y="700"/>
                    </a:lnTo>
                    <a:lnTo>
                      <a:pt x="500" y="722"/>
                    </a:lnTo>
                    <a:lnTo>
                      <a:pt x="473" y="742"/>
                    </a:lnTo>
                    <a:lnTo>
                      <a:pt x="446" y="760"/>
                    </a:lnTo>
                    <a:lnTo>
                      <a:pt x="416" y="778"/>
                    </a:lnTo>
                    <a:lnTo>
                      <a:pt x="385" y="795"/>
                    </a:lnTo>
                    <a:lnTo>
                      <a:pt x="383" y="797"/>
                    </a:lnTo>
                    <a:lnTo>
                      <a:pt x="377" y="799"/>
                    </a:lnTo>
                    <a:lnTo>
                      <a:pt x="368" y="803"/>
                    </a:lnTo>
                    <a:lnTo>
                      <a:pt x="353" y="809"/>
                    </a:lnTo>
                    <a:lnTo>
                      <a:pt x="337" y="815"/>
                    </a:lnTo>
                    <a:lnTo>
                      <a:pt x="317" y="823"/>
                    </a:lnTo>
                    <a:lnTo>
                      <a:pt x="295" y="831"/>
                    </a:lnTo>
                    <a:lnTo>
                      <a:pt x="270" y="841"/>
                    </a:lnTo>
                    <a:lnTo>
                      <a:pt x="241" y="850"/>
                    </a:lnTo>
                    <a:lnTo>
                      <a:pt x="212" y="859"/>
                    </a:lnTo>
                    <a:lnTo>
                      <a:pt x="180" y="869"/>
                    </a:lnTo>
                    <a:lnTo>
                      <a:pt x="147" y="877"/>
                    </a:lnTo>
                    <a:lnTo>
                      <a:pt x="112" y="885"/>
                    </a:lnTo>
                    <a:lnTo>
                      <a:pt x="75" y="893"/>
                    </a:lnTo>
                    <a:lnTo>
                      <a:pt x="38" y="900"/>
                    </a:lnTo>
                    <a:lnTo>
                      <a:pt x="0" y="90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Freeform 108"/>
              <p:cNvSpPr/>
              <p:nvPr/>
            </p:nvSpPr>
            <p:spPr>
              <a:xfrm>
                <a:off x="7021440" y="1462320"/>
                <a:ext cx="131760" cy="171360"/>
              </a:xfrm>
              <a:custGeom>
                <a:avLst/>
                <a:gdLst/>
                <a:ahLst/>
                <a:rect l="l" t="t" r="r" b="b"/>
                <a:pathLst>
                  <a:path w="247" h="323">
                    <a:moveTo>
                      <a:pt x="0" y="2"/>
                    </a:moveTo>
                    <a:lnTo>
                      <a:pt x="2" y="3"/>
                    </a:lnTo>
                    <a:lnTo>
                      <a:pt x="8" y="8"/>
                    </a:lnTo>
                    <a:lnTo>
                      <a:pt x="18" y="15"/>
                    </a:lnTo>
                    <a:lnTo>
                      <a:pt x="30" y="26"/>
                    </a:lnTo>
                    <a:lnTo>
                      <a:pt x="46" y="39"/>
                    </a:lnTo>
                    <a:lnTo>
                      <a:pt x="64" y="54"/>
                    </a:lnTo>
                    <a:lnTo>
                      <a:pt x="82" y="73"/>
                    </a:lnTo>
                    <a:lnTo>
                      <a:pt x="103" y="93"/>
                    </a:lnTo>
                    <a:lnTo>
                      <a:pt x="124" y="116"/>
                    </a:lnTo>
                    <a:lnTo>
                      <a:pt x="144" y="140"/>
                    </a:lnTo>
                    <a:lnTo>
                      <a:pt x="165" y="166"/>
                    </a:lnTo>
                    <a:lnTo>
                      <a:pt x="185" y="195"/>
                    </a:lnTo>
                    <a:lnTo>
                      <a:pt x="203" y="224"/>
                    </a:lnTo>
                    <a:lnTo>
                      <a:pt x="221" y="256"/>
                    </a:lnTo>
                    <a:lnTo>
                      <a:pt x="235" y="288"/>
                    </a:lnTo>
                    <a:lnTo>
                      <a:pt x="247" y="323"/>
                    </a:lnTo>
                    <a:lnTo>
                      <a:pt x="244" y="314"/>
                    </a:lnTo>
                    <a:lnTo>
                      <a:pt x="237" y="287"/>
                    </a:lnTo>
                    <a:lnTo>
                      <a:pt x="225" y="249"/>
                    </a:lnTo>
                    <a:lnTo>
                      <a:pt x="207" y="203"/>
                    </a:lnTo>
                    <a:lnTo>
                      <a:pt x="184" y="152"/>
                    </a:lnTo>
                    <a:lnTo>
                      <a:pt x="154" y="102"/>
                    </a:lnTo>
                    <a:lnTo>
                      <a:pt x="118" y="55"/>
                    </a:lnTo>
                    <a:lnTo>
                      <a:pt x="75" y="18"/>
                    </a:lnTo>
                    <a:lnTo>
                      <a:pt x="73" y="16"/>
                    </a:lnTo>
                    <a:lnTo>
                      <a:pt x="68" y="14"/>
                    </a:lnTo>
                    <a:lnTo>
                      <a:pt x="60" y="10"/>
                    </a:lnTo>
                    <a:lnTo>
                      <a:pt x="50" y="6"/>
                    </a:lnTo>
                    <a:lnTo>
                      <a:pt x="38" y="3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Freeform 109"/>
              <p:cNvSpPr/>
              <p:nvPr/>
            </p:nvSpPr>
            <p:spPr>
              <a:xfrm>
                <a:off x="7215120" y="1623960"/>
                <a:ext cx="34920" cy="201960"/>
              </a:xfrm>
              <a:custGeom>
                <a:avLst/>
                <a:gdLst/>
                <a:ahLst/>
                <a:rect l="l" t="t" r="r" b="b"/>
                <a:pathLst>
                  <a:path w="67" h="380">
                    <a:moveTo>
                      <a:pt x="0" y="0"/>
                    </a:moveTo>
                    <a:lnTo>
                      <a:pt x="3" y="10"/>
                    </a:lnTo>
                    <a:lnTo>
                      <a:pt x="13" y="38"/>
                    </a:lnTo>
                    <a:lnTo>
                      <a:pt x="25" y="81"/>
                    </a:lnTo>
                    <a:lnTo>
                      <a:pt x="39" y="135"/>
                    </a:lnTo>
                    <a:lnTo>
                      <a:pt x="51" y="196"/>
                    </a:lnTo>
                    <a:lnTo>
                      <a:pt x="61" y="259"/>
                    </a:lnTo>
                    <a:lnTo>
                      <a:pt x="65" y="322"/>
                    </a:lnTo>
                    <a:lnTo>
                      <a:pt x="62" y="380"/>
                    </a:lnTo>
                    <a:lnTo>
                      <a:pt x="63" y="370"/>
                    </a:lnTo>
                    <a:lnTo>
                      <a:pt x="65" y="344"/>
                    </a:lnTo>
                    <a:lnTo>
                      <a:pt x="67" y="303"/>
                    </a:lnTo>
                    <a:lnTo>
                      <a:pt x="64" y="253"/>
                    </a:lnTo>
                    <a:lnTo>
                      <a:pt x="59" y="194"/>
                    </a:lnTo>
                    <a:lnTo>
                      <a:pt x="48" y="131"/>
                    </a:lnTo>
                    <a:lnTo>
                      <a:pt x="28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110"/>
              <p:cNvSpPr/>
              <p:nvPr/>
            </p:nvSpPr>
            <p:spPr>
              <a:xfrm>
                <a:off x="6948360" y="1508400"/>
                <a:ext cx="106560" cy="295200"/>
              </a:xfrm>
              <a:custGeom>
                <a:avLst/>
                <a:gdLst/>
                <a:ahLst/>
                <a:rect l="l" t="t" r="r" b="b"/>
                <a:pathLst>
                  <a:path w="201" h="557">
                    <a:moveTo>
                      <a:pt x="0" y="0"/>
                    </a:moveTo>
                    <a:lnTo>
                      <a:pt x="2" y="3"/>
                    </a:lnTo>
                    <a:lnTo>
                      <a:pt x="7" y="12"/>
                    </a:lnTo>
                    <a:lnTo>
                      <a:pt x="16" y="27"/>
                    </a:lnTo>
                    <a:lnTo>
                      <a:pt x="28" y="46"/>
                    </a:lnTo>
                    <a:lnTo>
                      <a:pt x="42" y="70"/>
                    </a:lnTo>
                    <a:lnTo>
                      <a:pt x="57" y="99"/>
                    </a:lnTo>
                    <a:lnTo>
                      <a:pt x="75" y="131"/>
                    </a:lnTo>
                    <a:lnTo>
                      <a:pt x="92" y="167"/>
                    </a:lnTo>
                    <a:lnTo>
                      <a:pt x="109" y="208"/>
                    </a:lnTo>
                    <a:lnTo>
                      <a:pt x="127" y="252"/>
                    </a:lnTo>
                    <a:lnTo>
                      <a:pt x="144" y="297"/>
                    </a:lnTo>
                    <a:lnTo>
                      <a:pt x="159" y="345"/>
                    </a:lnTo>
                    <a:lnTo>
                      <a:pt x="174" y="396"/>
                    </a:lnTo>
                    <a:lnTo>
                      <a:pt x="186" y="448"/>
                    </a:lnTo>
                    <a:lnTo>
                      <a:pt x="194" y="502"/>
                    </a:lnTo>
                    <a:lnTo>
                      <a:pt x="200" y="557"/>
                    </a:lnTo>
                    <a:lnTo>
                      <a:pt x="200" y="553"/>
                    </a:lnTo>
                    <a:lnTo>
                      <a:pt x="201" y="544"/>
                    </a:lnTo>
                    <a:lnTo>
                      <a:pt x="201" y="526"/>
                    </a:lnTo>
                    <a:lnTo>
                      <a:pt x="201" y="505"/>
                    </a:lnTo>
                    <a:lnTo>
                      <a:pt x="199" y="477"/>
                    </a:lnTo>
                    <a:lnTo>
                      <a:pt x="196" y="446"/>
                    </a:lnTo>
                    <a:lnTo>
                      <a:pt x="192" y="410"/>
                    </a:lnTo>
                    <a:lnTo>
                      <a:pt x="184" y="371"/>
                    </a:lnTo>
                    <a:lnTo>
                      <a:pt x="176" y="328"/>
                    </a:lnTo>
                    <a:lnTo>
                      <a:pt x="163" y="284"/>
                    </a:lnTo>
                    <a:lnTo>
                      <a:pt x="146" y="238"/>
                    </a:lnTo>
                    <a:lnTo>
                      <a:pt x="127" y="190"/>
                    </a:lnTo>
                    <a:lnTo>
                      <a:pt x="103" y="142"/>
                    </a:lnTo>
                    <a:lnTo>
                      <a:pt x="74" y="94"/>
                    </a:lnTo>
                    <a:lnTo>
                      <a:pt x="40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Freeform 111"/>
              <p:cNvSpPr/>
              <p:nvPr/>
            </p:nvSpPr>
            <p:spPr>
              <a:xfrm>
                <a:off x="6683400" y="1252800"/>
                <a:ext cx="141120" cy="282600"/>
              </a:xfrm>
              <a:custGeom>
                <a:avLst/>
                <a:gdLst/>
                <a:ahLst/>
                <a:rect l="l" t="t" r="r" b="b"/>
                <a:pathLst>
                  <a:path w="268" h="534">
                    <a:moveTo>
                      <a:pt x="0" y="500"/>
                    </a:moveTo>
                    <a:lnTo>
                      <a:pt x="0" y="484"/>
                    </a:lnTo>
                    <a:lnTo>
                      <a:pt x="2" y="443"/>
                    </a:lnTo>
                    <a:lnTo>
                      <a:pt x="7" y="380"/>
                    </a:lnTo>
                    <a:lnTo>
                      <a:pt x="16" y="304"/>
                    </a:lnTo>
                    <a:lnTo>
                      <a:pt x="33" y="222"/>
                    </a:lnTo>
                    <a:lnTo>
                      <a:pt x="56" y="139"/>
                    </a:lnTo>
                    <a:lnTo>
                      <a:pt x="88" y="63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3" y="3"/>
                    </a:lnTo>
                    <a:lnTo>
                      <a:pt x="151" y="11"/>
                    </a:lnTo>
                    <a:lnTo>
                      <a:pt x="158" y="25"/>
                    </a:lnTo>
                    <a:lnTo>
                      <a:pt x="199" y="25"/>
                    </a:lnTo>
                    <a:lnTo>
                      <a:pt x="220" y="43"/>
                    </a:lnTo>
                    <a:lnTo>
                      <a:pt x="226" y="68"/>
                    </a:lnTo>
                    <a:lnTo>
                      <a:pt x="247" y="68"/>
                    </a:lnTo>
                    <a:lnTo>
                      <a:pt x="268" y="102"/>
                    </a:lnTo>
                    <a:lnTo>
                      <a:pt x="240" y="195"/>
                    </a:lnTo>
                    <a:lnTo>
                      <a:pt x="238" y="202"/>
                    </a:lnTo>
                    <a:lnTo>
                      <a:pt x="233" y="221"/>
                    </a:lnTo>
                    <a:lnTo>
                      <a:pt x="226" y="250"/>
                    </a:lnTo>
                    <a:lnTo>
                      <a:pt x="220" y="289"/>
                    </a:lnTo>
                    <a:lnTo>
                      <a:pt x="217" y="333"/>
                    </a:lnTo>
                    <a:lnTo>
                      <a:pt x="217" y="381"/>
                    </a:lnTo>
                    <a:lnTo>
                      <a:pt x="224" y="432"/>
                    </a:lnTo>
                    <a:lnTo>
                      <a:pt x="240" y="483"/>
                    </a:lnTo>
                    <a:lnTo>
                      <a:pt x="237" y="484"/>
                    </a:lnTo>
                    <a:lnTo>
                      <a:pt x="228" y="486"/>
                    </a:lnTo>
                    <a:lnTo>
                      <a:pt x="217" y="490"/>
                    </a:lnTo>
                    <a:lnTo>
                      <a:pt x="201" y="496"/>
                    </a:lnTo>
                    <a:lnTo>
                      <a:pt x="183" y="503"/>
                    </a:lnTo>
                    <a:lnTo>
                      <a:pt x="165" y="513"/>
                    </a:lnTo>
                    <a:lnTo>
                      <a:pt x="148" y="522"/>
                    </a:lnTo>
                    <a:lnTo>
                      <a:pt x="132" y="534"/>
                    </a:lnTo>
                    <a:lnTo>
                      <a:pt x="129" y="531"/>
                    </a:lnTo>
                    <a:lnTo>
                      <a:pt x="123" y="526"/>
                    </a:lnTo>
                    <a:lnTo>
                      <a:pt x="112" y="519"/>
                    </a:lnTo>
                    <a:lnTo>
                      <a:pt x="97" y="511"/>
                    </a:lnTo>
                    <a:lnTo>
                      <a:pt x="78" y="503"/>
                    </a:lnTo>
                    <a:lnTo>
                      <a:pt x="56" y="498"/>
                    </a:lnTo>
                    <a:lnTo>
                      <a:pt x="29" y="496"/>
                    </a:lnTo>
                    <a:lnTo>
                      <a:pt x="0" y="500"/>
                    </a:lnTo>
                    <a:close/>
                  </a:path>
                </a:pathLst>
              </a:custGeom>
              <a:solidFill>
                <a:srgbClr val="00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112"/>
              <p:cNvSpPr/>
              <p:nvPr/>
            </p:nvSpPr>
            <p:spPr>
              <a:xfrm>
                <a:off x="6696000" y="1262160"/>
                <a:ext cx="81000" cy="252360"/>
              </a:xfrm>
              <a:custGeom>
                <a:avLst/>
                <a:gdLst/>
                <a:ahLst/>
                <a:rect l="l" t="t" r="r" b="b"/>
                <a:pathLst>
                  <a:path w="153" h="478">
                    <a:moveTo>
                      <a:pt x="0" y="453"/>
                    </a:moveTo>
                    <a:lnTo>
                      <a:pt x="0" y="441"/>
                    </a:lnTo>
                    <a:lnTo>
                      <a:pt x="0" y="410"/>
                    </a:lnTo>
                    <a:lnTo>
                      <a:pt x="1" y="360"/>
                    </a:lnTo>
                    <a:lnTo>
                      <a:pt x="8" y="299"/>
                    </a:lnTo>
                    <a:lnTo>
                      <a:pt x="19" y="229"/>
                    </a:lnTo>
                    <a:lnTo>
                      <a:pt x="36" y="153"/>
                    </a:lnTo>
                    <a:lnTo>
                      <a:pt x="62" y="75"/>
                    </a:lnTo>
                    <a:lnTo>
                      <a:pt x="99" y="0"/>
                    </a:lnTo>
                    <a:lnTo>
                      <a:pt x="101" y="0"/>
                    </a:lnTo>
                    <a:lnTo>
                      <a:pt x="107" y="2"/>
                    </a:lnTo>
                    <a:lnTo>
                      <a:pt x="111" y="6"/>
                    </a:lnTo>
                    <a:lnTo>
                      <a:pt x="113" y="12"/>
                    </a:lnTo>
                    <a:lnTo>
                      <a:pt x="111" y="19"/>
                    </a:lnTo>
                    <a:lnTo>
                      <a:pt x="104" y="35"/>
                    </a:lnTo>
                    <a:lnTo>
                      <a:pt x="97" y="62"/>
                    </a:lnTo>
                    <a:lnTo>
                      <a:pt x="87" y="95"/>
                    </a:lnTo>
                    <a:lnTo>
                      <a:pt x="76" y="134"/>
                    </a:lnTo>
                    <a:lnTo>
                      <a:pt x="68" y="177"/>
                    </a:lnTo>
                    <a:lnTo>
                      <a:pt x="61" y="222"/>
                    </a:lnTo>
                    <a:lnTo>
                      <a:pt x="58" y="267"/>
                    </a:lnTo>
                    <a:lnTo>
                      <a:pt x="60" y="259"/>
                    </a:lnTo>
                    <a:lnTo>
                      <a:pt x="65" y="236"/>
                    </a:lnTo>
                    <a:lnTo>
                      <a:pt x="74" y="202"/>
                    </a:lnTo>
                    <a:lnTo>
                      <a:pt x="85" y="164"/>
                    </a:lnTo>
                    <a:lnTo>
                      <a:pt x="97" y="123"/>
                    </a:lnTo>
                    <a:lnTo>
                      <a:pt x="111" y="85"/>
                    </a:lnTo>
                    <a:lnTo>
                      <a:pt x="125" y="53"/>
                    </a:lnTo>
                    <a:lnTo>
                      <a:pt x="139" y="30"/>
                    </a:lnTo>
                    <a:lnTo>
                      <a:pt x="141" y="27"/>
                    </a:lnTo>
                    <a:lnTo>
                      <a:pt x="147" y="22"/>
                    </a:lnTo>
                    <a:lnTo>
                      <a:pt x="151" y="23"/>
                    </a:lnTo>
                    <a:lnTo>
                      <a:pt x="153" y="34"/>
                    </a:lnTo>
                    <a:lnTo>
                      <a:pt x="151" y="48"/>
                    </a:lnTo>
                    <a:lnTo>
                      <a:pt x="146" y="71"/>
                    </a:lnTo>
                    <a:lnTo>
                      <a:pt x="138" y="99"/>
                    </a:lnTo>
                    <a:lnTo>
                      <a:pt x="131" y="129"/>
                    </a:lnTo>
                    <a:lnTo>
                      <a:pt x="122" y="157"/>
                    </a:lnTo>
                    <a:lnTo>
                      <a:pt x="114" y="181"/>
                    </a:lnTo>
                    <a:lnTo>
                      <a:pt x="109" y="197"/>
                    </a:lnTo>
                    <a:lnTo>
                      <a:pt x="107" y="204"/>
                    </a:lnTo>
                    <a:lnTo>
                      <a:pt x="102" y="235"/>
                    </a:lnTo>
                    <a:lnTo>
                      <a:pt x="95" y="309"/>
                    </a:lnTo>
                    <a:lnTo>
                      <a:pt x="89" y="399"/>
                    </a:lnTo>
                    <a:lnTo>
                      <a:pt x="93" y="478"/>
                    </a:lnTo>
                    <a:lnTo>
                      <a:pt x="91" y="477"/>
                    </a:lnTo>
                    <a:lnTo>
                      <a:pt x="87" y="474"/>
                    </a:lnTo>
                    <a:lnTo>
                      <a:pt x="79" y="469"/>
                    </a:lnTo>
                    <a:lnTo>
                      <a:pt x="70" y="463"/>
                    </a:lnTo>
                    <a:lnTo>
                      <a:pt x="57" y="459"/>
                    </a:lnTo>
                    <a:lnTo>
                      <a:pt x="40" y="455"/>
                    </a:lnTo>
                    <a:lnTo>
                      <a:pt x="22" y="453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3d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113"/>
              <p:cNvSpPr/>
              <p:nvPr/>
            </p:nvSpPr>
            <p:spPr>
              <a:xfrm>
                <a:off x="6770520" y="1290600"/>
                <a:ext cx="44640" cy="217800"/>
              </a:xfrm>
              <a:custGeom>
                <a:avLst/>
                <a:gdLst/>
                <a:ahLst/>
                <a:rect l="l" t="t" r="r" b="b"/>
                <a:pathLst>
                  <a:path w="86" h="411">
                    <a:moveTo>
                      <a:pt x="56" y="394"/>
                    </a:moveTo>
                    <a:lnTo>
                      <a:pt x="54" y="386"/>
                    </a:lnTo>
                    <a:lnTo>
                      <a:pt x="48" y="366"/>
                    </a:lnTo>
                    <a:lnTo>
                      <a:pt x="43" y="332"/>
                    </a:lnTo>
                    <a:lnTo>
                      <a:pt x="38" y="288"/>
                    </a:lnTo>
                    <a:lnTo>
                      <a:pt x="38" y="234"/>
                    </a:lnTo>
                    <a:lnTo>
                      <a:pt x="45" y="174"/>
                    </a:lnTo>
                    <a:lnTo>
                      <a:pt x="60" y="109"/>
                    </a:lnTo>
                    <a:lnTo>
                      <a:pt x="86" y="39"/>
                    </a:lnTo>
                    <a:lnTo>
                      <a:pt x="85" y="36"/>
                    </a:lnTo>
                    <a:lnTo>
                      <a:pt x="83" y="31"/>
                    </a:lnTo>
                    <a:lnTo>
                      <a:pt x="78" y="26"/>
                    </a:lnTo>
                    <a:lnTo>
                      <a:pt x="69" y="26"/>
                    </a:lnTo>
                    <a:lnTo>
                      <a:pt x="45" y="0"/>
                    </a:lnTo>
                    <a:lnTo>
                      <a:pt x="42" y="10"/>
                    </a:lnTo>
                    <a:lnTo>
                      <a:pt x="35" y="38"/>
                    </a:lnTo>
                    <a:lnTo>
                      <a:pt x="25" y="80"/>
                    </a:lnTo>
                    <a:lnTo>
                      <a:pt x="16" y="135"/>
                    </a:lnTo>
                    <a:lnTo>
                      <a:pt x="7" y="200"/>
                    </a:lnTo>
                    <a:lnTo>
                      <a:pt x="1" y="268"/>
                    </a:lnTo>
                    <a:lnTo>
                      <a:pt x="0" y="340"/>
                    </a:lnTo>
                    <a:lnTo>
                      <a:pt x="7" y="411"/>
                    </a:lnTo>
                    <a:lnTo>
                      <a:pt x="28" y="403"/>
                    </a:lnTo>
                    <a:lnTo>
                      <a:pt x="25" y="378"/>
                    </a:lnTo>
                    <a:lnTo>
                      <a:pt x="22" y="317"/>
                    </a:lnTo>
                    <a:lnTo>
                      <a:pt x="24" y="245"/>
                    </a:lnTo>
                    <a:lnTo>
                      <a:pt x="35" y="186"/>
                    </a:lnTo>
                    <a:lnTo>
                      <a:pt x="34" y="190"/>
                    </a:lnTo>
                    <a:lnTo>
                      <a:pt x="33" y="200"/>
                    </a:lnTo>
                    <a:lnTo>
                      <a:pt x="31" y="217"/>
                    </a:lnTo>
                    <a:lnTo>
                      <a:pt x="30" y="241"/>
                    </a:lnTo>
                    <a:lnTo>
                      <a:pt x="31" y="271"/>
                    </a:lnTo>
                    <a:lnTo>
                      <a:pt x="35" y="305"/>
                    </a:lnTo>
                    <a:lnTo>
                      <a:pt x="43" y="347"/>
                    </a:lnTo>
                    <a:lnTo>
                      <a:pt x="56" y="394"/>
                    </a:lnTo>
                    <a:close/>
                  </a:path>
                </a:pathLst>
              </a:custGeom>
              <a:solidFill>
                <a:srgbClr val="00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Freeform 114"/>
              <p:cNvSpPr/>
              <p:nvPr/>
            </p:nvSpPr>
            <p:spPr>
              <a:xfrm>
                <a:off x="6777000" y="1297080"/>
                <a:ext cx="38160" cy="206280"/>
              </a:xfrm>
              <a:custGeom>
                <a:avLst/>
                <a:gdLst/>
                <a:ahLst/>
                <a:rect l="l" t="t" r="r" b="b"/>
                <a:pathLst>
                  <a:path w="72" h="391">
                    <a:moveTo>
                      <a:pt x="72" y="14"/>
                    </a:moveTo>
                    <a:lnTo>
                      <a:pt x="69" y="23"/>
                    </a:lnTo>
                    <a:lnTo>
                      <a:pt x="62" y="47"/>
                    </a:lnTo>
                    <a:lnTo>
                      <a:pt x="54" y="83"/>
                    </a:lnTo>
                    <a:lnTo>
                      <a:pt x="44" y="131"/>
                    </a:lnTo>
                    <a:lnTo>
                      <a:pt x="36" y="185"/>
                    </a:lnTo>
                    <a:lnTo>
                      <a:pt x="32" y="245"/>
                    </a:lnTo>
                    <a:lnTo>
                      <a:pt x="33" y="305"/>
                    </a:lnTo>
                    <a:lnTo>
                      <a:pt x="42" y="366"/>
                    </a:lnTo>
                    <a:lnTo>
                      <a:pt x="41" y="362"/>
                    </a:lnTo>
                    <a:lnTo>
                      <a:pt x="37" y="347"/>
                    </a:lnTo>
                    <a:lnTo>
                      <a:pt x="34" y="324"/>
                    </a:lnTo>
                    <a:lnTo>
                      <a:pt x="31" y="289"/>
                    </a:lnTo>
                    <a:lnTo>
                      <a:pt x="30" y="242"/>
                    </a:lnTo>
                    <a:lnTo>
                      <a:pt x="32" y="184"/>
                    </a:lnTo>
                    <a:lnTo>
                      <a:pt x="39" y="111"/>
                    </a:lnTo>
                    <a:lnTo>
                      <a:pt x="50" y="24"/>
                    </a:lnTo>
                    <a:lnTo>
                      <a:pt x="48" y="31"/>
                    </a:lnTo>
                    <a:lnTo>
                      <a:pt x="42" y="51"/>
                    </a:lnTo>
                    <a:lnTo>
                      <a:pt x="32" y="83"/>
                    </a:lnTo>
                    <a:lnTo>
                      <a:pt x="23" y="126"/>
                    </a:lnTo>
                    <a:lnTo>
                      <a:pt x="15" y="180"/>
                    </a:lnTo>
                    <a:lnTo>
                      <a:pt x="9" y="242"/>
                    </a:lnTo>
                    <a:lnTo>
                      <a:pt x="8" y="313"/>
                    </a:lnTo>
                    <a:lnTo>
                      <a:pt x="14" y="391"/>
                    </a:lnTo>
                    <a:lnTo>
                      <a:pt x="11" y="384"/>
                    </a:lnTo>
                    <a:lnTo>
                      <a:pt x="8" y="363"/>
                    </a:lnTo>
                    <a:lnTo>
                      <a:pt x="4" y="329"/>
                    </a:lnTo>
                    <a:lnTo>
                      <a:pt x="0" y="284"/>
                    </a:lnTo>
                    <a:lnTo>
                      <a:pt x="2" y="228"/>
                    </a:lnTo>
                    <a:lnTo>
                      <a:pt x="8" y="162"/>
                    </a:lnTo>
                    <a:lnTo>
                      <a:pt x="22" y="87"/>
                    </a:lnTo>
                    <a:lnTo>
                      <a:pt x="45" y="6"/>
                    </a:lnTo>
                    <a:lnTo>
                      <a:pt x="48" y="3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000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115"/>
              <p:cNvSpPr/>
              <p:nvPr/>
            </p:nvSpPr>
            <p:spPr>
              <a:xfrm>
                <a:off x="6700680" y="1262160"/>
                <a:ext cx="69840" cy="236520"/>
              </a:xfrm>
              <a:custGeom>
                <a:avLst/>
                <a:gdLst/>
                <a:ahLst/>
                <a:rect l="l" t="t" r="r" b="b"/>
                <a:pathLst>
                  <a:path w="132" h="449">
                    <a:moveTo>
                      <a:pt x="0" y="441"/>
                    </a:moveTo>
                    <a:lnTo>
                      <a:pt x="0" y="429"/>
                    </a:lnTo>
                    <a:lnTo>
                      <a:pt x="1" y="396"/>
                    </a:lnTo>
                    <a:lnTo>
                      <a:pt x="4" y="348"/>
                    </a:lnTo>
                    <a:lnTo>
                      <a:pt x="10" y="287"/>
                    </a:lnTo>
                    <a:lnTo>
                      <a:pt x="20" y="218"/>
                    </a:lnTo>
                    <a:lnTo>
                      <a:pt x="38" y="145"/>
                    </a:lnTo>
                    <a:lnTo>
                      <a:pt x="61" y="70"/>
                    </a:lnTo>
                    <a:lnTo>
                      <a:pt x="92" y="0"/>
                    </a:lnTo>
                    <a:lnTo>
                      <a:pt x="106" y="12"/>
                    </a:lnTo>
                    <a:lnTo>
                      <a:pt x="104" y="18"/>
                    </a:lnTo>
                    <a:lnTo>
                      <a:pt x="96" y="35"/>
                    </a:lnTo>
                    <a:lnTo>
                      <a:pt x="86" y="62"/>
                    </a:lnTo>
                    <a:lnTo>
                      <a:pt x="74" y="98"/>
                    </a:lnTo>
                    <a:lnTo>
                      <a:pt x="61" y="145"/>
                    </a:lnTo>
                    <a:lnTo>
                      <a:pt x="47" y="198"/>
                    </a:lnTo>
                    <a:lnTo>
                      <a:pt x="38" y="261"/>
                    </a:lnTo>
                    <a:lnTo>
                      <a:pt x="30" y="331"/>
                    </a:lnTo>
                    <a:lnTo>
                      <a:pt x="31" y="322"/>
                    </a:lnTo>
                    <a:lnTo>
                      <a:pt x="37" y="297"/>
                    </a:lnTo>
                    <a:lnTo>
                      <a:pt x="44" y="261"/>
                    </a:lnTo>
                    <a:lnTo>
                      <a:pt x="56" y="217"/>
                    </a:lnTo>
                    <a:lnTo>
                      <a:pt x="70" y="168"/>
                    </a:lnTo>
                    <a:lnTo>
                      <a:pt x="88" y="118"/>
                    </a:lnTo>
                    <a:lnTo>
                      <a:pt x="108" y="71"/>
                    </a:lnTo>
                    <a:lnTo>
                      <a:pt x="132" y="30"/>
                    </a:lnTo>
                    <a:lnTo>
                      <a:pt x="129" y="39"/>
                    </a:lnTo>
                    <a:lnTo>
                      <a:pt x="119" y="67"/>
                    </a:lnTo>
                    <a:lnTo>
                      <a:pt x="105" y="109"/>
                    </a:lnTo>
                    <a:lnTo>
                      <a:pt x="89" y="162"/>
                    </a:lnTo>
                    <a:lnTo>
                      <a:pt x="72" y="225"/>
                    </a:lnTo>
                    <a:lnTo>
                      <a:pt x="58" y="293"/>
                    </a:lnTo>
                    <a:lnTo>
                      <a:pt x="46" y="363"/>
                    </a:lnTo>
                    <a:lnTo>
                      <a:pt x="41" y="433"/>
                    </a:lnTo>
                    <a:lnTo>
                      <a:pt x="41" y="449"/>
                    </a:lnTo>
                    <a:lnTo>
                      <a:pt x="40" y="449"/>
                    </a:lnTo>
                    <a:lnTo>
                      <a:pt x="38" y="447"/>
                    </a:lnTo>
                    <a:lnTo>
                      <a:pt x="33" y="445"/>
                    </a:lnTo>
                    <a:lnTo>
                      <a:pt x="28" y="443"/>
                    </a:lnTo>
                    <a:lnTo>
                      <a:pt x="21" y="442"/>
                    </a:lnTo>
                    <a:lnTo>
                      <a:pt x="15" y="441"/>
                    </a:lnTo>
                    <a:lnTo>
                      <a:pt x="7" y="439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87bc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116"/>
              <p:cNvSpPr/>
              <p:nvPr/>
            </p:nvSpPr>
            <p:spPr>
              <a:xfrm>
                <a:off x="6585120" y="2246400"/>
                <a:ext cx="430200" cy="87480"/>
              </a:xfrm>
              <a:custGeom>
                <a:avLst/>
                <a:gdLst/>
                <a:ahLst/>
                <a:rect l="l" t="t" r="r" b="b"/>
                <a:pathLst>
                  <a:path w="813" h="163">
                    <a:moveTo>
                      <a:pt x="0" y="125"/>
                    </a:moveTo>
                    <a:lnTo>
                      <a:pt x="1" y="125"/>
                    </a:lnTo>
                    <a:lnTo>
                      <a:pt x="6" y="126"/>
                    </a:lnTo>
                    <a:lnTo>
                      <a:pt x="13" y="129"/>
                    </a:lnTo>
                    <a:lnTo>
                      <a:pt x="24" y="131"/>
                    </a:lnTo>
                    <a:lnTo>
                      <a:pt x="37" y="135"/>
                    </a:lnTo>
                    <a:lnTo>
                      <a:pt x="52" y="138"/>
                    </a:lnTo>
                    <a:lnTo>
                      <a:pt x="70" y="142"/>
                    </a:lnTo>
                    <a:lnTo>
                      <a:pt x="90" y="146"/>
                    </a:lnTo>
                    <a:lnTo>
                      <a:pt x="113" y="150"/>
                    </a:lnTo>
                    <a:lnTo>
                      <a:pt x="138" y="154"/>
                    </a:lnTo>
                    <a:lnTo>
                      <a:pt x="164" y="157"/>
                    </a:lnTo>
                    <a:lnTo>
                      <a:pt x="194" y="161"/>
                    </a:lnTo>
                    <a:lnTo>
                      <a:pt x="224" y="162"/>
                    </a:lnTo>
                    <a:lnTo>
                      <a:pt x="256" y="163"/>
                    </a:lnTo>
                    <a:lnTo>
                      <a:pt x="289" y="163"/>
                    </a:lnTo>
                    <a:lnTo>
                      <a:pt x="325" y="163"/>
                    </a:lnTo>
                    <a:lnTo>
                      <a:pt x="345" y="162"/>
                    </a:lnTo>
                    <a:lnTo>
                      <a:pt x="365" y="161"/>
                    </a:lnTo>
                    <a:lnTo>
                      <a:pt x="386" y="159"/>
                    </a:lnTo>
                    <a:lnTo>
                      <a:pt x="407" y="157"/>
                    </a:lnTo>
                    <a:lnTo>
                      <a:pt x="429" y="154"/>
                    </a:lnTo>
                    <a:lnTo>
                      <a:pt x="450" y="151"/>
                    </a:lnTo>
                    <a:lnTo>
                      <a:pt x="472" y="147"/>
                    </a:lnTo>
                    <a:lnTo>
                      <a:pt x="495" y="143"/>
                    </a:lnTo>
                    <a:lnTo>
                      <a:pt x="513" y="139"/>
                    </a:lnTo>
                    <a:lnTo>
                      <a:pt x="533" y="135"/>
                    </a:lnTo>
                    <a:lnTo>
                      <a:pt x="553" y="131"/>
                    </a:lnTo>
                    <a:lnTo>
                      <a:pt x="571" y="126"/>
                    </a:lnTo>
                    <a:lnTo>
                      <a:pt x="591" y="121"/>
                    </a:lnTo>
                    <a:lnTo>
                      <a:pt x="610" y="114"/>
                    </a:lnTo>
                    <a:lnTo>
                      <a:pt x="631" y="107"/>
                    </a:lnTo>
                    <a:lnTo>
                      <a:pt x="650" y="100"/>
                    </a:lnTo>
                    <a:lnTo>
                      <a:pt x="670" y="92"/>
                    </a:lnTo>
                    <a:lnTo>
                      <a:pt x="691" y="84"/>
                    </a:lnTo>
                    <a:lnTo>
                      <a:pt x="710" y="76"/>
                    </a:lnTo>
                    <a:lnTo>
                      <a:pt x="731" y="67"/>
                    </a:lnTo>
                    <a:lnTo>
                      <a:pt x="752" y="58"/>
                    </a:lnTo>
                    <a:lnTo>
                      <a:pt x="772" y="47"/>
                    </a:lnTo>
                    <a:lnTo>
                      <a:pt x="792" y="36"/>
                    </a:lnTo>
                    <a:lnTo>
                      <a:pt x="813" y="26"/>
                    </a:lnTo>
                    <a:lnTo>
                      <a:pt x="813" y="0"/>
                    </a:lnTo>
                    <a:lnTo>
                      <a:pt x="811" y="0"/>
                    </a:lnTo>
                    <a:lnTo>
                      <a:pt x="808" y="3"/>
                    </a:lnTo>
                    <a:lnTo>
                      <a:pt x="804" y="4"/>
                    </a:lnTo>
                    <a:lnTo>
                      <a:pt x="797" y="8"/>
                    </a:lnTo>
                    <a:lnTo>
                      <a:pt x="789" y="12"/>
                    </a:lnTo>
                    <a:lnTo>
                      <a:pt x="779" y="18"/>
                    </a:lnTo>
                    <a:lnTo>
                      <a:pt x="767" y="23"/>
                    </a:lnTo>
                    <a:lnTo>
                      <a:pt x="753" y="28"/>
                    </a:lnTo>
                    <a:lnTo>
                      <a:pt x="738" y="35"/>
                    </a:lnTo>
                    <a:lnTo>
                      <a:pt x="720" y="42"/>
                    </a:lnTo>
                    <a:lnTo>
                      <a:pt x="702" y="50"/>
                    </a:lnTo>
                    <a:lnTo>
                      <a:pt x="681" y="56"/>
                    </a:lnTo>
                    <a:lnTo>
                      <a:pt x="659" y="64"/>
                    </a:lnTo>
                    <a:lnTo>
                      <a:pt x="636" y="71"/>
                    </a:lnTo>
                    <a:lnTo>
                      <a:pt x="611" y="79"/>
                    </a:lnTo>
                    <a:lnTo>
                      <a:pt x="585" y="86"/>
                    </a:lnTo>
                    <a:lnTo>
                      <a:pt x="558" y="94"/>
                    </a:lnTo>
                    <a:lnTo>
                      <a:pt x="529" y="100"/>
                    </a:lnTo>
                    <a:lnTo>
                      <a:pt x="498" y="107"/>
                    </a:lnTo>
                    <a:lnTo>
                      <a:pt x="467" y="114"/>
                    </a:lnTo>
                    <a:lnTo>
                      <a:pt x="434" y="119"/>
                    </a:lnTo>
                    <a:lnTo>
                      <a:pt x="400" y="125"/>
                    </a:lnTo>
                    <a:lnTo>
                      <a:pt x="364" y="129"/>
                    </a:lnTo>
                    <a:lnTo>
                      <a:pt x="328" y="133"/>
                    </a:lnTo>
                    <a:lnTo>
                      <a:pt x="290" y="135"/>
                    </a:lnTo>
                    <a:lnTo>
                      <a:pt x="252" y="137"/>
                    </a:lnTo>
                    <a:lnTo>
                      <a:pt x="213" y="138"/>
                    </a:lnTo>
                    <a:lnTo>
                      <a:pt x="172" y="138"/>
                    </a:lnTo>
                    <a:lnTo>
                      <a:pt x="130" y="137"/>
                    </a:lnTo>
                    <a:lnTo>
                      <a:pt x="88" y="134"/>
                    </a:lnTo>
                    <a:lnTo>
                      <a:pt x="45" y="13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117"/>
              <p:cNvSpPr/>
              <p:nvPr/>
            </p:nvSpPr>
            <p:spPr>
              <a:xfrm>
                <a:off x="6454800" y="1606680"/>
                <a:ext cx="154080" cy="223920"/>
              </a:xfrm>
              <a:custGeom>
                <a:avLst/>
                <a:gdLst/>
                <a:ahLst/>
                <a:rect l="l" t="t" r="r" b="b"/>
                <a:pathLst>
                  <a:path w="291" h="422">
                    <a:moveTo>
                      <a:pt x="220" y="0"/>
                    </a:moveTo>
                    <a:lnTo>
                      <a:pt x="218" y="1"/>
                    </a:lnTo>
                    <a:lnTo>
                      <a:pt x="211" y="5"/>
                    </a:lnTo>
                    <a:lnTo>
                      <a:pt x="201" y="14"/>
                    </a:lnTo>
                    <a:lnTo>
                      <a:pt x="188" y="23"/>
                    </a:lnTo>
                    <a:lnTo>
                      <a:pt x="173" y="36"/>
                    </a:lnTo>
                    <a:lnTo>
                      <a:pt x="156" y="52"/>
                    </a:lnTo>
                    <a:lnTo>
                      <a:pt x="137" y="70"/>
                    </a:lnTo>
                    <a:lnTo>
                      <a:pt x="118" y="91"/>
                    </a:lnTo>
                    <a:lnTo>
                      <a:pt x="98" y="114"/>
                    </a:lnTo>
                    <a:lnTo>
                      <a:pt x="78" y="141"/>
                    </a:lnTo>
                    <a:lnTo>
                      <a:pt x="60" y="169"/>
                    </a:lnTo>
                    <a:lnTo>
                      <a:pt x="44" y="200"/>
                    </a:lnTo>
                    <a:lnTo>
                      <a:pt x="28" y="233"/>
                    </a:lnTo>
                    <a:lnTo>
                      <a:pt x="15" y="268"/>
                    </a:lnTo>
                    <a:lnTo>
                      <a:pt x="6" y="305"/>
                    </a:lnTo>
                    <a:lnTo>
                      <a:pt x="0" y="345"/>
                    </a:lnTo>
                    <a:lnTo>
                      <a:pt x="14" y="371"/>
                    </a:lnTo>
                    <a:lnTo>
                      <a:pt x="15" y="371"/>
                    </a:lnTo>
                    <a:lnTo>
                      <a:pt x="21" y="371"/>
                    </a:lnTo>
                    <a:lnTo>
                      <a:pt x="27" y="371"/>
                    </a:lnTo>
                    <a:lnTo>
                      <a:pt x="38" y="371"/>
                    </a:lnTo>
                    <a:lnTo>
                      <a:pt x="50" y="371"/>
                    </a:lnTo>
                    <a:lnTo>
                      <a:pt x="65" y="371"/>
                    </a:lnTo>
                    <a:lnTo>
                      <a:pt x="82" y="372"/>
                    </a:lnTo>
                    <a:lnTo>
                      <a:pt x="100" y="374"/>
                    </a:lnTo>
                    <a:lnTo>
                      <a:pt x="120" y="376"/>
                    </a:lnTo>
                    <a:lnTo>
                      <a:pt x="141" y="380"/>
                    </a:lnTo>
                    <a:lnTo>
                      <a:pt x="164" y="384"/>
                    </a:lnTo>
                    <a:lnTo>
                      <a:pt x="188" y="388"/>
                    </a:lnTo>
                    <a:lnTo>
                      <a:pt x="212" y="395"/>
                    </a:lnTo>
                    <a:lnTo>
                      <a:pt x="238" y="403"/>
                    </a:lnTo>
                    <a:lnTo>
                      <a:pt x="263" y="411"/>
                    </a:lnTo>
                    <a:lnTo>
                      <a:pt x="289" y="422"/>
                    </a:lnTo>
                    <a:lnTo>
                      <a:pt x="289" y="411"/>
                    </a:lnTo>
                    <a:lnTo>
                      <a:pt x="291" y="380"/>
                    </a:lnTo>
                    <a:lnTo>
                      <a:pt x="289" y="335"/>
                    </a:lnTo>
                    <a:lnTo>
                      <a:pt x="285" y="277"/>
                    </a:lnTo>
                    <a:lnTo>
                      <a:pt x="277" y="210"/>
                    </a:lnTo>
                    <a:lnTo>
                      <a:pt x="266" y="139"/>
                    </a:lnTo>
                    <a:lnTo>
                      <a:pt x="246" y="68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118"/>
              <p:cNvSpPr/>
              <p:nvPr/>
            </p:nvSpPr>
            <p:spPr>
              <a:xfrm>
                <a:off x="6894360" y="1616040"/>
                <a:ext cx="160560" cy="219240"/>
              </a:xfrm>
              <a:custGeom>
                <a:avLst/>
                <a:gdLst/>
                <a:ahLst/>
                <a:rect l="l" t="t" r="r" b="b"/>
                <a:pathLst>
                  <a:path w="304" h="413">
                    <a:moveTo>
                      <a:pt x="0" y="404"/>
                    </a:moveTo>
                    <a:lnTo>
                      <a:pt x="1" y="404"/>
                    </a:lnTo>
                    <a:lnTo>
                      <a:pt x="5" y="401"/>
                    </a:lnTo>
                    <a:lnTo>
                      <a:pt x="11" y="400"/>
                    </a:lnTo>
                    <a:lnTo>
                      <a:pt x="18" y="398"/>
                    </a:lnTo>
                    <a:lnTo>
                      <a:pt x="26" y="398"/>
                    </a:lnTo>
                    <a:lnTo>
                      <a:pt x="35" y="401"/>
                    </a:lnTo>
                    <a:lnTo>
                      <a:pt x="46" y="405"/>
                    </a:lnTo>
                    <a:lnTo>
                      <a:pt x="56" y="413"/>
                    </a:lnTo>
                    <a:lnTo>
                      <a:pt x="57" y="412"/>
                    </a:lnTo>
                    <a:lnTo>
                      <a:pt x="62" y="410"/>
                    </a:lnTo>
                    <a:lnTo>
                      <a:pt x="69" y="406"/>
                    </a:lnTo>
                    <a:lnTo>
                      <a:pt x="79" y="402"/>
                    </a:lnTo>
                    <a:lnTo>
                      <a:pt x="90" y="397"/>
                    </a:lnTo>
                    <a:lnTo>
                      <a:pt x="105" y="392"/>
                    </a:lnTo>
                    <a:lnTo>
                      <a:pt x="121" y="386"/>
                    </a:lnTo>
                    <a:lnTo>
                      <a:pt x="138" y="380"/>
                    </a:lnTo>
                    <a:lnTo>
                      <a:pt x="157" y="374"/>
                    </a:lnTo>
                    <a:lnTo>
                      <a:pt x="176" y="369"/>
                    </a:lnTo>
                    <a:lnTo>
                      <a:pt x="197" y="364"/>
                    </a:lnTo>
                    <a:lnTo>
                      <a:pt x="218" y="358"/>
                    </a:lnTo>
                    <a:lnTo>
                      <a:pt x="240" y="356"/>
                    </a:lnTo>
                    <a:lnTo>
                      <a:pt x="261" y="353"/>
                    </a:lnTo>
                    <a:lnTo>
                      <a:pt x="283" y="353"/>
                    </a:lnTo>
                    <a:lnTo>
                      <a:pt x="304" y="353"/>
                    </a:lnTo>
                    <a:lnTo>
                      <a:pt x="304" y="350"/>
                    </a:lnTo>
                    <a:lnTo>
                      <a:pt x="302" y="344"/>
                    </a:lnTo>
                    <a:lnTo>
                      <a:pt x="299" y="331"/>
                    </a:lnTo>
                    <a:lnTo>
                      <a:pt x="295" y="315"/>
                    </a:lnTo>
                    <a:lnTo>
                      <a:pt x="290" y="297"/>
                    </a:lnTo>
                    <a:lnTo>
                      <a:pt x="283" y="275"/>
                    </a:lnTo>
                    <a:lnTo>
                      <a:pt x="273" y="250"/>
                    </a:lnTo>
                    <a:lnTo>
                      <a:pt x="262" y="224"/>
                    </a:lnTo>
                    <a:lnTo>
                      <a:pt x="249" y="196"/>
                    </a:lnTo>
                    <a:lnTo>
                      <a:pt x="233" y="167"/>
                    </a:lnTo>
                    <a:lnTo>
                      <a:pt x="215" y="137"/>
                    </a:lnTo>
                    <a:lnTo>
                      <a:pt x="193" y="108"/>
                    </a:lnTo>
                    <a:lnTo>
                      <a:pt x="169" y="80"/>
                    </a:lnTo>
                    <a:lnTo>
                      <a:pt x="142" y="52"/>
                    </a:lnTo>
                    <a:lnTo>
                      <a:pt x="111" y="25"/>
                    </a:lnTo>
                    <a:lnTo>
                      <a:pt x="76" y="0"/>
                    </a:lnTo>
                    <a:lnTo>
                      <a:pt x="73" y="6"/>
                    </a:lnTo>
                    <a:lnTo>
                      <a:pt x="62" y="28"/>
                    </a:lnTo>
                    <a:lnTo>
                      <a:pt x="49" y="61"/>
                    </a:lnTo>
                    <a:lnTo>
                      <a:pt x="34" y="107"/>
                    </a:lnTo>
                    <a:lnTo>
                      <a:pt x="19" y="166"/>
                    </a:lnTo>
                    <a:lnTo>
                      <a:pt x="7" y="234"/>
                    </a:lnTo>
                    <a:lnTo>
                      <a:pt x="0" y="31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119"/>
              <p:cNvSpPr/>
              <p:nvPr/>
            </p:nvSpPr>
            <p:spPr>
              <a:xfrm>
                <a:off x="6716880" y="1808280"/>
                <a:ext cx="101520" cy="127080"/>
              </a:xfrm>
              <a:custGeom>
                <a:avLst/>
                <a:gdLst/>
                <a:ahLst/>
                <a:rect l="l" t="t" r="r" b="b"/>
                <a:pathLst>
                  <a:path w="192" h="241">
                    <a:moveTo>
                      <a:pt x="89" y="0"/>
                    </a:moveTo>
                    <a:lnTo>
                      <a:pt x="86" y="7"/>
                    </a:lnTo>
                    <a:lnTo>
                      <a:pt x="77" y="26"/>
                    </a:lnTo>
                    <a:lnTo>
                      <a:pt x="64" y="52"/>
                    </a:lnTo>
                    <a:lnTo>
                      <a:pt x="50" y="86"/>
                    </a:lnTo>
                    <a:lnTo>
                      <a:pt x="35" y="123"/>
                    </a:lnTo>
                    <a:lnTo>
                      <a:pt x="20" y="161"/>
                    </a:lnTo>
                    <a:lnTo>
                      <a:pt x="8" y="197"/>
                    </a:lnTo>
                    <a:lnTo>
                      <a:pt x="0" y="228"/>
                    </a:lnTo>
                    <a:lnTo>
                      <a:pt x="1" y="228"/>
                    </a:lnTo>
                    <a:lnTo>
                      <a:pt x="4" y="229"/>
                    </a:lnTo>
                    <a:lnTo>
                      <a:pt x="10" y="232"/>
                    </a:lnTo>
                    <a:lnTo>
                      <a:pt x="16" y="233"/>
                    </a:lnTo>
                    <a:lnTo>
                      <a:pt x="25" y="236"/>
                    </a:lnTo>
                    <a:lnTo>
                      <a:pt x="35" y="237"/>
                    </a:lnTo>
                    <a:lnTo>
                      <a:pt x="47" y="240"/>
                    </a:lnTo>
                    <a:lnTo>
                      <a:pt x="60" y="241"/>
                    </a:lnTo>
                    <a:lnTo>
                      <a:pt x="74" y="241"/>
                    </a:lnTo>
                    <a:lnTo>
                      <a:pt x="89" y="240"/>
                    </a:lnTo>
                    <a:lnTo>
                      <a:pt x="104" y="239"/>
                    </a:lnTo>
                    <a:lnTo>
                      <a:pt x="121" y="234"/>
                    </a:lnTo>
                    <a:lnTo>
                      <a:pt x="138" y="230"/>
                    </a:lnTo>
                    <a:lnTo>
                      <a:pt x="156" y="222"/>
                    </a:lnTo>
                    <a:lnTo>
                      <a:pt x="174" y="214"/>
                    </a:lnTo>
                    <a:lnTo>
                      <a:pt x="192" y="202"/>
                    </a:lnTo>
                    <a:lnTo>
                      <a:pt x="188" y="197"/>
                    </a:lnTo>
                    <a:lnTo>
                      <a:pt x="182" y="184"/>
                    </a:lnTo>
                    <a:lnTo>
                      <a:pt x="170" y="162"/>
                    </a:lnTo>
                    <a:lnTo>
                      <a:pt x="156" y="135"/>
                    </a:lnTo>
                    <a:lnTo>
                      <a:pt x="139" y="105"/>
                    </a:lnTo>
                    <a:lnTo>
                      <a:pt x="122" y="71"/>
                    </a:lnTo>
                    <a:lnTo>
                      <a:pt x="106" y="3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120"/>
              <p:cNvSpPr/>
              <p:nvPr/>
            </p:nvSpPr>
            <p:spPr>
              <a:xfrm>
                <a:off x="6651720" y="2048040"/>
                <a:ext cx="241200" cy="204840"/>
              </a:xfrm>
              <a:custGeom>
                <a:avLst/>
                <a:gdLst/>
                <a:ahLst/>
                <a:rect l="l" t="t" r="r" b="b"/>
                <a:pathLst>
                  <a:path w="458" h="388">
                    <a:moveTo>
                      <a:pt x="261" y="6"/>
                    </a:moveTo>
                    <a:lnTo>
                      <a:pt x="259" y="6"/>
                    </a:lnTo>
                    <a:lnTo>
                      <a:pt x="251" y="4"/>
                    </a:lnTo>
                    <a:lnTo>
                      <a:pt x="241" y="2"/>
                    </a:lnTo>
                    <a:lnTo>
                      <a:pt x="226" y="1"/>
                    </a:lnTo>
                    <a:lnTo>
                      <a:pt x="209" y="0"/>
                    </a:lnTo>
                    <a:lnTo>
                      <a:pt x="189" y="0"/>
                    </a:lnTo>
                    <a:lnTo>
                      <a:pt x="169" y="1"/>
                    </a:lnTo>
                    <a:lnTo>
                      <a:pt x="147" y="4"/>
                    </a:lnTo>
                    <a:lnTo>
                      <a:pt x="124" y="10"/>
                    </a:lnTo>
                    <a:lnTo>
                      <a:pt x="101" y="20"/>
                    </a:lnTo>
                    <a:lnTo>
                      <a:pt x="80" y="32"/>
                    </a:lnTo>
                    <a:lnTo>
                      <a:pt x="59" y="49"/>
                    </a:lnTo>
                    <a:lnTo>
                      <a:pt x="40" y="71"/>
                    </a:lnTo>
                    <a:lnTo>
                      <a:pt x="24" y="97"/>
                    </a:lnTo>
                    <a:lnTo>
                      <a:pt x="11" y="129"/>
                    </a:lnTo>
                    <a:lnTo>
                      <a:pt x="1" y="167"/>
                    </a:lnTo>
                    <a:lnTo>
                      <a:pt x="1" y="170"/>
                    </a:lnTo>
                    <a:lnTo>
                      <a:pt x="0" y="176"/>
                    </a:lnTo>
                    <a:lnTo>
                      <a:pt x="0" y="187"/>
                    </a:lnTo>
                    <a:lnTo>
                      <a:pt x="0" y="202"/>
                    </a:lnTo>
                    <a:lnTo>
                      <a:pt x="1" y="218"/>
                    </a:lnTo>
                    <a:lnTo>
                      <a:pt x="6" y="237"/>
                    </a:lnTo>
                    <a:lnTo>
                      <a:pt x="11" y="257"/>
                    </a:lnTo>
                    <a:lnTo>
                      <a:pt x="19" y="277"/>
                    </a:lnTo>
                    <a:lnTo>
                      <a:pt x="31" y="298"/>
                    </a:lnTo>
                    <a:lnTo>
                      <a:pt x="46" y="318"/>
                    </a:lnTo>
                    <a:lnTo>
                      <a:pt x="66" y="337"/>
                    </a:lnTo>
                    <a:lnTo>
                      <a:pt x="90" y="353"/>
                    </a:lnTo>
                    <a:lnTo>
                      <a:pt x="121" y="368"/>
                    </a:lnTo>
                    <a:lnTo>
                      <a:pt x="157" y="378"/>
                    </a:lnTo>
                    <a:lnTo>
                      <a:pt x="199" y="385"/>
                    </a:lnTo>
                    <a:lnTo>
                      <a:pt x="248" y="388"/>
                    </a:lnTo>
                    <a:lnTo>
                      <a:pt x="253" y="386"/>
                    </a:lnTo>
                    <a:lnTo>
                      <a:pt x="267" y="384"/>
                    </a:lnTo>
                    <a:lnTo>
                      <a:pt x="286" y="380"/>
                    </a:lnTo>
                    <a:lnTo>
                      <a:pt x="310" y="372"/>
                    </a:lnTo>
                    <a:lnTo>
                      <a:pt x="336" y="361"/>
                    </a:lnTo>
                    <a:lnTo>
                      <a:pt x="365" y="348"/>
                    </a:lnTo>
                    <a:lnTo>
                      <a:pt x="391" y="332"/>
                    </a:lnTo>
                    <a:lnTo>
                      <a:pt x="414" y="312"/>
                    </a:lnTo>
                    <a:lnTo>
                      <a:pt x="415" y="309"/>
                    </a:lnTo>
                    <a:lnTo>
                      <a:pt x="419" y="303"/>
                    </a:lnTo>
                    <a:lnTo>
                      <a:pt x="424" y="294"/>
                    </a:lnTo>
                    <a:lnTo>
                      <a:pt x="431" y="282"/>
                    </a:lnTo>
                    <a:lnTo>
                      <a:pt x="439" y="266"/>
                    </a:lnTo>
                    <a:lnTo>
                      <a:pt x="445" y="249"/>
                    </a:lnTo>
                    <a:lnTo>
                      <a:pt x="450" y="230"/>
                    </a:lnTo>
                    <a:lnTo>
                      <a:pt x="456" y="207"/>
                    </a:lnTo>
                    <a:lnTo>
                      <a:pt x="458" y="184"/>
                    </a:lnTo>
                    <a:lnTo>
                      <a:pt x="457" y="162"/>
                    </a:lnTo>
                    <a:lnTo>
                      <a:pt x="454" y="136"/>
                    </a:lnTo>
                    <a:lnTo>
                      <a:pt x="445" y="112"/>
                    </a:lnTo>
                    <a:lnTo>
                      <a:pt x="432" y="87"/>
                    </a:lnTo>
                    <a:lnTo>
                      <a:pt x="414" y="63"/>
                    </a:lnTo>
                    <a:lnTo>
                      <a:pt x="390" y="38"/>
                    </a:lnTo>
                    <a:lnTo>
                      <a:pt x="358" y="16"/>
                    </a:lnTo>
                    <a:lnTo>
                      <a:pt x="356" y="14"/>
                    </a:lnTo>
                    <a:lnTo>
                      <a:pt x="349" y="12"/>
                    </a:lnTo>
                    <a:lnTo>
                      <a:pt x="341" y="9"/>
                    </a:lnTo>
                    <a:lnTo>
                      <a:pt x="328" y="5"/>
                    </a:lnTo>
                    <a:lnTo>
                      <a:pt x="313" y="2"/>
                    </a:lnTo>
                    <a:lnTo>
                      <a:pt x="297" y="1"/>
                    </a:lnTo>
                    <a:lnTo>
                      <a:pt x="280" y="2"/>
                    </a:lnTo>
                    <a:lnTo>
                      <a:pt x="261" y="6"/>
                    </a:lnTo>
                    <a:close/>
                  </a:path>
                </a:pathLst>
              </a:custGeom>
              <a:solidFill>
                <a:srgbClr val="ba3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21"/>
              <p:cNvSpPr/>
              <p:nvPr/>
            </p:nvSpPr>
            <p:spPr>
              <a:xfrm>
                <a:off x="6730920" y="2044800"/>
                <a:ext cx="68400" cy="6192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" y="0"/>
                    </a:moveTo>
                    <a:lnTo>
                      <a:pt x="0" y="117"/>
                    </a:lnTo>
                    <a:lnTo>
                      <a:pt x="130" y="109"/>
                    </a:lnTo>
                    <a:lnTo>
                      <a:pt x="1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22"/>
              <p:cNvSpPr/>
              <p:nvPr/>
            </p:nvSpPr>
            <p:spPr>
              <a:xfrm>
                <a:off x="6486480" y="1643040"/>
                <a:ext cx="111240" cy="173160"/>
              </a:xfrm>
              <a:custGeom>
                <a:avLst/>
                <a:gdLst/>
                <a:ahLst/>
                <a:rect l="l" t="t" r="r" b="b"/>
                <a:pathLst>
                  <a:path w="209" h="328">
                    <a:moveTo>
                      <a:pt x="0" y="287"/>
                    </a:moveTo>
                    <a:lnTo>
                      <a:pt x="0" y="284"/>
                    </a:lnTo>
                    <a:lnTo>
                      <a:pt x="1" y="279"/>
                    </a:lnTo>
                    <a:lnTo>
                      <a:pt x="3" y="269"/>
                    </a:lnTo>
                    <a:lnTo>
                      <a:pt x="7" y="257"/>
                    </a:lnTo>
                    <a:lnTo>
                      <a:pt x="11" y="243"/>
                    </a:lnTo>
                    <a:lnTo>
                      <a:pt x="16" y="225"/>
                    </a:lnTo>
                    <a:lnTo>
                      <a:pt x="24" y="205"/>
                    </a:lnTo>
                    <a:lnTo>
                      <a:pt x="33" y="185"/>
                    </a:lnTo>
                    <a:lnTo>
                      <a:pt x="44" y="162"/>
                    </a:lnTo>
                    <a:lnTo>
                      <a:pt x="56" y="140"/>
                    </a:lnTo>
                    <a:lnTo>
                      <a:pt x="70" y="116"/>
                    </a:lnTo>
                    <a:lnTo>
                      <a:pt x="87" y="91"/>
                    </a:lnTo>
                    <a:lnTo>
                      <a:pt x="106" y="67"/>
                    </a:lnTo>
                    <a:lnTo>
                      <a:pt x="127" y="45"/>
                    </a:lnTo>
                    <a:lnTo>
                      <a:pt x="151" y="22"/>
                    </a:lnTo>
                    <a:lnTo>
                      <a:pt x="178" y="0"/>
                    </a:lnTo>
                    <a:lnTo>
                      <a:pt x="181" y="7"/>
                    </a:lnTo>
                    <a:lnTo>
                      <a:pt x="185" y="29"/>
                    </a:lnTo>
                    <a:lnTo>
                      <a:pt x="190" y="59"/>
                    </a:lnTo>
                    <a:lnTo>
                      <a:pt x="198" y="101"/>
                    </a:lnTo>
                    <a:lnTo>
                      <a:pt x="204" y="150"/>
                    </a:lnTo>
                    <a:lnTo>
                      <a:pt x="208" y="207"/>
                    </a:lnTo>
                    <a:lnTo>
                      <a:pt x="209" y="265"/>
                    </a:lnTo>
                    <a:lnTo>
                      <a:pt x="207" y="328"/>
                    </a:lnTo>
                    <a:lnTo>
                      <a:pt x="205" y="328"/>
                    </a:lnTo>
                    <a:lnTo>
                      <a:pt x="200" y="326"/>
                    </a:lnTo>
                    <a:lnTo>
                      <a:pt x="192" y="324"/>
                    </a:lnTo>
                    <a:lnTo>
                      <a:pt x="182" y="320"/>
                    </a:lnTo>
                    <a:lnTo>
                      <a:pt x="169" y="316"/>
                    </a:lnTo>
                    <a:lnTo>
                      <a:pt x="153" y="312"/>
                    </a:lnTo>
                    <a:lnTo>
                      <a:pt x="138" y="308"/>
                    </a:lnTo>
                    <a:lnTo>
                      <a:pt x="122" y="304"/>
                    </a:lnTo>
                    <a:lnTo>
                      <a:pt x="105" y="300"/>
                    </a:lnTo>
                    <a:lnTo>
                      <a:pt x="86" y="296"/>
                    </a:lnTo>
                    <a:lnTo>
                      <a:pt x="70" y="292"/>
                    </a:lnTo>
                    <a:lnTo>
                      <a:pt x="52" y="290"/>
                    </a:lnTo>
                    <a:lnTo>
                      <a:pt x="37" y="287"/>
                    </a:lnTo>
                    <a:lnTo>
                      <a:pt x="23" y="285"/>
                    </a:lnTo>
                    <a:lnTo>
                      <a:pt x="10" y="285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23"/>
              <p:cNvSpPr/>
              <p:nvPr/>
            </p:nvSpPr>
            <p:spPr>
              <a:xfrm>
                <a:off x="6905520" y="1665360"/>
                <a:ext cx="104760" cy="150840"/>
              </a:xfrm>
              <a:custGeom>
                <a:avLst/>
                <a:gdLst/>
                <a:ahLst/>
                <a:rect l="l" t="t" r="r" b="b"/>
                <a:pathLst>
                  <a:path w="200" h="286">
                    <a:moveTo>
                      <a:pt x="55" y="0"/>
                    </a:moveTo>
                    <a:lnTo>
                      <a:pt x="53" y="7"/>
                    </a:lnTo>
                    <a:lnTo>
                      <a:pt x="46" y="25"/>
                    </a:lnTo>
                    <a:lnTo>
                      <a:pt x="36" y="55"/>
                    </a:lnTo>
                    <a:lnTo>
                      <a:pt x="25" y="92"/>
                    </a:lnTo>
                    <a:lnTo>
                      <a:pt x="15" y="136"/>
                    </a:lnTo>
                    <a:lnTo>
                      <a:pt x="5" y="185"/>
                    </a:lnTo>
                    <a:lnTo>
                      <a:pt x="0" y="235"/>
                    </a:lnTo>
                    <a:lnTo>
                      <a:pt x="0" y="286"/>
                    </a:lnTo>
                    <a:lnTo>
                      <a:pt x="27" y="286"/>
                    </a:lnTo>
                    <a:lnTo>
                      <a:pt x="33" y="285"/>
                    </a:lnTo>
                    <a:lnTo>
                      <a:pt x="48" y="280"/>
                    </a:lnTo>
                    <a:lnTo>
                      <a:pt x="68" y="273"/>
                    </a:lnTo>
                    <a:lnTo>
                      <a:pt x="96" y="265"/>
                    </a:lnTo>
                    <a:lnTo>
                      <a:pt x="124" y="256"/>
                    </a:lnTo>
                    <a:lnTo>
                      <a:pt x="152" y="248"/>
                    </a:lnTo>
                    <a:lnTo>
                      <a:pt x="178" y="241"/>
                    </a:lnTo>
                    <a:lnTo>
                      <a:pt x="200" y="235"/>
                    </a:lnTo>
                    <a:lnTo>
                      <a:pt x="197" y="227"/>
                    </a:lnTo>
                    <a:lnTo>
                      <a:pt x="188" y="205"/>
                    </a:lnTo>
                    <a:lnTo>
                      <a:pt x="174" y="173"/>
                    </a:lnTo>
                    <a:lnTo>
                      <a:pt x="155" y="134"/>
                    </a:lnTo>
                    <a:lnTo>
                      <a:pt x="134" y="94"/>
                    </a:lnTo>
                    <a:lnTo>
                      <a:pt x="110" y="55"/>
                    </a:lnTo>
                    <a:lnTo>
                      <a:pt x="84" y="23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24"/>
              <p:cNvSpPr/>
              <p:nvPr/>
            </p:nvSpPr>
            <p:spPr>
              <a:xfrm>
                <a:off x="6727680" y="1833840"/>
                <a:ext cx="74880" cy="95040"/>
              </a:xfrm>
              <a:custGeom>
                <a:avLst/>
                <a:gdLst/>
                <a:ahLst/>
                <a:rect l="l" t="t" r="r" b="b"/>
                <a:pathLst>
                  <a:path w="143" h="180">
                    <a:moveTo>
                      <a:pt x="68" y="0"/>
                    </a:moveTo>
                    <a:lnTo>
                      <a:pt x="0" y="170"/>
                    </a:lnTo>
                    <a:lnTo>
                      <a:pt x="3" y="171"/>
                    </a:lnTo>
                    <a:lnTo>
                      <a:pt x="11" y="174"/>
                    </a:lnTo>
                    <a:lnTo>
                      <a:pt x="24" y="178"/>
                    </a:lnTo>
                    <a:lnTo>
                      <a:pt x="41" y="180"/>
                    </a:lnTo>
                    <a:lnTo>
                      <a:pt x="62" y="180"/>
                    </a:lnTo>
                    <a:lnTo>
                      <a:pt x="86" y="176"/>
                    </a:lnTo>
                    <a:lnTo>
                      <a:pt x="114" y="167"/>
                    </a:lnTo>
                    <a:lnTo>
                      <a:pt x="143" y="15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25"/>
              <p:cNvSpPr/>
              <p:nvPr/>
            </p:nvSpPr>
            <p:spPr>
              <a:xfrm>
                <a:off x="6676920" y="2059200"/>
                <a:ext cx="192240" cy="139680"/>
              </a:xfrm>
              <a:custGeom>
                <a:avLst/>
                <a:gdLst/>
                <a:ahLst/>
                <a:rect l="l" t="t" r="r" b="b"/>
                <a:pathLst>
                  <a:path w="363" h="264">
                    <a:moveTo>
                      <a:pt x="89" y="8"/>
                    </a:moveTo>
                    <a:lnTo>
                      <a:pt x="85" y="8"/>
                    </a:lnTo>
                    <a:lnTo>
                      <a:pt x="73" y="8"/>
                    </a:lnTo>
                    <a:lnTo>
                      <a:pt x="58" y="11"/>
                    </a:lnTo>
                    <a:lnTo>
                      <a:pt x="39" y="19"/>
                    </a:lnTo>
                    <a:lnTo>
                      <a:pt x="22" y="34"/>
                    </a:lnTo>
                    <a:lnTo>
                      <a:pt x="8" y="59"/>
                    </a:lnTo>
                    <a:lnTo>
                      <a:pt x="0" y="94"/>
                    </a:lnTo>
                    <a:lnTo>
                      <a:pt x="0" y="143"/>
                    </a:lnTo>
                    <a:lnTo>
                      <a:pt x="0" y="145"/>
                    </a:lnTo>
                    <a:lnTo>
                      <a:pt x="2" y="149"/>
                    </a:lnTo>
                    <a:lnTo>
                      <a:pt x="4" y="155"/>
                    </a:lnTo>
                    <a:lnTo>
                      <a:pt x="8" y="165"/>
                    </a:lnTo>
                    <a:lnTo>
                      <a:pt x="12" y="174"/>
                    </a:lnTo>
                    <a:lnTo>
                      <a:pt x="18" y="186"/>
                    </a:lnTo>
                    <a:lnTo>
                      <a:pt x="26" y="197"/>
                    </a:lnTo>
                    <a:lnTo>
                      <a:pt x="35" y="209"/>
                    </a:lnTo>
                    <a:lnTo>
                      <a:pt x="46" y="221"/>
                    </a:lnTo>
                    <a:lnTo>
                      <a:pt x="58" y="233"/>
                    </a:lnTo>
                    <a:lnTo>
                      <a:pt x="73" y="242"/>
                    </a:lnTo>
                    <a:lnTo>
                      <a:pt x="89" y="252"/>
                    </a:lnTo>
                    <a:lnTo>
                      <a:pt x="108" y="258"/>
                    </a:lnTo>
                    <a:lnTo>
                      <a:pt x="128" y="262"/>
                    </a:lnTo>
                    <a:lnTo>
                      <a:pt x="151" y="264"/>
                    </a:lnTo>
                    <a:lnTo>
                      <a:pt x="177" y="262"/>
                    </a:lnTo>
                    <a:lnTo>
                      <a:pt x="179" y="262"/>
                    </a:lnTo>
                    <a:lnTo>
                      <a:pt x="185" y="264"/>
                    </a:lnTo>
                    <a:lnTo>
                      <a:pt x="195" y="264"/>
                    </a:lnTo>
                    <a:lnTo>
                      <a:pt x="207" y="264"/>
                    </a:lnTo>
                    <a:lnTo>
                      <a:pt x="221" y="264"/>
                    </a:lnTo>
                    <a:lnTo>
                      <a:pt x="237" y="264"/>
                    </a:lnTo>
                    <a:lnTo>
                      <a:pt x="253" y="261"/>
                    </a:lnTo>
                    <a:lnTo>
                      <a:pt x="271" y="257"/>
                    </a:lnTo>
                    <a:lnTo>
                      <a:pt x="288" y="252"/>
                    </a:lnTo>
                    <a:lnTo>
                      <a:pt x="306" y="244"/>
                    </a:lnTo>
                    <a:lnTo>
                      <a:pt x="321" y="233"/>
                    </a:lnTo>
                    <a:lnTo>
                      <a:pt x="335" y="221"/>
                    </a:lnTo>
                    <a:lnTo>
                      <a:pt x="347" y="205"/>
                    </a:lnTo>
                    <a:lnTo>
                      <a:pt x="356" y="185"/>
                    </a:lnTo>
                    <a:lnTo>
                      <a:pt x="361" y="162"/>
                    </a:lnTo>
                    <a:lnTo>
                      <a:pt x="363" y="135"/>
                    </a:lnTo>
                    <a:lnTo>
                      <a:pt x="363" y="130"/>
                    </a:lnTo>
                    <a:lnTo>
                      <a:pt x="363" y="118"/>
                    </a:lnTo>
                    <a:lnTo>
                      <a:pt x="361" y="99"/>
                    </a:lnTo>
                    <a:lnTo>
                      <a:pt x="354" y="78"/>
                    </a:lnTo>
                    <a:lnTo>
                      <a:pt x="340" y="54"/>
                    </a:lnTo>
                    <a:lnTo>
                      <a:pt x="320" y="32"/>
                    </a:lnTo>
                    <a:lnTo>
                      <a:pt x="288" y="13"/>
                    </a:lnTo>
                    <a:lnTo>
                      <a:pt x="246" y="0"/>
                    </a:lnTo>
                    <a:lnTo>
                      <a:pt x="246" y="135"/>
                    </a:lnTo>
                    <a:lnTo>
                      <a:pt x="83" y="127"/>
                    </a:lnTo>
                    <a:lnTo>
                      <a:pt x="89" y="8"/>
                    </a:lnTo>
                    <a:close/>
                  </a:path>
                </a:pathLst>
              </a:custGeom>
              <a:solidFill>
                <a:srgbClr val="ffdb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126"/>
              <p:cNvSpPr/>
              <p:nvPr/>
            </p:nvSpPr>
            <p:spPr>
              <a:xfrm>
                <a:off x="6465960" y="1622520"/>
                <a:ext cx="115920" cy="171360"/>
              </a:xfrm>
              <a:custGeom>
                <a:avLst/>
                <a:gdLst/>
                <a:ahLst/>
                <a:rect l="l" t="t" r="r" b="b"/>
                <a:pathLst>
                  <a:path w="218" h="325">
                    <a:moveTo>
                      <a:pt x="40" y="325"/>
                    </a:moveTo>
                    <a:lnTo>
                      <a:pt x="0" y="322"/>
                    </a:lnTo>
                    <a:lnTo>
                      <a:pt x="0" y="319"/>
                    </a:lnTo>
                    <a:lnTo>
                      <a:pt x="1" y="313"/>
                    </a:lnTo>
                    <a:lnTo>
                      <a:pt x="2" y="302"/>
                    </a:lnTo>
                    <a:lnTo>
                      <a:pt x="5" y="287"/>
                    </a:lnTo>
                    <a:lnTo>
                      <a:pt x="10" y="269"/>
                    </a:lnTo>
                    <a:lnTo>
                      <a:pt x="15" y="249"/>
                    </a:lnTo>
                    <a:lnTo>
                      <a:pt x="22" y="226"/>
                    </a:lnTo>
                    <a:lnTo>
                      <a:pt x="30" y="202"/>
                    </a:lnTo>
                    <a:lnTo>
                      <a:pt x="41" y="176"/>
                    </a:lnTo>
                    <a:lnTo>
                      <a:pt x="55" y="149"/>
                    </a:lnTo>
                    <a:lnTo>
                      <a:pt x="71" y="123"/>
                    </a:lnTo>
                    <a:lnTo>
                      <a:pt x="90" y="96"/>
                    </a:lnTo>
                    <a:lnTo>
                      <a:pt x="112" y="69"/>
                    </a:lnTo>
                    <a:lnTo>
                      <a:pt x="137" y="45"/>
                    </a:lnTo>
                    <a:lnTo>
                      <a:pt x="165" y="21"/>
                    </a:lnTo>
                    <a:lnTo>
                      <a:pt x="197" y="0"/>
                    </a:lnTo>
                    <a:lnTo>
                      <a:pt x="218" y="38"/>
                    </a:lnTo>
                    <a:lnTo>
                      <a:pt x="216" y="40"/>
                    </a:lnTo>
                    <a:lnTo>
                      <a:pt x="212" y="41"/>
                    </a:lnTo>
                    <a:lnTo>
                      <a:pt x="205" y="46"/>
                    </a:lnTo>
                    <a:lnTo>
                      <a:pt x="196" y="52"/>
                    </a:lnTo>
                    <a:lnTo>
                      <a:pt x="184" y="61"/>
                    </a:lnTo>
                    <a:lnTo>
                      <a:pt x="171" y="71"/>
                    </a:lnTo>
                    <a:lnTo>
                      <a:pt x="156" y="84"/>
                    </a:lnTo>
                    <a:lnTo>
                      <a:pt x="142" y="99"/>
                    </a:lnTo>
                    <a:lnTo>
                      <a:pt x="127" y="117"/>
                    </a:lnTo>
                    <a:lnTo>
                      <a:pt x="112" y="137"/>
                    </a:lnTo>
                    <a:lnTo>
                      <a:pt x="97" y="162"/>
                    </a:lnTo>
                    <a:lnTo>
                      <a:pt x="82" y="187"/>
                    </a:lnTo>
                    <a:lnTo>
                      <a:pt x="69" y="216"/>
                    </a:lnTo>
                    <a:lnTo>
                      <a:pt x="57" y="250"/>
                    </a:lnTo>
                    <a:lnTo>
                      <a:pt x="48" y="286"/>
                    </a:lnTo>
                    <a:lnTo>
                      <a:pt x="40" y="325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Freeform 127"/>
              <p:cNvSpPr/>
              <p:nvPr/>
            </p:nvSpPr>
            <p:spPr>
              <a:xfrm>
                <a:off x="6934320" y="1629000"/>
                <a:ext cx="109440" cy="160200"/>
              </a:xfrm>
              <a:custGeom>
                <a:avLst/>
                <a:gdLst/>
                <a:ahLst/>
                <a:rect l="l" t="t" r="r" b="b"/>
                <a:pathLst>
                  <a:path w="208" h="302">
                    <a:moveTo>
                      <a:pt x="12" y="0"/>
                    </a:moveTo>
                    <a:lnTo>
                      <a:pt x="0" y="67"/>
                    </a:lnTo>
                    <a:lnTo>
                      <a:pt x="4" y="70"/>
                    </a:lnTo>
                    <a:lnTo>
                      <a:pt x="13" y="78"/>
                    </a:lnTo>
                    <a:lnTo>
                      <a:pt x="28" y="92"/>
                    </a:lnTo>
                    <a:lnTo>
                      <a:pt x="47" y="114"/>
                    </a:lnTo>
                    <a:lnTo>
                      <a:pt x="69" y="145"/>
                    </a:lnTo>
                    <a:lnTo>
                      <a:pt x="93" y="186"/>
                    </a:lnTo>
                    <a:lnTo>
                      <a:pt x="119" y="238"/>
                    </a:lnTo>
                    <a:lnTo>
                      <a:pt x="145" y="302"/>
                    </a:lnTo>
                    <a:lnTo>
                      <a:pt x="208" y="297"/>
                    </a:lnTo>
                    <a:lnTo>
                      <a:pt x="207" y="294"/>
                    </a:lnTo>
                    <a:lnTo>
                      <a:pt x="206" y="289"/>
                    </a:lnTo>
                    <a:lnTo>
                      <a:pt x="203" y="278"/>
                    </a:lnTo>
                    <a:lnTo>
                      <a:pt x="198" y="266"/>
                    </a:lnTo>
                    <a:lnTo>
                      <a:pt x="192" y="250"/>
                    </a:lnTo>
                    <a:lnTo>
                      <a:pt x="184" y="232"/>
                    </a:lnTo>
                    <a:lnTo>
                      <a:pt x="176" y="211"/>
                    </a:lnTo>
                    <a:lnTo>
                      <a:pt x="165" y="189"/>
                    </a:lnTo>
                    <a:lnTo>
                      <a:pt x="152" y="166"/>
                    </a:lnTo>
                    <a:lnTo>
                      <a:pt x="137" y="141"/>
                    </a:lnTo>
                    <a:lnTo>
                      <a:pt x="122" y="116"/>
                    </a:lnTo>
                    <a:lnTo>
                      <a:pt x="104" y="91"/>
                    </a:lnTo>
                    <a:lnTo>
                      <a:pt x="84" y="67"/>
                    </a:lnTo>
                    <a:lnTo>
                      <a:pt x="62" y="44"/>
                    </a:lnTo>
                    <a:lnTo>
                      <a:pt x="38" y="2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128"/>
              <p:cNvSpPr/>
              <p:nvPr/>
            </p:nvSpPr>
            <p:spPr>
              <a:xfrm>
                <a:off x="6665760" y="2116080"/>
                <a:ext cx="209880" cy="117720"/>
              </a:xfrm>
              <a:custGeom>
                <a:avLst/>
                <a:gdLst/>
                <a:ahLst/>
                <a:rect l="l" t="t" r="r" b="b"/>
                <a:pathLst>
                  <a:path w="396" h="223">
                    <a:moveTo>
                      <a:pt x="14" y="0"/>
                    </a:moveTo>
                    <a:lnTo>
                      <a:pt x="14" y="2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5" y="22"/>
                    </a:lnTo>
                    <a:lnTo>
                      <a:pt x="17" y="33"/>
                    </a:lnTo>
                    <a:lnTo>
                      <a:pt x="20" y="45"/>
                    </a:lnTo>
                    <a:lnTo>
                      <a:pt x="26" y="58"/>
                    </a:lnTo>
                    <a:lnTo>
                      <a:pt x="32" y="71"/>
                    </a:lnTo>
                    <a:lnTo>
                      <a:pt x="42" y="86"/>
                    </a:lnTo>
                    <a:lnTo>
                      <a:pt x="54" y="100"/>
                    </a:lnTo>
                    <a:lnTo>
                      <a:pt x="68" y="112"/>
                    </a:lnTo>
                    <a:lnTo>
                      <a:pt x="86" y="124"/>
                    </a:lnTo>
                    <a:lnTo>
                      <a:pt x="107" y="134"/>
                    </a:lnTo>
                    <a:lnTo>
                      <a:pt x="133" y="144"/>
                    </a:lnTo>
                    <a:lnTo>
                      <a:pt x="163" y="150"/>
                    </a:lnTo>
                    <a:lnTo>
                      <a:pt x="196" y="154"/>
                    </a:lnTo>
                    <a:lnTo>
                      <a:pt x="198" y="154"/>
                    </a:lnTo>
                    <a:lnTo>
                      <a:pt x="204" y="156"/>
                    </a:lnTo>
                    <a:lnTo>
                      <a:pt x="214" y="157"/>
                    </a:lnTo>
                    <a:lnTo>
                      <a:pt x="225" y="158"/>
                    </a:lnTo>
                    <a:lnTo>
                      <a:pt x="239" y="158"/>
                    </a:lnTo>
                    <a:lnTo>
                      <a:pt x="254" y="158"/>
                    </a:lnTo>
                    <a:lnTo>
                      <a:pt x="271" y="156"/>
                    </a:lnTo>
                    <a:lnTo>
                      <a:pt x="289" y="153"/>
                    </a:lnTo>
                    <a:lnTo>
                      <a:pt x="306" y="146"/>
                    </a:lnTo>
                    <a:lnTo>
                      <a:pt x="323" y="138"/>
                    </a:lnTo>
                    <a:lnTo>
                      <a:pt x="339" y="128"/>
                    </a:lnTo>
                    <a:lnTo>
                      <a:pt x="353" y="113"/>
                    </a:lnTo>
                    <a:lnTo>
                      <a:pt x="365" y="94"/>
                    </a:lnTo>
                    <a:lnTo>
                      <a:pt x="375" y="71"/>
                    </a:lnTo>
                    <a:lnTo>
                      <a:pt x="381" y="45"/>
                    </a:lnTo>
                    <a:lnTo>
                      <a:pt x="385" y="13"/>
                    </a:lnTo>
                    <a:lnTo>
                      <a:pt x="386" y="15"/>
                    </a:lnTo>
                    <a:lnTo>
                      <a:pt x="388" y="22"/>
                    </a:lnTo>
                    <a:lnTo>
                      <a:pt x="390" y="31"/>
                    </a:lnTo>
                    <a:lnTo>
                      <a:pt x="393" y="46"/>
                    </a:lnTo>
                    <a:lnTo>
                      <a:pt x="395" y="61"/>
                    </a:lnTo>
                    <a:lnTo>
                      <a:pt x="396" y="79"/>
                    </a:lnTo>
                    <a:lnTo>
                      <a:pt x="395" y="98"/>
                    </a:lnTo>
                    <a:lnTo>
                      <a:pt x="392" y="117"/>
                    </a:lnTo>
                    <a:lnTo>
                      <a:pt x="386" y="137"/>
                    </a:lnTo>
                    <a:lnTo>
                      <a:pt x="375" y="156"/>
                    </a:lnTo>
                    <a:lnTo>
                      <a:pt x="361" y="174"/>
                    </a:lnTo>
                    <a:lnTo>
                      <a:pt x="341" y="189"/>
                    </a:lnTo>
                    <a:lnTo>
                      <a:pt x="315" y="204"/>
                    </a:lnTo>
                    <a:lnTo>
                      <a:pt x="283" y="213"/>
                    </a:lnTo>
                    <a:lnTo>
                      <a:pt x="244" y="220"/>
                    </a:lnTo>
                    <a:lnTo>
                      <a:pt x="198" y="223"/>
                    </a:lnTo>
                    <a:lnTo>
                      <a:pt x="195" y="223"/>
                    </a:lnTo>
                    <a:lnTo>
                      <a:pt x="188" y="223"/>
                    </a:lnTo>
                    <a:lnTo>
                      <a:pt x="176" y="223"/>
                    </a:lnTo>
                    <a:lnTo>
                      <a:pt x="159" y="221"/>
                    </a:lnTo>
                    <a:lnTo>
                      <a:pt x="141" y="220"/>
                    </a:lnTo>
                    <a:lnTo>
                      <a:pt x="121" y="216"/>
                    </a:lnTo>
                    <a:lnTo>
                      <a:pt x="101" y="211"/>
                    </a:lnTo>
                    <a:lnTo>
                      <a:pt x="79" y="201"/>
                    </a:lnTo>
                    <a:lnTo>
                      <a:pt x="59" y="191"/>
                    </a:lnTo>
                    <a:lnTo>
                      <a:pt x="41" y="177"/>
                    </a:lnTo>
                    <a:lnTo>
                      <a:pt x="24" y="158"/>
                    </a:lnTo>
                    <a:lnTo>
                      <a:pt x="12" y="137"/>
                    </a:lnTo>
                    <a:lnTo>
                      <a:pt x="4" y="110"/>
                    </a:lnTo>
                    <a:lnTo>
                      <a:pt x="0" y="79"/>
                    </a:lnTo>
                    <a:lnTo>
                      <a:pt x="4" y="4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eaa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Freeform 129"/>
              <p:cNvSpPr/>
              <p:nvPr/>
            </p:nvSpPr>
            <p:spPr>
              <a:xfrm>
                <a:off x="6570720" y="1606680"/>
                <a:ext cx="38160" cy="223920"/>
              </a:xfrm>
              <a:custGeom>
                <a:avLst/>
                <a:gdLst/>
                <a:ahLst/>
                <a:rect l="l" t="t" r="r" b="b"/>
                <a:pathLst>
                  <a:path w="74" h="422">
                    <a:moveTo>
                      <a:pt x="50" y="396"/>
                    </a:moveTo>
                    <a:lnTo>
                      <a:pt x="51" y="390"/>
                    </a:lnTo>
                    <a:lnTo>
                      <a:pt x="52" y="370"/>
                    </a:lnTo>
                    <a:lnTo>
                      <a:pt x="53" y="339"/>
                    </a:lnTo>
                    <a:lnTo>
                      <a:pt x="52" y="296"/>
                    </a:lnTo>
                    <a:lnTo>
                      <a:pt x="48" y="242"/>
                    </a:lnTo>
                    <a:lnTo>
                      <a:pt x="38" y="179"/>
                    </a:lnTo>
                    <a:lnTo>
                      <a:pt x="23" y="109"/>
                    </a:lnTo>
                    <a:lnTo>
                      <a:pt x="0" y="30"/>
                    </a:lnTo>
                    <a:lnTo>
                      <a:pt x="1" y="0"/>
                    </a:lnTo>
                    <a:lnTo>
                      <a:pt x="5" y="8"/>
                    </a:lnTo>
                    <a:lnTo>
                      <a:pt x="15" y="31"/>
                    </a:lnTo>
                    <a:lnTo>
                      <a:pt x="29" y="68"/>
                    </a:lnTo>
                    <a:lnTo>
                      <a:pt x="44" y="118"/>
                    </a:lnTo>
                    <a:lnTo>
                      <a:pt x="58" y="179"/>
                    </a:lnTo>
                    <a:lnTo>
                      <a:pt x="68" y="252"/>
                    </a:lnTo>
                    <a:lnTo>
                      <a:pt x="74" y="333"/>
                    </a:lnTo>
                    <a:lnTo>
                      <a:pt x="70" y="422"/>
                    </a:lnTo>
                    <a:lnTo>
                      <a:pt x="50" y="396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130"/>
              <p:cNvSpPr/>
              <p:nvPr/>
            </p:nvSpPr>
            <p:spPr>
              <a:xfrm>
                <a:off x="6934320" y="1616040"/>
                <a:ext cx="120600" cy="187560"/>
              </a:xfrm>
              <a:custGeom>
                <a:avLst/>
                <a:gdLst/>
                <a:ahLst/>
                <a:rect l="l" t="t" r="r" b="b"/>
                <a:pathLst>
                  <a:path w="228" h="353">
                    <a:moveTo>
                      <a:pt x="12" y="25"/>
                    </a:moveTo>
                    <a:lnTo>
                      <a:pt x="13" y="25"/>
                    </a:lnTo>
                    <a:lnTo>
                      <a:pt x="17" y="26"/>
                    </a:lnTo>
                    <a:lnTo>
                      <a:pt x="21" y="29"/>
                    </a:lnTo>
                    <a:lnTo>
                      <a:pt x="29" y="34"/>
                    </a:lnTo>
                    <a:lnTo>
                      <a:pt x="37" y="40"/>
                    </a:lnTo>
                    <a:lnTo>
                      <a:pt x="47" y="49"/>
                    </a:lnTo>
                    <a:lnTo>
                      <a:pt x="59" y="60"/>
                    </a:lnTo>
                    <a:lnTo>
                      <a:pt x="71" y="73"/>
                    </a:lnTo>
                    <a:lnTo>
                      <a:pt x="85" y="91"/>
                    </a:lnTo>
                    <a:lnTo>
                      <a:pt x="100" y="111"/>
                    </a:lnTo>
                    <a:lnTo>
                      <a:pt x="117" y="135"/>
                    </a:lnTo>
                    <a:lnTo>
                      <a:pt x="134" y="163"/>
                    </a:lnTo>
                    <a:lnTo>
                      <a:pt x="152" y="196"/>
                    </a:lnTo>
                    <a:lnTo>
                      <a:pt x="170" y="232"/>
                    </a:lnTo>
                    <a:lnTo>
                      <a:pt x="189" y="275"/>
                    </a:lnTo>
                    <a:lnTo>
                      <a:pt x="208" y="322"/>
                    </a:lnTo>
                    <a:lnTo>
                      <a:pt x="228" y="353"/>
                    </a:lnTo>
                    <a:lnTo>
                      <a:pt x="228" y="350"/>
                    </a:lnTo>
                    <a:lnTo>
                      <a:pt x="226" y="342"/>
                    </a:lnTo>
                    <a:lnTo>
                      <a:pt x="223" y="329"/>
                    </a:lnTo>
                    <a:lnTo>
                      <a:pt x="220" y="313"/>
                    </a:lnTo>
                    <a:lnTo>
                      <a:pt x="215" y="293"/>
                    </a:lnTo>
                    <a:lnTo>
                      <a:pt x="208" y="270"/>
                    </a:lnTo>
                    <a:lnTo>
                      <a:pt x="199" y="243"/>
                    </a:lnTo>
                    <a:lnTo>
                      <a:pt x="189" y="216"/>
                    </a:lnTo>
                    <a:lnTo>
                      <a:pt x="176" y="188"/>
                    </a:lnTo>
                    <a:lnTo>
                      <a:pt x="159" y="159"/>
                    </a:lnTo>
                    <a:lnTo>
                      <a:pt x="141" y="129"/>
                    </a:lnTo>
                    <a:lnTo>
                      <a:pt x="119" y="100"/>
                    </a:lnTo>
                    <a:lnTo>
                      <a:pt x="95" y="72"/>
                    </a:lnTo>
                    <a:lnTo>
                      <a:pt x="67" y="45"/>
                    </a:lnTo>
                    <a:lnTo>
                      <a:pt x="35" y="21"/>
                    </a:lnTo>
                    <a:lnTo>
                      <a:pt x="0" y="0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131"/>
              <p:cNvSpPr/>
              <p:nvPr/>
            </p:nvSpPr>
            <p:spPr>
              <a:xfrm>
                <a:off x="6757920" y="1808280"/>
                <a:ext cx="60480" cy="10620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0" y="24"/>
                    </a:moveTo>
                    <a:lnTo>
                      <a:pt x="86" y="202"/>
                    </a:lnTo>
                    <a:lnTo>
                      <a:pt x="114" y="202"/>
                    </a:lnTo>
                    <a:lnTo>
                      <a:pt x="11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1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132"/>
              <p:cNvSpPr/>
              <p:nvPr/>
            </p:nvSpPr>
            <p:spPr>
              <a:xfrm>
                <a:off x="6707160" y="20782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236" h="160">
                    <a:moveTo>
                      <a:pt x="26" y="6"/>
                    </a:moveTo>
                    <a:lnTo>
                      <a:pt x="23" y="9"/>
                    </a:lnTo>
                    <a:lnTo>
                      <a:pt x="19" y="16"/>
                    </a:lnTo>
                    <a:lnTo>
                      <a:pt x="14" y="25"/>
                    </a:lnTo>
                    <a:lnTo>
                      <a:pt x="7" y="38"/>
                    </a:lnTo>
                    <a:lnTo>
                      <a:pt x="3" y="53"/>
                    </a:lnTo>
                    <a:lnTo>
                      <a:pt x="0" y="70"/>
                    </a:lnTo>
                    <a:lnTo>
                      <a:pt x="0" y="89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7" y="111"/>
                    </a:lnTo>
                    <a:lnTo>
                      <a:pt x="9" y="113"/>
                    </a:lnTo>
                    <a:lnTo>
                      <a:pt x="13" y="117"/>
                    </a:lnTo>
                    <a:lnTo>
                      <a:pt x="18" y="123"/>
                    </a:lnTo>
                    <a:lnTo>
                      <a:pt x="23" y="127"/>
                    </a:lnTo>
                    <a:lnTo>
                      <a:pt x="31" y="132"/>
                    </a:lnTo>
                    <a:lnTo>
                      <a:pt x="40" y="137"/>
                    </a:lnTo>
                    <a:lnTo>
                      <a:pt x="51" y="143"/>
                    </a:lnTo>
                    <a:lnTo>
                      <a:pt x="64" y="148"/>
                    </a:lnTo>
                    <a:lnTo>
                      <a:pt x="78" y="152"/>
                    </a:lnTo>
                    <a:lnTo>
                      <a:pt x="93" y="156"/>
                    </a:lnTo>
                    <a:lnTo>
                      <a:pt x="112" y="159"/>
                    </a:lnTo>
                    <a:lnTo>
                      <a:pt x="132" y="160"/>
                    </a:lnTo>
                    <a:lnTo>
                      <a:pt x="154" y="160"/>
                    </a:lnTo>
                    <a:lnTo>
                      <a:pt x="179" y="159"/>
                    </a:lnTo>
                    <a:lnTo>
                      <a:pt x="182" y="157"/>
                    </a:lnTo>
                    <a:lnTo>
                      <a:pt x="191" y="155"/>
                    </a:lnTo>
                    <a:lnTo>
                      <a:pt x="202" y="148"/>
                    </a:lnTo>
                    <a:lnTo>
                      <a:pt x="215" y="136"/>
                    </a:lnTo>
                    <a:lnTo>
                      <a:pt x="226" y="121"/>
                    </a:lnTo>
                    <a:lnTo>
                      <a:pt x="233" y="100"/>
                    </a:lnTo>
                    <a:lnTo>
                      <a:pt x="236" y="73"/>
                    </a:lnTo>
                    <a:lnTo>
                      <a:pt x="230" y="38"/>
                    </a:lnTo>
                    <a:lnTo>
                      <a:pt x="229" y="37"/>
                    </a:lnTo>
                    <a:lnTo>
                      <a:pt x="227" y="32"/>
                    </a:lnTo>
                    <a:lnTo>
                      <a:pt x="224" y="26"/>
                    </a:lnTo>
                    <a:lnTo>
                      <a:pt x="219" y="18"/>
                    </a:lnTo>
                    <a:lnTo>
                      <a:pt x="214" y="12"/>
                    </a:lnTo>
                    <a:lnTo>
                      <a:pt x="206" y="6"/>
                    </a:lnTo>
                    <a:lnTo>
                      <a:pt x="199" y="1"/>
                    </a:lnTo>
                    <a:lnTo>
                      <a:pt x="189" y="0"/>
                    </a:lnTo>
                    <a:lnTo>
                      <a:pt x="189" y="97"/>
                    </a:lnTo>
                    <a:lnTo>
                      <a:pt x="26" y="89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133"/>
              <p:cNvSpPr/>
              <p:nvPr/>
            </p:nvSpPr>
            <p:spPr>
              <a:xfrm>
                <a:off x="6534000" y="17100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113" h="175">
                    <a:moveTo>
                      <a:pt x="0" y="144"/>
                    </a:moveTo>
                    <a:lnTo>
                      <a:pt x="1" y="140"/>
                    </a:lnTo>
                    <a:lnTo>
                      <a:pt x="5" y="129"/>
                    </a:lnTo>
                    <a:lnTo>
                      <a:pt x="11" y="113"/>
                    </a:lnTo>
                    <a:lnTo>
                      <a:pt x="20" y="92"/>
                    </a:lnTo>
                    <a:lnTo>
                      <a:pt x="33" y="69"/>
                    </a:lnTo>
                    <a:lnTo>
                      <a:pt x="50" y="45"/>
                    </a:lnTo>
                    <a:lnTo>
                      <a:pt x="72" y="21"/>
                    </a:lnTo>
                    <a:lnTo>
                      <a:pt x="98" y="0"/>
                    </a:lnTo>
                    <a:lnTo>
                      <a:pt x="103" y="20"/>
                    </a:lnTo>
                    <a:lnTo>
                      <a:pt x="109" y="68"/>
                    </a:lnTo>
                    <a:lnTo>
                      <a:pt x="113" y="125"/>
                    </a:lnTo>
                    <a:lnTo>
                      <a:pt x="109" y="175"/>
                    </a:lnTo>
                    <a:lnTo>
                      <a:pt x="105" y="175"/>
                    </a:lnTo>
                    <a:lnTo>
                      <a:pt x="95" y="174"/>
                    </a:lnTo>
                    <a:lnTo>
                      <a:pt x="80" y="172"/>
                    </a:lnTo>
                    <a:lnTo>
                      <a:pt x="62" y="170"/>
                    </a:lnTo>
                    <a:lnTo>
                      <a:pt x="44" y="166"/>
                    </a:lnTo>
                    <a:lnTo>
                      <a:pt x="26" y="160"/>
                    </a:lnTo>
                    <a:lnTo>
                      <a:pt x="11" y="152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134"/>
              <p:cNvSpPr/>
              <p:nvPr/>
            </p:nvSpPr>
            <p:spPr>
              <a:xfrm>
                <a:off x="6734160" y="18608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102" h="121">
                    <a:moveTo>
                      <a:pt x="51" y="0"/>
                    </a:moveTo>
                    <a:lnTo>
                      <a:pt x="0" y="109"/>
                    </a:lnTo>
                    <a:lnTo>
                      <a:pt x="1" y="110"/>
                    </a:lnTo>
                    <a:lnTo>
                      <a:pt x="5" y="113"/>
                    </a:lnTo>
                    <a:lnTo>
                      <a:pt x="11" y="117"/>
                    </a:lnTo>
                    <a:lnTo>
                      <a:pt x="19" y="119"/>
                    </a:lnTo>
                    <a:lnTo>
                      <a:pt x="31" y="121"/>
                    </a:lnTo>
                    <a:lnTo>
                      <a:pt x="45" y="119"/>
                    </a:lnTo>
                    <a:lnTo>
                      <a:pt x="62" y="113"/>
                    </a:lnTo>
                    <a:lnTo>
                      <a:pt x="81" y="102"/>
                    </a:lnTo>
                    <a:lnTo>
                      <a:pt x="102" y="89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135"/>
              <p:cNvSpPr/>
              <p:nvPr/>
            </p:nvSpPr>
            <p:spPr>
              <a:xfrm>
                <a:off x="6904080" y="1697040"/>
                <a:ext cx="82440" cy="119160"/>
              </a:xfrm>
              <a:custGeom>
                <a:avLst/>
                <a:gdLst/>
                <a:ahLst/>
                <a:rect l="l" t="t" r="r" b="b"/>
                <a:pathLst>
                  <a:path w="156" h="226">
                    <a:moveTo>
                      <a:pt x="37" y="0"/>
                    </a:moveTo>
                    <a:lnTo>
                      <a:pt x="35" y="7"/>
                    </a:lnTo>
                    <a:lnTo>
                      <a:pt x="30" y="27"/>
                    </a:lnTo>
                    <a:lnTo>
                      <a:pt x="23" y="55"/>
                    </a:lnTo>
                    <a:lnTo>
                      <a:pt x="15" y="90"/>
                    </a:lnTo>
                    <a:lnTo>
                      <a:pt x="7" y="127"/>
                    </a:lnTo>
                    <a:lnTo>
                      <a:pt x="2" y="165"/>
                    </a:lnTo>
                    <a:lnTo>
                      <a:pt x="0" y="198"/>
                    </a:lnTo>
                    <a:lnTo>
                      <a:pt x="1" y="226"/>
                    </a:lnTo>
                    <a:lnTo>
                      <a:pt x="28" y="226"/>
                    </a:lnTo>
                    <a:lnTo>
                      <a:pt x="156" y="182"/>
                    </a:lnTo>
                    <a:lnTo>
                      <a:pt x="154" y="175"/>
                    </a:lnTo>
                    <a:lnTo>
                      <a:pt x="148" y="155"/>
                    </a:lnTo>
                    <a:lnTo>
                      <a:pt x="137" y="127"/>
                    </a:lnTo>
                    <a:lnTo>
                      <a:pt x="122" y="95"/>
                    </a:lnTo>
                    <a:lnTo>
                      <a:pt x="104" y="63"/>
                    </a:lnTo>
                    <a:lnTo>
                      <a:pt x="84" y="34"/>
                    </a:lnTo>
                    <a:lnTo>
                      <a:pt x="62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136"/>
            <p:cNvSpPr/>
            <p:nvPr/>
          </p:nvSpPr>
          <p:spPr>
            <a:xfrm>
              <a:off x="6397560" y="160020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四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111600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606 L -0.00399 0.75995 E">
                                      <p:cBhvr>
                                        <p:cTn id="384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2109E-006 L 0.00156 0.82655 E">
                                      <p:cBhvr>
                                        <p:cTn id="38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34 0.00509 L 0.04201 0.68732 E">
                                      <p:cBhvr>
                                        <p:cTn id="392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09991E-006 L 0.19532 0.60453 E">
                                      <p:cBhvr>
                                        <p:cTn id="396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23959E-006 L -0.12066 0.53793 E">
                                      <p:cBhvr>
                                        <p:cTn id="40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05834 0.31083 E">
                                      <p:cBhvr>
                                        <p:cTn id="404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1397E-006 L 0.1533 0.40471 E">
                                      <p:cBhvr>
                                        <p:cTn id="408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765E-006 L 0.15833 0.27752 E">
                                      <p:cBhvr>
                                        <p:cTn id="412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-0.06152 L -0.004 0.27151 E">
                                      <p:cBhvr>
                                        <p:cTn id="416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9981E-006 L 0.0375 0.34921 E">
                                      <p:cBhvr>
                                        <p:cTn id="42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56984E-006 L 0.01268 0.48242 E">
                                      <p:cBhvr>
                                        <p:cTn id="42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42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026"/>
          <p:cNvSpPr/>
          <p:nvPr/>
        </p:nvSpPr>
        <p:spPr>
          <a:xfrm>
            <a:off x="838080" y="1523880"/>
            <a:ext cx="129564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038"/>
          <p:cNvSpPr/>
          <p:nvPr/>
        </p:nvSpPr>
        <p:spPr>
          <a:xfrm>
            <a:off x="4038480" y="3352680"/>
            <a:ext cx="1600200" cy="1295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039"/>
          <p:cNvSpPr/>
          <p:nvPr/>
        </p:nvSpPr>
        <p:spPr>
          <a:xfrm>
            <a:off x="5867280" y="1447920"/>
            <a:ext cx="129564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40"/>
          <p:cNvSpPr/>
          <p:nvPr/>
        </p:nvSpPr>
        <p:spPr>
          <a:xfrm>
            <a:off x="3581280" y="1447920"/>
            <a:ext cx="1295640" cy="13716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ā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41"/>
          <p:cNvSpPr/>
          <p:nvPr/>
        </p:nvSpPr>
        <p:spPr>
          <a:xfrm>
            <a:off x="1676520" y="3505320"/>
            <a:ext cx="1447560" cy="1218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42"/>
          <p:cNvSpPr/>
          <p:nvPr/>
        </p:nvSpPr>
        <p:spPr>
          <a:xfrm>
            <a:off x="10666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Picture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5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607840" y="105264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639520" y="5516640"/>
            <a:ext cx="46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4211640" y="3068640"/>
            <a:ext cx="1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781440" y="191628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781440" y="3068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3852720" y="407664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25800" y="5373720"/>
            <a:ext cx="2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10080" y="836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638440" y="2133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942080" y="242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63044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3357720" y="37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446800" y="4005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934080" y="530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3280" y="501336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332000" y="333360"/>
            <a:ext cx="13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qù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500720" y="333360"/>
            <a:ext cx="115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l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2484360" y="1628640"/>
            <a:ext cx="16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3300"/>
                </a:solidFill>
                <a:latin typeface="Times New Roman"/>
              </a:rPr>
              <a:t>wǔ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859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i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1547640" y="2924280"/>
            <a:ext cx="1152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Times New Roman"/>
              </a:rPr>
              <a:t>sì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33480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i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292720" y="3500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1403280" y="4365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q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3924360" y="479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h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M_001"/>
          <p:cNvPicPr/>
          <p:nvPr/>
        </p:nvPicPr>
        <p:blipFill>
          <a:blip r:embed="rId1"/>
          <a:stretch/>
        </p:blipFill>
        <p:spPr>
          <a:xfrm>
            <a:off x="1792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76360" y="2565000"/>
            <a:ext cx="99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5400" y="533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74800" y="765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774800" y="198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798800" y="4724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87188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41332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495520" y="3573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4292640"/>
            <a:ext cx="1447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1403280" y="393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Picture 3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2535120" y="333360"/>
            <a:ext cx="3641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yí   qù   èr   sān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607840" y="89676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    去   二    三   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884960" y="1484280"/>
            <a:ext cx="531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í       qù      èr       sān       lǐ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2291040" y="1989000"/>
            <a:ext cx="49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     去    二      三      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811880" y="2492280"/>
            <a:ext cx="5371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yān    cūn     sì       wǔ      jiā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575800" y="306864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烟     村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四     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817280" y="36450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g     tái      liù     qī     z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397960" y="4221000"/>
            <a:ext cx="45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亭     台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六     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座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948680" y="486900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ā      jiǔ      shí      zhī    hu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892160" y="5516640"/>
            <a:ext cx="61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八     九      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枝     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352680" y="2209680"/>
          <a:ext cx="2286000" cy="2286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2808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2808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280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7" name="Group 13"/>
          <p:cNvGrpSpPr/>
          <p:nvPr/>
        </p:nvGrpSpPr>
        <p:grpSpPr>
          <a:xfrm>
            <a:off x="3733920" y="838080"/>
            <a:ext cx="1447560" cy="1447560"/>
            <a:chOff x="3733920" y="838080"/>
            <a:chExt cx="1447560" cy="1447560"/>
          </a:xfrm>
        </p:grpSpPr>
        <p:sp>
          <p:nvSpPr>
            <p:cNvPr id="158" name="Line 14"/>
            <p:cNvSpPr/>
            <p:nvPr/>
          </p:nvSpPr>
          <p:spPr>
            <a:xfrm flipV="1">
              <a:off x="4495680" y="1447200"/>
              <a:ext cx="0" cy="83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733920" y="83808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竖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16"/>
          <p:cNvGrpSpPr/>
          <p:nvPr/>
        </p:nvGrpSpPr>
        <p:grpSpPr>
          <a:xfrm>
            <a:off x="2133720" y="3885840"/>
            <a:ext cx="1675800" cy="1511640"/>
            <a:chOff x="2133720" y="3885840"/>
            <a:chExt cx="1675800" cy="1511640"/>
          </a:xfrm>
        </p:grpSpPr>
        <p:sp>
          <p:nvSpPr>
            <p:cNvPr id="161" name="Line 17"/>
            <p:cNvSpPr/>
            <p:nvPr/>
          </p:nvSpPr>
          <p:spPr>
            <a:xfrm flipV="1">
              <a:off x="2971440" y="3885840"/>
              <a:ext cx="838080" cy="1066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133720" y="4876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9"/>
          <p:cNvGrpSpPr/>
          <p:nvPr/>
        </p:nvGrpSpPr>
        <p:grpSpPr>
          <a:xfrm>
            <a:off x="5105520" y="3962520"/>
            <a:ext cx="1752480" cy="1358640"/>
            <a:chOff x="5105520" y="3962520"/>
            <a:chExt cx="1752480" cy="1358640"/>
          </a:xfrm>
        </p:grpSpPr>
        <p:sp>
          <p:nvSpPr>
            <p:cNvPr id="164" name="Line 20"/>
            <p:cNvSpPr/>
            <p:nvPr/>
          </p:nvSpPr>
          <p:spPr>
            <a:xfrm>
              <a:off x="5105520" y="3962520"/>
              <a:ext cx="1066680" cy="838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21"/>
            <p:cNvSpPr/>
            <p:nvPr/>
          </p:nvSpPr>
          <p:spPr>
            <a:xfrm>
              <a:off x="5410440" y="48006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下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2"/>
          <p:cNvGrpSpPr/>
          <p:nvPr/>
        </p:nvGrpSpPr>
        <p:grpSpPr>
          <a:xfrm>
            <a:off x="1981080" y="1219320"/>
            <a:ext cx="1905120" cy="1523880"/>
            <a:chOff x="1981080" y="1219320"/>
            <a:chExt cx="1905120" cy="1523880"/>
          </a:xfrm>
        </p:grpSpPr>
        <p:sp>
          <p:nvSpPr>
            <p:cNvPr id="167" name="Line 23"/>
            <p:cNvSpPr/>
            <p:nvPr/>
          </p:nvSpPr>
          <p:spPr>
            <a:xfrm>
              <a:off x="2895480" y="1828800"/>
              <a:ext cx="990720" cy="91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1981080" y="121932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左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25"/>
          <p:cNvGrpSpPr/>
          <p:nvPr/>
        </p:nvGrpSpPr>
        <p:grpSpPr>
          <a:xfrm>
            <a:off x="5257800" y="1143000"/>
            <a:ext cx="1447920" cy="1523520"/>
            <a:chOff x="5257800" y="1143000"/>
            <a:chExt cx="1447920" cy="1523520"/>
          </a:xfrm>
        </p:grpSpPr>
        <p:sp>
          <p:nvSpPr>
            <p:cNvPr id="170" name="Line 26"/>
            <p:cNvSpPr/>
            <p:nvPr/>
          </p:nvSpPr>
          <p:spPr>
            <a:xfrm flipV="1">
              <a:off x="5257800" y="1676160"/>
              <a:ext cx="685800" cy="99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5410080" y="1143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9933ff"/>
                  </a:solidFill>
                  <a:latin typeface="Times New Roman"/>
                </a:rPr>
                <a:t>右上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8"/>
          <p:cNvGrpSpPr/>
          <p:nvPr/>
        </p:nvGrpSpPr>
        <p:grpSpPr>
          <a:xfrm>
            <a:off x="5486400" y="2590920"/>
            <a:ext cx="1585800" cy="1523880"/>
            <a:chOff x="5486400" y="2590920"/>
            <a:chExt cx="1585800" cy="1523880"/>
          </a:xfrm>
        </p:grpSpPr>
        <p:sp>
          <p:nvSpPr>
            <p:cNvPr id="173" name="Line 29"/>
            <p:cNvSpPr/>
            <p:nvPr/>
          </p:nvSpPr>
          <p:spPr>
            <a:xfrm>
              <a:off x="5486400" y="3353040"/>
              <a:ext cx="7621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30"/>
            <p:cNvSpPr/>
            <p:nvPr/>
          </p:nvSpPr>
          <p:spPr>
            <a:xfrm>
              <a:off x="5916960" y="2590920"/>
              <a:ext cx="115524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33ff"/>
                  </a:solidFill>
                  <a:latin typeface="Times New Roman"/>
                </a:rPr>
                <a:t>横中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pic_2277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755640" y="3860640"/>
            <a:ext cx="6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1476360" y="3933720"/>
            <a:ext cx="57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340000" y="393372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276720" y="393372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99564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16360" y="3789360"/>
            <a:ext cx="93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5796000" y="3789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443640" y="4005360"/>
            <a:ext cx="5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7308720" y="3933720"/>
            <a:ext cx="6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427640" y="5445000"/>
            <a:ext cx="122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8028000" y="39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252720" y="386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193824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1146240" y="522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235320" y="22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3995640" y="4365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5251320" y="30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38960" y="39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6475320" y="530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6907320" y="414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8275680" y="4292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比一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八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入     九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几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土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去     田</a:t>
            </a:r>
            <a:r>
              <a:rPr b="1" lang="en-US" sz="6600" spc="-1" strike="noStrike">
                <a:solidFill>
                  <a:srgbClr val="008000"/>
                </a:solidFill>
                <a:latin typeface="Times New Roman"/>
              </a:rPr>
              <a:t>---</a:t>
            </a:r>
            <a:r>
              <a:rPr b="1" lang="zh-CN" sz="6600" spc="-1" strike="noStrike">
                <a:solidFill>
                  <a:srgbClr val="008000"/>
                </a:solidFill>
                <a:latin typeface="Times New Roman"/>
              </a:rPr>
              <a:t>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说一说"/>
          <p:cNvPicPr/>
          <p:nvPr/>
        </p:nvPicPr>
        <p:blipFill>
          <a:blip r:embed="rId2"/>
          <a:stretch/>
        </p:blipFill>
        <p:spPr>
          <a:xfrm>
            <a:off x="395280" y="189000"/>
            <a:ext cx="15638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12:46:55Z</dcterms:created>
  <dc:creator/>
  <dc:description/>
  <cp:keywords>幻灯片之家 http:/www.eeppt.com</cp:keywords>
  <dc:language>en-US</dc:language>
  <cp:lastModifiedBy/>
  <dcterms:modified xsi:type="dcterms:W3CDTF">2015-07-18T14:44:4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