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DBD-09BE-4CD7-BEA9-D1C349FA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1E6-8118-4A39-A288-158CE175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CDE-6731-4FC2-ABA9-35BB6F76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5E7-0A01-4593-9A7E-B4E02741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97B-BF93-4DB7-9883-68DF9FA1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59E-4B3D-49B5-9F14-07594A6D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459-0131-415B-82E1-BDECE274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4059-5C79-4F8C-ABAE-DB1CBDA8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A8E4-7998-4399-99A1-175FB4A9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A131-9B3A-4663-A2B2-2169F5AC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7CB4-CC3A-48C6-8E6F-96FF76F5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471-3D72-45F5-AFB1-5840ADB4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0F95-848F-4F1F-85BD-33DD3CAC40A9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 rot="21247800">
            <a:off x="2590920" y="2057040"/>
            <a:ext cx="4343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54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楷体_GB2312"/>
              </a:rPr>
              <a:t> </a:t>
            </a:r>
            <a:endParaRPr b="1" lang="en-US" sz="66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54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800280" y="1152360"/>
            <a:ext cx="792468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8600" y="10666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永生的眼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免费下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304920" y="109440"/>
            <a:ext cx="7200720" cy="6748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66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479520" y="533520"/>
            <a:ext cx="8489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新宋体"/>
                <a:ea typeface="新宋体"/>
              </a:rPr>
              <a:t>资料一：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据卫生部统计，我国目前约有</a:t>
            </a:r>
            <a:r>
              <a:rPr b="1" lang="en-US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400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万因角膜病致盲的患者，其中</a:t>
            </a:r>
            <a:r>
              <a:rPr b="1" lang="en-US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70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％可以通过角膜移植手术复明，但由于供体角膜匮乏，我国每年仅实施</a:t>
            </a:r>
            <a:r>
              <a:rPr b="1" lang="en-US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3 000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例角膜移植手术，数百万的患者还在黑暗中苦苦地等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新宋体"/>
                <a:ea typeface="新宋体"/>
              </a:rPr>
              <a:t>资料二：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目前美国有超过</a:t>
            </a:r>
            <a:r>
              <a:rPr b="1" lang="en-US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84 000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多名患者登记等待器官移植，而且每</a:t>
            </a:r>
            <a:r>
              <a:rPr b="1" lang="en-US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13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分钟就会有一个新的登记等待患者。</a:t>
            </a:r>
            <a:r>
              <a:rPr b="1" lang="en-US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2004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年仅有</a:t>
            </a:r>
            <a:r>
              <a:rPr b="1" lang="en-US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30%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的等待者获得了器官移植，而剩余的</a:t>
            </a:r>
            <a:r>
              <a:rPr b="1" lang="en-US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70%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的等待者必须继续等待他们迫切需要的移植器官。不幸的是，每天有</a:t>
            </a:r>
            <a:r>
              <a:rPr b="1" lang="en-US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16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个人会因为无法等到器官移植而丧失生命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5800" y="55627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43000" y="2286000"/>
            <a:ext cx="556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捐赠  盲人   屡屡获奖                         遵守  搂抱   热泪盈眶  给予     重见天日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7"/>
          <p:cNvSpPr/>
          <p:nvPr/>
        </p:nvSpPr>
        <p:spPr>
          <a:xfrm>
            <a:off x="4114800" y="1752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380880" y="0"/>
            <a:ext cx="7143840" cy="669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838080" y="182880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一个人所能给予他人的最珍贵的东西，莫过于自己身体的一部分。很久以前，你妈妈和我就认为，如果我们死后的身体能有助于他人恢复健康，我们的死就是有意义的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90720" y="41148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如果一个盲童能在我们的帮助下重见光明，并像温迪一样画出栩栩如生的马儿，那多么美妙！当你们得知是我的眼睛角膜起了作用，你们会为我自豪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含有骄傲的句子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温迪告诉我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:“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妈妈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我真为你、为外公所做的一切感到骄傲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.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这令你骄傲吗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?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这次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我为自己的女儿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—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岁的温迪而骄傲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32D1-3E2C-4D87-87B3-7367394A71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体会句子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在这一刻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我真正领悟到了父亲留下的远非一副角膜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1:38:32Z</dcterms:created>
  <dc:creator/>
  <dc:description/>
  <cp:keywords>幻灯片之家 http:/www.eeppt.com</cp:keywords>
  <dc:language>en-US</dc:language>
  <cp:lastModifiedBy/>
  <dcterms:modified xsi:type="dcterms:W3CDTF">2015-07-19T03:17:22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