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145-0AFE-45BA-A8B5-F6B236C3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626-3998-4458-AD43-AF0F74B6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B58-D882-40AB-9B01-8459C11B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3F5-9F71-45B2-979C-9CD387C3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989-72FF-4331-BF39-AF3AB153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99D-9041-4B63-80CB-01EB678F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128-1BB2-4F91-9CFA-0FD260D5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9CB-3498-474F-9C3B-0C940256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44F-2FEA-4984-86B2-09D35708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520-88E2-4D82-84AC-F39C7255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94F-D3A9-4906-B474-EAFF0834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A50-89B2-4708-B219-0E0B812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8E90-A436-4B31-A02A-BB7D286D0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an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3" descr=""/>
          <p:cNvPicPr/>
          <p:nvPr/>
        </p:nvPicPr>
        <p:blipFill>
          <a:blip r:embed="rId2"/>
          <a:stretch/>
        </p:blipFill>
        <p:spPr>
          <a:xfrm>
            <a:off x="609480" y="-176040"/>
            <a:ext cx="7882200" cy="3309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95280" y="404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儿应声答曰：“未闻孔雀是夫子家禽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141720"/>
            <a:ext cx="3581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未：没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夫子：旧时对学者或老师的尊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9372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在梁国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有一户姓杨的人家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家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有个九岁的儿子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非常聪明。一天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君平来拜见他的父亲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恰巧他父亲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在家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孔君平就把这个孩子叫了出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孩子给孔君平端来水果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其中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孔君平指着杨梅给孩子看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并说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是你家的水果。”孩子马上答道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可没听说孔雀是先生您家的鸟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1"/>
          <p:cNvPicPr/>
          <p:nvPr/>
        </p:nvPicPr>
        <p:blipFill>
          <a:blip r:embed="rId2"/>
          <a:stretch/>
        </p:blipFill>
        <p:spPr>
          <a:xfrm>
            <a:off x="0" y="0"/>
            <a:ext cx="8991720" cy="6743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1143000" y="144792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熟读而精思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981080" y="266688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杨氏之子的回答妙在哪里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图片1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4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447920" y="1676520"/>
            <a:ext cx="769608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孔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指以示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曰：“此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是君家果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应声答曰：“未闻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孔雀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是夫子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禽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杨氏之子的言外之意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果您认为杨梅是我家的水果，那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果孔雀不是您家的鸟，那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250920" y="2276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言风趣机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386064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想：孔君平听了孩子的话会是什么反应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826920" y="47628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79280" y="4762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说杨氏之子是个什么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梁国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杨氏子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九岁，甚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聪慧。孔君平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诣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其父，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在，乃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呼儿出。为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设果，果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杨梅。孔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指以示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曰：“此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君家果。”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应声答曰：“未闻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孔雀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夫子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禽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79280" y="18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隶书"/>
              </a:rPr>
              <a:t>美美地读一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1619280" y="692280"/>
            <a:ext cx="5638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拓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有关于言语表达的小故事（广告词、对联、歇后语等）吗？和同学们交流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523880" y="45720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03280" y="364500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东坡难对的千古绝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西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锡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锡壶掉西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惜乎锡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403280" y="5157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逢甲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家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子遇甲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佳姿家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634032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yang2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5560" y="0"/>
            <a:ext cx="47527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杨氏之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梁国杨氏子九岁，甚聪惠。孔君平诣其父，父不在，乃呼儿出。为设果，果有杨梅。孔指以示儿曰：“此是君家果。”儿应声答曰：“未闻孔雀是夫子家禽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042920" y="1700280"/>
            <a:ext cx="712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桥梁     优惠     造诣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乃至     子曰     家禽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62120" y="17524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4000" y="47628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梁国杨氏子九岁，甚聪惠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2781360"/>
            <a:ext cx="4262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惠：同“慧”，智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90720" y="1981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60280"/>
            <a:ext cx="49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孔君平诣其父，父不在，乃呼儿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3657600"/>
            <a:ext cx="4648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诣：拜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乃：就，于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24000" y="33336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为设果，果有杨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1700280"/>
            <a:ext cx="53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）为（  ）设果，果有杨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68360" y="476280"/>
            <a:ext cx="38098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设果，果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儿）为（孔）设果，果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设：摆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39640" y="54936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孔指以示儿曰：“此是君家果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50920" y="2781360"/>
            <a:ext cx="3581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：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曰：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8A9-EF4F-4981-801B-5C900E9BFE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3:27:50Z</dcterms:created>
  <dc:creator/>
  <dc:description/>
  <cp:keywords>幻灯片之家 http:/www.eeppt.com</cp:keywords>
  <dc:language>en-US</dc:language>
  <cp:lastModifiedBy/>
  <dcterms:modified xsi:type="dcterms:W3CDTF">2015-07-20T04:24:02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