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B79-783D-4185-901E-53A7A5C4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F46-4649-4FE9-9054-C6CC0C82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95532-AEB0-4435-A9C4-3AA36038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39499-E14C-46C1-B2CB-A286E6DF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F528F-C636-485E-8655-A2FC0465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79FCB-FBB5-4CBA-A2CD-1490A296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D5639-DABF-4BF8-BDE7-59966BB6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CA993-7A6F-46A7-A09E-A35275D4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5A76B-EC5A-4E0A-B76E-43B3DC34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4E82B-EE32-48DB-848F-D3FE1B99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BEB05-C2D6-41AE-850A-551B4E8D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ABD46-8B97-43A5-9966-FF704D15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9BF-D65A-4027-8193-BE6DF7DB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5F0CB-835B-46A0-8D98-041911BA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87A19-A9D4-46B7-AD9B-61423427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989C3-B573-475A-BC2B-6EA5F8D2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DBCE8-C3D4-4267-90B7-6055D238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AEF82-01BE-4867-9F20-9B2E129D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4ECDA-2B78-4D5B-B2E2-72A29B14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326F4-5A5D-45B0-8FD2-0FD9907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45A3B-A151-4CB5-9428-A94E203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4C0E4-134C-4E83-B1B7-DFA75414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5C64D-DFAF-4297-AF05-EE590686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2F0-2395-4AC2-B498-25DEF0EA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2C31B-CCEA-4756-844A-801AB5C5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9D4F8-BD4B-4F5B-8B68-E5248D93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3C81B-D118-4815-8606-E067B71F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703EB-EEA8-4120-86E9-0DC13A96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E1408-F581-4D46-B56C-AA7824E1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82F7F-55E0-48A0-8199-FFF6EB53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2E5CB-76BD-448D-8899-B927E454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1CA48-7AA9-43F1-A13B-DF8B825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4D2BF-E21C-4CB5-835F-DC0CD0D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FF39F-0796-4C62-831E-4E2431E2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FC8B-BDCA-4FD1-A7D7-569683D0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33AD5-F291-45AF-83C8-20BA7067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112A6-C841-4091-8619-6F3C4D78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E59FE-9BB3-4C40-BE45-DBA11A78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6BBB5-9F07-419F-B18A-3B429D4C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67CB6-C914-4A6C-9513-53B541C1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80165-64BB-4387-804D-46CD3999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5C149-32AD-45EB-A4CA-6A38EAA1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92E8D-808F-4937-9CA1-22AC115F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E4244-F666-443A-B2A1-702514D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DB16A-33A7-40CF-ADC7-6DDB27A2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C2DF-966D-4E0E-AEF1-D0FAC4AB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0F01D-68C6-434A-92DB-7A2C4387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64527-00BC-436C-83FA-23270935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C388B-6010-4673-9679-E97E8F72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C2A9C-BDB9-42B6-B0D1-A080AA59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FDEC9-1995-434B-A88E-F44D0C9A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FA3D0-CAC3-4114-9F63-AD390595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FE3B0-3161-43DB-BA33-861083E2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E54B1-461E-4188-950C-2FFD1B32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4F1AA-0165-4F0D-8F91-861B2A22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935C0-A3CF-42B9-8E8D-4F6F8738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E8A0-AB10-4221-84EE-A3BA10C9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4D5A2-8D63-446B-ADFA-6FAE47F3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799F9-A406-4C22-9B4D-61E968C2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DFB6D-E951-48D1-A765-B3AE2C56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296EB-7472-4CF0-9892-0554A503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40C66-0DAE-46CB-BF3A-181EFA24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FF30C-5446-473C-996E-D1AF8641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0A92C-1E85-4DEB-9BF7-3029D8C7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15BF-0585-466C-88FD-26AF1231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2C9D-A570-43AD-8DDC-21736492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BFBB-BC5E-4C83-A9D7-B1B75163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44AE-9947-4E67-A5B5-9029F25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7FE-0410-450E-A075-6EFA614C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08E3-3F96-4DB9-81FE-1300DE8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6718-0175-487A-AD27-23C9FFD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DC3E-4377-4230-B758-8D07F06F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F877-CC48-4A8C-A9B7-AD8A4618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9988-6EDB-4E1E-8813-74000413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818E-3234-49D6-8DFD-B50CDD71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601BA-040F-4FF3-BBF8-D8CB462A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3196-833E-4F07-B8FC-C1AB2E3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D796-019F-461F-8EA7-6A51573B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3683-C78F-47F3-AB30-8801570C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32C-70D9-4713-8338-ECEC733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9750-8C7B-4442-A239-C531028B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9232-EA78-4E4B-849F-0D94CB50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0649-BA81-4746-A93B-503A7A37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DDBD-ED50-4435-BDDD-E5AC0F5E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812B-E68A-42F0-BB7B-AB15C584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B5B4-844C-417F-B8AF-5CA2D4BE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4ECF-E7F0-41A9-A44F-2AC6084F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D88B-10F5-4EF7-9F86-831D0B3E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8586-57C5-4598-95F9-5293BC7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E4453-443E-4D68-8917-2092D705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977-8BDA-462B-BBD1-A292BCE4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BCEF6-BA0B-483D-8BCF-681AC024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81CAF-9E44-4CC4-ABB2-810BC137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1D5D-019C-4FBB-885F-3571954C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44999-545C-4FEC-A3E7-9612096E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95F2-DC95-4DDE-B8D3-81998F8C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DC46-60AC-4C8F-BA8F-FC5303B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A1CA-1175-47DC-A451-4E3B8FA8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EF89-740E-4CAD-A2E0-29AF0FF7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8F913-57D5-49CC-96B2-7E9AD069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3FDF-F545-4344-81AC-72A7DC9E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D4A-0F63-4A48-BFF3-99A1ED17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E3438-8A54-4F80-94FF-AEAAD6F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837EE-8DF3-4B20-804E-A4AFF264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68DA-F3F5-436D-A3F6-CBB08CE8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5D62-1186-4ED6-A30A-848574E8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214C1-E28E-4346-BE54-E55A1779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33640-F240-467A-888A-57FAAB6E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3AB78-DEDD-448F-980F-33B8AAF9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2ECB4-A36A-4CC6-ABA9-88D86469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47BD-0CD8-415C-B3AC-844DE9BB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AC88B-92DF-4CC0-A480-BEE24A15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41C-129A-4B5D-88C7-2A8974E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6A82B-422E-49FC-B51D-653B8E08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2E931-0B2D-47AA-85C8-AEF624BF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4BFA7-11E0-4306-9CC0-DEEA8248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ED3B7-77A0-4ABF-A67D-F0C27A73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B9592-D9F2-4049-9E42-966700D5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5719E-056F-4748-944E-F739C5A8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0A76E-980F-4E44-A0ED-96FBAF6A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6F4D4-4543-4CCF-8250-095B38D0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0490-148F-4343-A152-D2994949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17770-D618-4C59-B468-3347FCF7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218-D05F-4702-9CDE-38341CD1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2BE0A-B65E-4A30-9E18-6E4216F6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795A4-6A94-4CB5-A2AC-633D9C2B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57416-71E7-4A10-8F32-400CD140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619B1-F316-4AB8-A269-219C1D6B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501B8-549A-4B01-86CA-6F168996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6D5DA-A34F-4757-AFB2-1EB8F793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9D7DE-498D-4EEB-BC9B-832E5E73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8B120-E2C7-4A02-8FAE-91BA7C96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72C9D-7DB0-4B1B-99B9-2CF2C156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C8279-46E5-4022-9013-D48F8023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5EB-94B7-4F1D-8A2E-9F40B2B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DAE61-1A22-4EE9-A492-097BD63B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EEAD-258F-4A81-B474-250CB80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A0968-8489-479E-AF04-2E90916E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8418B-2A38-4C8C-8E52-D424FEAE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14DB9-B332-47C8-A675-17DA7A19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94747-4AB6-434C-BA7B-A9C870B1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09767-7271-4923-AD02-B04346F4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35EC8-A27B-4D50-9360-0CE8F5EE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266EC-80D4-4457-A23D-73CE07B6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95DD2-DF0E-4905-8158-BFCB496C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722-D4CE-49BF-A3B5-27C157C2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2D1A7-6240-49BB-83E3-2951925E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3965-CA89-44A3-80EC-D6BB529C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4D3CF-244B-4F59-AC59-4C2DE26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3F95C-0A2A-437F-B90F-77D01314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430B1-257A-48AC-A4C5-04C35966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103CA-345B-4AD8-8745-829EC8FB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C6146-B5AB-4E04-9DA6-9920C99C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B66E1-8743-4C12-95C0-5CD9948A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C16C6-28D7-4440-A190-423D6945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E9E1B-904B-49B7-B48B-B51B2250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7F3A-67D0-43AF-B298-A88C6E423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9CAA-9F66-4EBD-A101-8FFF035440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F30D-AAA2-42DB-8176-9C7C6C05A2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1F49-E5E3-4A41-87D3-01681E0270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DE14-BF48-4A7C-A168-73D1207CE8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FC84-C366-46F4-B07F-24428619CB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8A6-9006-48C5-858B-0D08DB1B9D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090E-CB36-4A29-AAD9-DFCC7E06A4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C69E-C5E9-41CE-A231-5F02735ACE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5691-6E04-430A-9450-B02012A4F2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E47E-E277-4863-8C1D-D0A2D921FC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E8CD-AB9D-4E1E-A948-1E6F488FB1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9A8C-56A8-4CE1-896C-66F64FCE7E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古诗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6" name="矩形 1"/>
          <p:cNvSpPr/>
          <p:nvPr/>
        </p:nvSpPr>
        <p:spPr>
          <a:xfrm>
            <a:off x="2647440" y="13892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氏之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7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9"/>
          <p:cNvSpPr/>
          <p:nvPr/>
        </p:nvSpPr>
        <p:spPr>
          <a:xfrm>
            <a:off x="2076480" y="2863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《世说新语》"/>
          <p:cNvPicPr/>
          <p:nvPr/>
        </p:nvPicPr>
        <p:blipFill>
          <a:blip r:embed="rId2"/>
          <a:stretch/>
        </p:blipFill>
        <p:spPr>
          <a:xfrm>
            <a:off x="304920" y="838080"/>
            <a:ext cx="4205160" cy="51055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5105520" y="60948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南朝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刘义庆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世说新语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是一部主要记载汉末至晋代士族阶层言谈轶事的小说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533520" y="16002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梁国／杨氏子／九岁，甚聪惠。孔君平／诣／其父，父／不在，乃／呼儿出。为／设果，果／有杨梅。孔／指以示儿／曰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此／是君家果。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儿／应声答曰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未闻／孔雀／是夫子家／禽。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80880" y="380880"/>
            <a:ext cx="28958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朗读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"/>
          <p:cNvSpPr/>
          <p:nvPr/>
        </p:nvSpPr>
        <p:spPr>
          <a:xfrm>
            <a:off x="685800" y="2057400"/>
            <a:ext cx="7467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氏：姓氏，表示家族的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夫子：旧时对学者或老师的尊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设：摆放，摆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380880" y="380880"/>
            <a:ext cx="18288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词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古诗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6"/>
          <p:cNvSpPr/>
          <p:nvPr/>
        </p:nvSpPr>
        <p:spPr>
          <a:xfrm>
            <a:off x="2836440" y="1828800"/>
            <a:ext cx="3172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孔指以示儿曰：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此是君家果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儿应声答曰：“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未闻孔雀是夫子家禽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7"/>
          <p:cNvSpPr/>
          <p:nvPr/>
        </p:nvSpPr>
        <p:spPr>
          <a:xfrm>
            <a:off x="3276720" y="3505320"/>
            <a:ext cx="4267080" cy="20574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3200400" y="3429000"/>
            <a:ext cx="4114800" cy="2286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3505320" y="2133720"/>
            <a:ext cx="3962160" cy="3429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1"/>
          <p:cNvSpPr/>
          <p:nvPr/>
        </p:nvSpPr>
        <p:spPr>
          <a:xfrm>
            <a:off x="4724280" y="990720"/>
            <a:ext cx="3200400" cy="33526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3"/>
          <p:cNvSpPr/>
          <p:nvPr/>
        </p:nvSpPr>
        <p:spPr>
          <a:xfrm>
            <a:off x="457200" y="4495680"/>
            <a:ext cx="6172200" cy="2133720"/>
          </a:xfrm>
          <a:prstGeom prst="wedgeEllipseCallout">
            <a:avLst>
              <a:gd name="adj1" fmla="val 33412"/>
              <a:gd name="adj2" fmla="val -10037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4"/>
          <p:cNvSpPr/>
          <p:nvPr/>
        </p:nvSpPr>
        <p:spPr>
          <a:xfrm>
            <a:off x="609480" y="50292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梁国杨氏子九岁，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聪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7" dur="2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5"/>
          <p:cNvSpPr/>
          <p:nvPr/>
        </p:nvSpPr>
        <p:spPr>
          <a:xfrm>
            <a:off x="152280" y="198108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谢太傅寒雪日内集，与儿女讲论文义，俄而雪骤，公欣然曰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白雪纷纷何所似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兄子胡儿曰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撒盐空中差可拟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兄女曰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未若柳絮因风起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公大笑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80880" y="380880"/>
            <a:ext cx="31244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相关链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4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7"/>
          <p:cNvSpPr/>
          <p:nvPr/>
        </p:nvSpPr>
        <p:spPr>
          <a:xfrm>
            <a:off x="0" y="838080"/>
            <a:ext cx="899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这则故事的大意是：在一个下雪的冬日里，谢太傅召集孩子们谈论有关做文章的事。一会儿，雪下大了，谢太傅很高兴，就问孩子们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纷纷飘落的白雪像什么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他哥哥的儿子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用空中撒盐勉强可以比方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他哥哥的女儿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000" spc="-1" strike="noStrike">
                <a:solidFill>
                  <a:srgbClr val="008000"/>
                </a:solidFill>
                <a:latin typeface="幼圆"/>
                <a:ea typeface="幼圆"/>
              </a:rPr>
              <a:t>不如用柳絮因风飞舞来比方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谢太傅大笑，非常高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41:19Z</dcterms:created>
  <dc:creator/>
  <dc:description/>
  <cp:keywords>幻灯片之家 http:/www.eeppt.com</cp:keywords>
  <dc:language>en-US</dc:language>
  <cp:lastModifiedBy/>
  <dcterms:modified xsi:type="dcterms:W3CDTF">2015-07-20T04:26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