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E76E-E6F4-4021-BD4A-CFD66F96E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019-AF71-45D3-9AD9-FA1B359E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11C-0B7B-474C-9931-DF860AD6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A7C-19FC-406E-9AB2-9779575A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74DC-1EBA-428D-B36E-4E634964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9AA0-1CF4-4622-916C-DF6794CF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DBB-17CA-4F3D-B9C6-AEAA2750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53B-11BC-451B-B837-15C97A9B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2E8B-8CF4-45D9-9517-3C0F1CC2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951-727D-4C48-BBE3-B53E3FA8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9E4B-8914-4CDC-9935-E2243C98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D01-B1ED-4D18-A729-11D467768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A866-5BAB-44C1-A211-A979A5A2314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6a6a6"/>
                </a:solidFill>
                <a:latin typeface="华文中宋"/>
                <a:ea typeface="华文中宋"/>
              </a:rPr>
              <a:t>ABCD</a:t>
            </a:r>
            <a:r>
              <a:rPr b="1" lang="zh-CN" sz="4800" spc="-1" strike="noStrike">
                <a:solidFill>
                  <a:srgbClr val="a6a6a6"/>
                </a:solidFill>
                <a:latin typeface="华文中宋"/>
                <a:ea typeface="华文中宋"/>
              </a:rPr>
              <a:t>英文字母幻灯片模板下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"/>
          <p:cNvSpPr/>
          <p:nvPr/>
        </p:nvSpPr>
        <p:spPr>
          <a:xfrm>
            <a:off x="110520" y="6524640"/>
            <a:ext cx="218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1ppt.com/moban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2561040" y="-9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英文字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5"/>
          <p:cNvSpPr/>
          <p:nvPr/>
        </p:nvSpPr>
        <p:spPr>
          <a:xfrm>
            <a:off x="203040" y="65041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499680"/>
            <a:ext cx="75438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b050"/>
                </a:solidFill>
                <a:latin typeface="Arial"/>
              </a:rPr>
              <a:t>Mandatory Curriculum Requirements</a:t>
            </a: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 for the 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o be awarded the SC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students must meet the BOS mandatory curriculum requirements in each key learning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The core curriculum for the SC is mandatory for all government schools, accredited non-government schools and all students who are candidates for the School Certific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students must undertake study in each of the 8 key learning areas to be eligible for the award of the School Certific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ll time allocations are indicative and are related to the course objectives and outco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643040" y="1857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ank you 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8:43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5:57:07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