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FCC-26D0-4EA7-847C-057669C1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0D7-70AE-481C-9989-ADF2101D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955-9C22-4B78-9580-04E30398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3FF-E9DC-4CE7-8993-06FA596E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3301-9873-4845-92D6-0A983311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858A-0936-484A-BB81-DA5167A7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F24-5B25-4E64-863E-1311F65C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748-21D2-4D3A-A399-BAF78C05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1D7-B3C5-42C4-AF91-687EFAAE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EB9-DAAF-49BC-AB3A-5A9C678F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5D5-094E-437B-A7CB-F5F65124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462E-E5BD-40DA-9DF4-2E81BF7A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6C3F-ECC3-45A9-B5B1-EBE1E178C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1773360"/>
            <a:ext cx="30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131560" y="2444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第七册第一单元第四课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9880" y="1341360"/>
            <a:ext cx="24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《亿以内数的写法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57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"/>
            <p:cNvSpPr/>
            <p:nvPr/>
          </p:nvSpPr>
          <p:spPr>
            <a:xfrm>
              <a:off x="483948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5"/>
            <p:cNvSpPr/>
            <p:nvPr/>
          </p:nvSpPr>
          <p:spPr>
            <a:xfrm>
              <a:off x="42156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22708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350604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2"/>
            <p:cNvSpPr/>
            <p:nvPr/>
          </p:nvSpPr>
          <p:spPr>
            <a:xfrm>
              <a:off x="485964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5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6"/>
          <p:cNvSpPr/>
          <p:nvPr/>
        </p:nvSpPr>
        <p:spPr>
          <a:xfrm>
            <a:off x="684360" y="270828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五千零三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2207520" y="321300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5  0  0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0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755640" y="446724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五千零三万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零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2280600" y="508464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5  0  0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0 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76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"/>
            <p:cNvSpPr/>
            <p:nvPr/>
          </p:nvSpPr>
          <p:spPr>
            <a:xfrm>
              <a:off x="483948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5"/>
            <p:cNvSpPr/>
            <p:nvPr/>
          </p:nvSpPr>
          <p:spPr>
            <a:xfrm>
              <a:off x="42156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22708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0"/>
            <p:cNvSpPr/>
            <p:nvPr/>
          </p:nvSpPr>
          <p:spPr>
            <a:xfrm>
              <a:off x="350604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2"/>
            <p:cNvSpPr/>
            <p:nvPr/>
          </p:nvSpPr>
          <p:spPr>
            <a:xfrm>
              <a:off x="485964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5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16"/>
          <p:cNvSpPr/>
          <p:nvPr/>
        </p:nvSpPr>
        <p:spPr>
          <a:xfrm>
            <a:off x="1958040" y="2735280"/>
            <a:ext cx="36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千零三万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零六十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2207520" y="321300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  0  0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6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546920" y="4467240"/>
            <a:ext cx="47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三百万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零五十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2782440" y="501336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0  0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5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1733760" y="0"/>
            <a:ext cx="2863080" cy="60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写出下列各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百零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千六百零一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九千零九万零三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千零二十万三千零四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478880" y="1268280"/>
            <a:ext cx="2667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2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4601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90090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02030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4360" y="602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250920" y="0"/>
            <a:ext cx="8680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是小法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作四万零八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里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09009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左边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十万，中间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万，右边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十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七位数一定比六位数大。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最大的五位数比最小的五位数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999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个数字所占的数位不同，它表示的大小也不同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6588000" y="54936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7252560" y="11304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945720" y="306864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7148520" y="350028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2889720" y="486900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556160" y="609588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0" y="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填一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亿是（    ）个一千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一个数的最高位是十万位，这个数是（ ）位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04028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    ）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）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 ）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  ）组成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20686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个数中，（       ）位和（       ）位上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不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千万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万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百组成的数是（       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2557080" y="620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469800" y="1916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896800" y="2440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654480" y="306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940200" y="306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7251840" y="2997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897960" y="4292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352880" y="486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971280" y="6021360"/>
            <a:ext cx="22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50050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0" y="285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最大的五位数和最小的六位数的和是（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4608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一个（   ）位数，最左边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（    ）位上，表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），另一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（     ）位上，它们的值相差（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用三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四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组成的最大七位数是（                   ），读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七位数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                           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191240" y="620640"/>
            <a:ext cx="215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66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755640" y="1844640"/>
            <a:ext cx="764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060006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060060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060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190880" y="342900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1999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4573800" y="400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805400" y="4724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6845760" y="465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3010320" y="530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614880" y="595008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7999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06640" y="647712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1048680" y="1546560"/>
            <a:ext cx="6834600" cy="1865880"/>
            <a:chOff x="1048680" y="1546560"/>
            <a:chExt cx="6834600" cy="1865880"/>
          </a:xfrm>
        </p:grpSpPr>
        <p:sp>
          <p:nvSpPr>
            <p:cNvPr id="46" name="Text Box 3"/>
            <p:cNvSpPr/>
            <p:nvPr/>
          </p:nvSpPr>
          <p:spPr>
            <a:xfrm>
              <a:off x="721548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4"/>
            <p:cNvSpPr/>
            <p:nvPr/>
          </p:nvSpPr>
          <p:spPr>
            <a:xfrm>
              <a:off x="649656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"/>
            <p:cNvSpPr/>
            <p:nvPr/>
          </p:nvSpPr>
          <p:spPr>
            <a:xfrm>
              <a:off x="584892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6"/>
            <p:cNvSpPr/>
            <p:nvPr/>
          </p:nvSpPr>
          <p:spPr>
            <a:xfrm>
              <a:off x="519948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7"/>
            <p:cNvSpPr/>
            <p:nvPr/>
          </p:nvSpPr>
          <p:spPr>
            <a:xfrm>
              <a:off x="4575600" y="1641240"/>
              <a:ext cx="667800" cy="172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万 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3904200" y="1546560"/>
              <a:ext cx="667800" cy="186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十万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9"/>
            <p:cNvSpPr/>
            <p:nvPr/>
          </p:nvSpPr>
          <p:spPr>
            <a:xfrm>
              <a:off x="3256560" y="1548720"/>
              <a:ext cx="667800" cy="186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百万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0"/>
            <p:cNvSpPr/>
            <p:nvPr/>
          </p:nvSpPr>
          <p:spPr>
            <a:xfrm>
              <a:off x="2607120" y="1548720"/>
              <a:ext cx="667800" cy="186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千万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1"/>
            <p:cNvSpPr/>
            <p:nvPr/>
          </p:nvSpPr>
          <p:spPr>
            <a:xfrm>
              <a:off x="1983240" y="170892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亿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2"/>
            <p:cNvSpPr/>
            <p:nvPr/>
          </p:nvSpPr>
          <p:spPr>
            <a:xfrm>
              <a:off x="1048680" y="2060640"/>
              <a:ext cx="99468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3"/>
          <p:cNvGrpSpPr/>
          <p:nvPr/>
        </p:nvGrpSpPr>
        <p:grpSpPr>
          <a:xfrm>
            <a:off x="5219640" y="836640"/>
            <a:ext cx="1716120" cy="4753080"/>
            <a:chOff x="5219640" y="836640"/>
            <a:chExt cx="1716120" cy="4753080"/>
          </a:xfrm>
        </p:grpSpPr>
        <p:sp>
          <p:nvSpPr>
            <p:cNvPr id="57" name="Line 14"/>
            <p:cNvSpPr/>
            <p:nvPr/>
          </p:nvSpPr>
          <p:spPr>
            <a:xfrm>
              <a:off x="5219640" y="836640"/>
              <a:ext cx="0" cy="4753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5"/>
            <p:cNvSpPr/>
            <p:nvPr/>
          </p:nvSpPr>
          <p:spPr>
            <a:xfrm>
              <a:off x="5849640" y="90792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个   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6"/>
          <p:cNvGrpSpPr/>
          <p:nvPr/>
        </p:nvGrpSpPr>
        <p:grpSpPr>
          <a:xfrm>
            <a:off x="2556000" y="765000"/>
            <a:ext cx="1573200" cy="4824360"/>
            <a:chOff x="2556000" y="765000"/>
            <a:chExt cx="1573200" cy="4824360"/>
          </a:xfrm>
        </p:grpSpPr>
        <p:sp>
          <p:nvSpPr>
            <p:cNvPr id="60" name="Line 17"/>
            <p:cNvSpPr/>
            <p:nvPr/>
          </p:nvSpPr>
          <p:spPr>
            <a:xfrm>
              <a:off x="2556000" y="765000"/>
              <a:ext cx="0" cy="482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8"/>
            <p:cNvSpPr/>
            <p:nvPr/>
          </p:nvSpPr>
          <p:spPr>
            <a:xfrm>
              <a:off x="3043080" y="83628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万   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19"/>
          <p:cNvSpPr/>
          <p:nvPr/>
        </p:nvSpPr>
        <p:spPr>
          <a:xfrm>
            <a:off x="160020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1029240" y="83664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亿    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1"/>
          <p:cNvGrpSpPr/>
          <p:nvPr/>
        </p:nvGrpSpPr>
        <p:grpSpPr>
          <a:xfrm>
            <a:off x="468360" y="907920"/>
            <a:ext cx="8496360" cy="649440"/>
            <a:chOff x="468360" y="907920"/>
            <a:chExt cx="8496360" cy="649440"/>
          </a:xfrm>
        </p:grpSpPr>
        <p:sp>
          <p:nvSpPr>
            <p:cNvPr id="65" name="Line 22"/>
            <p:cNvSpPr/>
            <p:nvPr/>
          </p:nvSpPr>
          <p:spPr>
            <a:xfrm>
              <a:off x="468360" y="1557360"/>
              <a:ext cx="8496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3"/>
            <p:cNvSpPr/>
            <p:nvPr/>
          </p:nvSpPr>
          <p:spPr>
            <a:xfrm>
              <a:off x="8229960" y="9079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数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"/>
          <p:cNvGrpSpPr/>
          <p:nvPr/>
        </p:nvGrpSpPr>
        <p:grpSpPr>
          <a:xfrm>
            <a:off x="0" y="1557360"/>
            <a:ext cx="9144000" cy="1191240"/>
            <a:chOff x="0" y="1557360"/>
            <a:chExt cx="9144000" cy="1191240"/>
          </a:xfrm>
        </p:grpSpPr>
        <p:sp>
          <p:nvSpPr>
            <p:cNvPr id="68" name="Line 25"/>
            <p:cNvSpPr/>
            <p:nvPr/>
          </p:nvSpPr>
          <p:spPr>
            <a:xfrm>
              <a:off x="0" y="270828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6"/>
            <p:cNvSpPr/>
            <p:nvPr/>
          </p:nvSpPr>
          <p:spPr>
            <a:xfrm>
              <a:off x="8229960" y="155736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计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单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7"/>
          <p:cNvSpPr/>
          <p:nvPr/>
        </p:nvSpPr>
        <p:spPr>
          <a:xfrm>
            <a:off x="183240" y="1658880"/>
            <a:ext cx="7898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数  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F6C-1146-4F8D-94D7-EC5614957A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6496560" y="1637640"/>
            <a:ext cx="667800" cy="1624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十    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199480" y="1637640"/>
            <a:ext cx="667800" cy="1624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    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575600" y="1637640"/>
            <a:ext cx="667800" cy="1624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万    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280320" y="1545120"/>
            <a:ext cx="667800" cy="175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百万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2630880" y="1545120"/>
            <a:ext cx="667800" cy="175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万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30"/>
          <p:cNvGrpSpPr/>
          <p:nvPr/>
        </p:nvGrpSpPr>
        <p:grpSpPr>
          <a:xfrm>
            <a:off x="1921320" y="1545120"/>
            <a:ext cx="5900040" cy="1758600"/>
            <a:chOff x="1921320" y="1545120"/>
            <a:chExt cx="5900040" cy="1758600"/>
          </a:xfrm>
        </p:grpSpPr>
        <p:sp>
          <p:nvSpPr>
            <p:cNvPr id="80" name="Text Box 3"/>
            <p:cNvSpPr/>
            <p:nvPr/>
          </p:nvSpPr>
          <p:spPr>
            <a:xfrm>
              <a:off x="715356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5"/>
            <p:cNvSpPr/>
            <p:nvPr/>
          </p:nvSpPr>
          <p:spPr>
            <a:xfrm>
              <a:off x="578664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8"/>
            <p:cNvSpPr/>
            <p:nvPr/>
          </p:nvSpPr>
          <p:spPr>
            <a:xfrm>
              <a:off x="3866040" y="1545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1"/>
            <p:cNvSpPr/>
            <p:nvPr/>
          </p:nvSpPr>
          <p:spPr>
            <a:xfrm>
              <a:off x="1921320" y="1704960"/>
              <a:ext cx="667800" cy="151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亿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19"/>
          <p:cNvSpPr/>
          <p:nvPr/>
        </p:nvSpPr>
        <p:spPr>
          <a:xfrm>
            <a:off x="160020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395280" y="436572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把上面的数位顺序表补充完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3"/>
          <p:cNvSpPr/>
          <p:nvPr/>
        </p:nvSpPr>
        <p:spPr>
          <a:xfrm>
            <a:off x="4862520" y="4954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801000" y="333360"/>
            <a:ext cx="2273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出下列各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千八百五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百七十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695240" y="1557360"/>
            <a:ext cx="1308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8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4859280" y="260280"/>
            <a:ext cx="4284720" cy="1873440"/>
          </a:xfrm>
          <a:prstGeom prst="wedgeRoundRectCallout">
            <a:avLst>
              <a:gd name="adj1" fmla="val 61337"/>
              <a:gd name="adj2" fmla="val -745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个数位上是几就写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一位上一个也没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占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4221000"/>
            <a:ext cx="4140360" cy="1729080"/>
          </a:xfrm>
          <a:prstGeom prst="cloudCallout">
            <a:avLst>
              <a:gd name="adj1" fmla="val -63226"/>
              <a:gd name="adj2" fmla="val 92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含有两级的数怎么写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4284720" y="4149720"/>
            <a:ext cx="4356000" cy="1584360"/>
          </a:xfrm>
          <a:prstGeom prst="wedgeEllipseCallout">
            <a:avLst>
              <a:gd name="adj1" fmla="val 72083"/>
              <a:gd name="adj2" fmla="val 1013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先写万级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再写个级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327120" y="836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Arial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847600" y="148428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2895120" y="2708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Arial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2560320" y="328464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0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97" name="Text Box 2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3"/>
            <p:cNvSpPr/>
            <p:nvPr/>
          </p:nvSpPr>
          <p:spPr>
            <a:xfrm>
              <a:off x="483948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4"/>
            <p:cNvSpPr/>
            <p:nvPr/>
          </p:nvSpPr>
          <p:spPr>
            <a:xfrm>
              <a:off x="42156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5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22708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350604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>
              <a:off x="485964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7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8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9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21"/>
          <p:cNvSpPr/>
          <p:nvPr/>
        </p:nvSpPr>
        <p:spPr>
          <a:xfrm>
            <a:off x="3616920" y="273528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千五百六十三万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五百六十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2207520" y="321300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  5  6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  5  6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1815840" y="4467240"/>
            <a:ext cx="428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三百二十六万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七千五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2782440" y="501336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2  6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7  5  0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17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"/>
            <p:cNvSpPr/>
            <p:nvPr/>
          </p:nvSpPr>
          <p:spPr>
            <a:xfrm>
              <a:off x="483948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5"/>
            <p:cNvSpPr/>
            <p:nvPr/>
          </p:nvSpPr>
          <p:spPr>
            <a:xfrm>
              <a:off x="42156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22708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0"/>
            <p:cNvSpPr/>
            <p:nvPr/>
          </p:nvSpPr>
          <p:spPr>
            <a:xfrm>
              <a:off x="350604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>
              <a:off x="485964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5"/>
            <p:cNvSpPr/>
            <p:nvPr/>
          </p:nvSpPr>
          <p:spPr>
            <a:xfrm>
              <a:off x="291384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16"/>
          <p:cNvSpPr/>
          <p:nvPr/>
        </p:nvSpPr>
        <p:spPr>
          <a:xfrm>
            <a:off x="1848600" y="2735280"/>
            <a:ext cx="481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三千七百二十万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六千七百三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2208600" y="3213000"/>
            <a:ext cx="559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7  2  0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6  7  3  0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2282400" y="4437000"/>
            <a:ext cx="535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四百万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五千六百二十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2782440" y="501336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4  0  0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5  6  2 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36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483948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"/>
            <p:cNvSpPr/>
            <p:nvPr/>
          </p:nvSpPr>
          <p:spPr>
            <a:xfrm>
              <a:off x="42156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7"/>
            <p:cNvSpPr/>
            <p:nvPr/>
          </p:nvSpPr>
          <p:spPr>
            <a:xfrm>
              <a:off x="22708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0"/>
            <p:cNvSpPr/>
            <p:nvPr/>
          </p:nvSpPr>
          <p:spPr>
            <a:xfrm>
              <a:off x="350604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2"/>
            <p:cNvSpPr/>
            <p:nvPr/>
          </p:nvSpPr>
          <p:spPr>
            <a:xfrm>
              <a:off x="485964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6"/>
          <p:cNvSpPr/>
          <p:nvPr/>
        </p:nvSpPr>
        <p:spPr>
          <a:xfrm>
            <a:off x="3186720" y="2735280"/>
            <a:ext cx="25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四百二十一万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五百六十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2853360" y="3213000"/>
            <a:ext cx="441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4  2  1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  5  6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1803600" y="3890880"/>
            <a:ext cx="415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三百二十六万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七千五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2853720" y="486900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2  6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7  5  0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0" y="0"/>
            <a:ext cx="7236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出下列各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二百八十五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七百三十八万四千二百五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千一百二十九万六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三千万二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五千零三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199600" y="1279440"/>
            <a:ext cx="2436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85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38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42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29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6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03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3:38:46Z</dcterms:created>
  <dc:creator/>
  <dc:description/>
  <cp:keywords>幻灯片之家 http:/www.eeppt.com</cp:keywords>
  <dc:language>en-US</dc:language>
  <cp:lastModifiedBy/>
  <dcterms:modified xsi:type="dcterms:W3CDTF">2015-07-19T02:17:49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