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230B-CF2C-4B77-8894-BAEF4E8B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2F8D-0A59-47A8-A269-DB5F39AF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CDC2-60CD-4370-9E49-B29E1E4C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3FFC-E5DD-4A07-AA4C-CEEA2A8D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3003-B880-4AFA-AC61-028BA50F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DAA0-1DFA-4A95-936A-5CD84EC9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C66B-D61E-41DA-A917-025FCF04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C27A-423B-4DEF-8F4E-C880B201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89E1-B942-4554-8163-3BF2BC05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FB13-0C01-4A5F-898A-123746AB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BEB3-30ED-46A9-A653-329C6188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F888-4D7B-46C3-847B-23B30A3E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8503-011D-4B1D-8D67-68DD925F2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60/" TargetMode="External"/><Relationship Id="rId7" Type="http://schemas.openxmlformats.org/officeDocument/2006/relationships/hyperlink" Target="http://www.1ppt.com/kejian/yuwen/161/" TargetMode="External"/><Relationship Id="rId8" Type="http://schemas.openxmlformats.org/officeDocument/2006/relationships/hyperlink" Target="http://www.1ppt.com/kejian/yuwen/162/" TargetMode="External"/><Relationship Id="rId9" Type="http://schemas.openxmlformats.org/officeDocument/2006/relationships/hyperlink" Target="http://www.1ppt.com/kejian/yuwen/163/" TargetMode="External"/><Relationship Id="rId10" Type="http://schemas.openxmlformats.org/officeDocument/2006/relationships/hyperlink" Target="http://www.1ppt.com/kejian/yuwen/164/" TargetMode="External"/><Relationship Id="rId11" Type="http://schemas.openxmlformats.org/officeDocument/2006/relationships/hyperlink" Target="http://www.1ppt.com/kejian/yuwen/165/" TargetMode="External"/><Relationship Id="rId12" Type="http://schemas.openxmlformats.org/officeDocument/2006/relationships/hyperlink" Target="http://www.1ppt.com/" TargetMode="External"/><Relationship Id="rId13" Type="http://schemas.openxmlformats.org/officeDocument/2006/relationships/hyperlink" Target="http://www.1ppt.com/kejian/yuwen/166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kejian/yuwen/167/" TargetMode="External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276,6,&#24187;&#28783;&#29255; 6" TargetMode="External"/><Relationship Id="rId3" Type="http://schemas.openxmlformats.org/officeDocument/2006/relationships/hyperlink" Target="278,10,&#24187;&#28783;&#29255; 10" TargetMode="External"/><Relationship Id="rId4" Type="http://schemas.openxmlformats.org/officeDocument/2006/relationships/hyperlink" Target="277,14,&#24187;&#28783;&#29255; 14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403280" y="836640"/>
            <a:ext cx="77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华文隶书"/>
              </a:rPr>
              <a:t>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2205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4760" y="981000"/>
            <a:ext cx="22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嫦娥奔月》优质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2987640" y="1267200"/>
            <a:ext cx="403380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奸诈贪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0" y="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有个叫逢蒙的，为人奸诈贪婪，也随着众人拜在后羿的门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八月十五这天清晨，后羿要带弟子出门去，逢蒙假装生病，留了下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0" y="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到了晚上，逢蒙手提宝剑，迫不及待地闯进后羿家里，威逼嫦娥把仙药交出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8459640" y="6237360"/>
            <a:ext cx="505080" cy="39348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393480"/>
              <a:gd name="textAreaBottom" fmla="*/ 369000 h 393480"/>
            </a:gdLst>
            <a:ahLst/>
            <a:rect l="textAreaLeft" t="textAreaTop" r="textAreaRight" b="textAreaBottom"/>
            <a:pathLst>
              <a:path w="27721" h="21600">
                <a:moveTo>
                  <a:pt x="0" y="0"/>
                </a:moveTo>
                <a:lnTo>
                  <a:pt x="27721" y="0"/>
                </a:lnTo>
                <a:lnTo>
                  <a:pt x="27721" y="21600"/>
                </a:lnTo>
                <a:lnTo>
                  <a:pt x="0" y="21600"/>
                </a:lnTo>
                <a:close/>
              </a:path>
              <a:path fill="lightenLess" w="27721" h="21600">
                <a:moveTo>
                  <a:pt x="0" y="0"/>
                </a:moveTo>
                <a:lnTo>
                  <a:pt x="27721" y="0"/>
                </a:lnTo>
                <a:lnTo>
                  <a:pt x="26371" y="1350"/>
                </a:lnTo>
                <a:lnTo>
                  <a:pt x="1350" y="1350"/>
                </a:lnTo>
                <a:close/>
              </a:path>
              <a:path fill="darken" w="27721" h="21600">
                <a:moveTo>
                  <a:pt x="27721" y="0"/>
                </a:moveTo>
                <a:lnTo>
                  <a:pt x="27721" y="21600"/>
                </a:lnTo>
                <a:lnTo>
                  <a:pt x="26371" y="20250"/>
                </a:lnTo>
                <a:lnTo>
                  <a:pt x="26371" y="1350"/>
                </a:lnTo>
                <a:close/>
              </a:path>
              <a:path fill="darkenLess" w="27721" h="21600">
                <a:moveTo>
                  <a:pt x="2772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371" y="20250"/>
                </a:lnTo>
                <a:close/>
              </a:path>
              <a:path fill="lighten" w="2772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21" h="21600">
                <a:moveTo>
                  <a:pt x="13860" y="3800"/>
                </a:moveTo>
                <a:lnTo>
                  <a:pt x="16450" y="6425"/>
                </a:lnTo>
                <a:lnTo>
                  <a:pt x="16450" y="4675"/>
                </a:lnTo>
                <a:lnTo>
                  <a:pt x="18235" y="4675"/>
                </a:lnTo>
                <a:lnTo>
                  <a:pt x="18235" y="8210"/>
                </a:lnTo>
                <a:lnTo>
                  <a:pt x="20860" y="10800"/>
                </a:lnTo>
                <a:lnTo>
                  <a:pt x="19198" y="10800"/>
                </a:lnTo>
                <a:lnTo>
                  <a:pt x="19198" y="18028"/>
                </a:lnTo>
                <a:lnTo>
                  <a:pt x="8523" y="18028"/>
                </a:lnTo>
                <a:lnTo>
                  <a:pt x="8523" y="10800"/>
                </a:lnTo>
                <a:lnTo>
                  <a:pt x="6860" y="10800"/>
                </a:lnTo>
                <a:close/>
              </a:path>
              <a:path fill="darkenLess" w="27721" h="21600">
                <a:moveTo>
                  <a:pt x="16450" y="6425"/>
                </a:moveTo>
                <a:lnTo>
                  <a:pt x="16450" y="4675"/>
                </a:lnTo>
                <a:lnTo>
                  <a:pt x="18235" y="4675"/>
                </a:lnTo>
                <a:lnTo>
                  <a:pt x="18235" y="8210"/>
                </a:lnTo>
                <a:close/>
              </a:path>
              <a:path fill="darkenLess" w="27721" h="21600">
                <a:moveTo>
                  <a:pt x="12933" y="14318"/>
                </a:moveTo>
                <a:lnTo>
                  <a:pt x="14788" y="14318"/>
                </a:lnTo>
                <a:lnTo>
                  <a:pt x="14788" y="18028"/>
                </a:lnTo>
                <a:lnTo>
                  <a:pt x="19198" y="18028"/>
                </a:lnTo>
                <a:lnTo>
                  <a:pt x="19198" y="10800"/>
                </a:lnTo>
                <a:lnTo>
                  <a:pt x="8523" y="10800"/>
                </a:lnTo>
                <a:lnTo>
                  <a:pt x="8523" y="18028"/>
                </a:lnTo>
                <a:lnTo>
                  <a:pt x="12933" y="180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0" y="0"/>
            <a:ext cx="88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908000" y="1125000"/>
            <a:ext cx="572472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美丽善良、机智勇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0" y="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 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她经常接济生活贫苦的乡亲，乡亲们都非常喜欢她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0" y="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嫦娥心里想，让这样的人吃了长生不老药，不是要害更多的人吗？于是，她便机智地与逢蒙周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0" y="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眼看就要搜到百宝匣了，嫦娥疾步向前，取出仙药，一口吞了下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她飞出了窗子，飞过了洒满银辉的郊野，越飞越高。碧蓝碧蓝的夜空挂着一轮明月，嫦娥一直朝着月亮飞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0" y="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只见皓月当空，圆圆的月亮上树影婆娑，一只玉兔在树下跳来跳去。啊！妻子正站在一棵桂树旁深情地凝望着自己呢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8"/>
          <p:cNvSpPr/>
          <p:nvPr/>
        </p:nvSpPr>
        <p:spPr>
          <a:xfrm>
            <a:off x="539640" y="468324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kejian/yuwen/138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/kejian/yuwen/166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kejian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2"/>
          <p:cNvPicPr/>
          <p:nvPr/>
        </p:nvPicPr>
        <p:blipFill>
          <a:blip r:embed="rId16"/>
          <a:stretch/>
        </p:blipFill>
        <p:spPr>
          <a:xfrm>
            <a:off x="0" y="3284640"/>
            <a:ext cx="2757600" cy="3573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179280" y="476280"/>
            <a:ext cx="7632720" cy="40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méng       jiān         tān        wán         qǐ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蒙   奸   贪   丸   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lún          zhà         jì             xiá                             </a:t>
            </a:r>
            <a:r>
              <a:rPr b="0" lang="zh-CN" sz="6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仑   诈   济   匣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3995640" y="4869000"/>
            <a:ext cx="424656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生字学习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乡亲们很想念好心的嫦娥，在院子里摆上嫦娥平日爱吃的食品，遥遥地为她祝福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8459640" y="6237360"/>
            <a:ext cx="505080" cy="39348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393480"/>
              <a:gd name="textAreaBottom" fmla="*/ 369000 h 393480"/>
            </a:gdLst>
            <a:ahLst/>
            <a:rect l="textAreaLeft" t="textAreaTop" r="textAreaRight" b="textAreaBottom"/>
            <a:pathLst>
              <a:path w="27721" h="21600">
                <a:moveTo>
                  <a:pt x="0" y="0"/>
                </a:moveTo>
                <a:lnTo>
                  <a:pt x="27721" y="0"/>
                </a:lnTo>
                <a:lnTo>
                  <a:pt x="27721" y="21600"/>
                </a:lnTo>
                <a:lnTo>
                  <a:pt x="0" y="21600"/>
                </a:lnTo>
                <a:close/>
              </a:path>
              <a:path fill="lightenLess" w="27721" h="21600">
                <a:moveTo>
                  <a:pt x="0" y="0"/>
                </a:moveTo>
                <a:lnTo>
                  <a:pt x="27721" y="0"/>
                </a:lnTo>
                <a:lnTo>
                  <a:pt x="26371" y="1350"/>
                </a:lnTo>
                <a:lnTo>
                  <a:pt x="1350" y="1350"/>
                </a:lnTo>
                <a:close/>
              </a:path>
              <a:path fill="darken" w="27721" h="21600">
                <a:moveTo>
                  <a:pt x="27721" y="0"/>
                </a:moveTo>
                <a:lnTo>
                  <a:pt x="27721" y="21600"/>
                </a:lnTo>
                <a:lnTo>
                  <a:pt x="26371" y="20250"/>
                </a:lnTo>
                <a:lnTo>
                  <a:pt x="26371" y="1350"/>
                </a:lnTo>
                <a:close/>
              </a:path>
              <a:path fill="darkenLess" w="27721" h="21600">
                <a:moveTo>
                  <a:pt x="2772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371" y="20250"/>
                </a:lnTo>
                <a:close/>
              </a:path>
              <a:path fill="lighten" w="2772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21" h="21600">
                <a:moveTo>
                  <a:pt x="13860" y="3800"/>
                </a:moveTo>
                <a:lnTo>
                  <a:pt x="16450" y="6425"/>
                </a:lnTo>
                <a:lnTo>
                  <a:pt x="16450" y="4675"/>
                </a:lnTo>
                <a:lnTo>
                  <a:pt x="18235" y="4675"/>
                </a:lnTo>
                <a:lnTo>
                  <a:pt x="18235" y="8210"/>
                </a:lnTo>
                <a:lnTo>
                  <a:pt x="20860" y="10800"/>
                </a:lnTo>
                <a:lnTo>
                  <a:pt x="19198" y="10800"/>
                </a:lnTo>
                <a:lnTo>
                  <a:pt x="19198" y="18028"/>
                </a:lnTo>
                <a:lnTo>
                  <a:pt x="8523" y="18028"/>
                </a:lnTo>
                <a:lnTo>
                  <a:pt x="8523" y="10800"/>
                </a:lnTo>
                <a:lnTo>
                  <a:pt x="6860" y="10800"/>
                </a:lnTo>
                <a:close/>
              </a:path>
              <a:path fill="darkenLess" w="27721" h="21600">
                <a:moveTo>
                  <a:pt x="16450" y="6425"/>
                </a:moveTo>
                <a:lnTo>
                  <a:pt x="16450" y="4675"/>
                </a:lnTo>
                <a:lnTo>
                  <a:pt x="18235" y="4675"/>
                </a:lnTo>
                <a:lnTo>
                  <a:pt x="18235" y="8210"/>
                </a:lnTo>
                <a:close/>
              </a:path>
              <a:path fill="darkenLess" w="27721" h="21600">
                <a:moveTo>
                  <a:pt x="12933" y="14318"/>
                </a:moveTo>
                <a:lnTo>
                  <a:pt x="14788" y="14318"/>
                </a:lnTo>
                <a:lnTo>
                  <a:pt x="14788" y="18028"/>
                </a:lnTo>
                <a:lnTo>
                  <a:pt x="19198" y="18028"/>
                </a:lnTo>
                <a:lnTo>
                  <a:pt x="19198" y="10800"/>
                </a:lnTo>
                <a:lnTo>
                  <a:pt x="8523" y="10800"/>
                </a:lnTo>
                <a:lnTo>
                  <a:pt x="8523" y="18028"/>
                </a:lnTo>
                <a:lnTo>
                  <a:pt x="12933" y="180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FD2B-60B4-44B7-9CB8-02CE4651E1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0" y="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从此以后，每年八月十五，就成了人们企盼团圆的中秋佳节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0" y="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此时此刻，乡亲们又想起了嫦娥对他们的帮助，不禁</a:t>
            </a:r>
            <a:r>
              <a:rPr b="0" lang="en-US" sz="54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平湖秋月.mp3" descr=""/>
          <p:cNvPicPr/>
          <p:nvPr/>
        </p:nvPicPr>
        <p:blipFill>
          <a:blip r:embed="rId2"/>
          <a:stretch/>
        </p:blipFill>
        <p:spPr>
          <a:xfrm>
            <a:off x="8101080" y="6021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2"/>
          <p:cNvPicPr/>
          <p:nvPr/>
        </p:nvPicPr>
        <p:blipFill>
          <a:blip r:embed="rId1"/>
          <a:stretch/>
        </p:blipFill>
        <p:spPr>
          <a:xfrm>
            <a:off x="0" y="3284640"/>
            <a:ext cx="2757600" cy="3573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24000" y="836640"/>
            <a:ext cx="88200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逢蒙    药丸     企盼     昆仑    接济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药匣    威逼     周旋     凝望    敬重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皓月当空     树影婆娑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迫不及待     奸诈贪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2"/>
          <p:cNvPicPr/>
          <p:nvPr/>
        </p:nvPicPr>
        <p:blipFill>
          <a:blip r:embed="rId1"/>
          <a:stretch/>
        </p:blipFill>
        <p:spPr>
          <a:xfrm>
            <a:off x="1692360" y="404640"/>
            <a:ext cx="570528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1657440" y="347760"/>
            <a:ext cx="1619280" cy="1028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9999"/>
                </a:solidFill>
                <a:uFillTx/>
                <a:latin typeface="方正硬笔楷书简体"/>
                <a:ea typeface="方正硬笔楷书简体"/>
                <a:hlinkClick r:id="rId2"/>
              </a:rPr>
              <a:t>后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657440" y="2997360"/>
            <a:ext cx="1619280" cy="1028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9999"/>
                </a:solidFill>
                <a:uFillTx/>
                <a:latin typeface="方正硬笔楷书简体"/>
                <a:ea typeface="方正硬笔楷书简体"/>
                <a:hlinkClick r:id="rId3"/>
              </a:rPr>
              <a:t>逢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657440" y="1773360"/>
            <a:ext cx="1619280" cy="1028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9999"/>
                </a:solidFill>
                <a:uFillTx/>
                <a:latin typeface="方正硬笔楷书简体"/>
                <a:ea typeface="方正硬笔楷书简体"/>
                <a:hlinkClick r:id="rId4"/>
              </a:rPr>
              <a:t>嫦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8532720" y="6381720"/>
            <a:ext cx="503280" cy="432000"/>
          </a:xfrm>
          <a:custGeom>
            <a:avLst/>
            <a:gdLst>
              <a:gd name="textAreaLeft" fmla="*/ 27000 w 503280"/>
              <a:gd name="textAreaRight" fmla="*/ 476280 w 503280"/>
              <a:gd name="textAreaTop" fmla="*/ 27000 h 432000"/>
              <a:gd name="textAreaBottom" fmla="*/ 40500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811" y="1350"/>
                </a:lnTo>
                <a:lnTo>
                  <a:pt x="1350" y="135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811" y="20250"/>
                </a:lnTo>
                <a:lnTo>
                  <a:pt x="23811" y="135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11" y="2025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161" h="21600">
                <a:moveTo>
                  <a:pt x="5537" y="3756"/>
                </a:moveTo>
                <a:lnTo>
                  <a:pt x="19624" y="10800"/>
                </a:lnTo>
                <a:lnTo>
                  <a:pt x="5537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1979640" y="1051920"/>
            <a:ext cx="568944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力大无比、为民除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0" y="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有一个力大无比的英雄名叫后羿，他决心为老百姓解除这个苦难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0" y="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后羿登上昆仑山顶，运足气力，拉满神弓，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“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嗖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—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嗖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—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嗖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—”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一口气射下了九个太阳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0" y="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他对天上最后一个太阳说：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“</a:t>
            </a:r>
            <a:r>
              <a:rPr b="0" lang="zh-CN" sz="54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从今以后，你每天必须按时升起，按时落下，为民造福！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8459640" y="6237360"/>
            <a:ext cx="505080" cy="39348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393480"/>
              <a:gd name="textAreaBottom" fmla="*/ 369000 h 393480"/>
            </a:gdLst>
            <a:ahLst/>
            <a:rect l="textAreaLeft" t="textAreaTop" r="textAreaRight" b="textAreaBottom"/>
            <a:pathLst>
              <a:path w="27721" h="21600">
                <a:moveTo>
                  <a:pt x="0" y="0"/>
                </a:moveTo>
                <a:lnTo>
                  <a:pt x="27721" y="0"/>
                </a:lnTo>
                <a:lnTo>
                  <a:pt x="27721" y="21600"/>
                </a:lnTo>
                <a:lnTo>
                  <a:pt x="0" y="21600"/>
                </a:lnTo>
                <a:close/>
              </a:path>
              <a:path fill="lightenLess" w="27721" h="21600">
                <a:moveTo>
                  <a:pt x="0" y="0"/>
                </a:moveTo>
                <a:lnTo>
                  <a:pt x="27721" y="0"/>
                </a:lnTo>
                <a:lnTo>
                  <a:pt x="26371" y="1350"/>
                </a:lnTo>
                <a:lnTo>
                  <a:pt x="1350" y="1350"/>
                </a:lnTo>
                <a:close/>
              </a:path>
              <a:path fill="darken" w="27721" h="21600">
                <a:moveTo>
                  <a:pt x="27721" y="0"/>
                </a:moveTo>
                <a:lnTo>
                  <a:pt x="27721" y="21600"/>
                </a:lnTo>
                <a:lnTo>
                  <a:pt x="26371" y="20250"/>
                </a:lnTo>
                <a:lnTo>
                  <a:pt x="26371" y="1350"/>
                </a:lnTo>
                <a:close/>
              </a:path>
              <a:path fill="darkenLess" w="27721" h="21600">
                <a:moveTo>
                  <a:pt x="2772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371" y="20250"/>
                </a:lnTo>
                <a:close/>
              </a:path>
              <a:path fill="lighten" w="2772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21" h="21600">
                <a:moveTo>
                  <a:pt x="13860" y="3800"/>
                </a:moveTo>
                <a:lnTo>
                  <a:pt x="16450" y="6425"/>
                </a:lnTo>
                <a:lnTo>
                  <a:pt x="16450" y="4675"/>
                </a:lnTo>
                <a:lnTo>
                  <a:pt x="18235" y="4675"/>
                </a:lnTo>
                <a:lnTo>
                  <a:pt x="18235" y="8210"/>
                </a:lnTo>
                <a:lnTo>
                  <a:pt x="20860" y="10800"/>
                </a:lnTo>
                <a:lnTo>
                  <a:pt x="19198" y="10800"/>
                </a:lnTo>
                <a:lnTo>
                  <a:pt x="19198" y="18028"/>
                </a:lnTo>
                <a:lnTo>
                  <a:pt x="8523" y="18028"/>
                </a:lnTo>
                <a:lnTo>
                  <a:pt x="8523" y="10800"/>
                </a:lnTo>
                <a:lnTo>
                  <a:pt x="6860" y="10800"/>
                </a:lnTo>
                <a:close/>
              </a:path>
              <a:path fill="darkenLess" w="27721" h="21600">
                <a:moveTo>
                  <a:pt x="16450" y="6425"/>
                </a:moveTo>
                <a:lnTo>
                  <a:pt x="16450" y="4675"/>
                </a:lnTo>
                <a:lnTo>
                  <a:pt x="18235" y="4675"/>
                </a:lnTo>
                <a:lnTo>
                  <a:pt x="18235" y="8210"/>
                </a:lnTo>
                <a:close/>
              </a:path>
              <a:path fill="darkenLess" w="27721" h="21600">
                <a:moveTo>
                  <a:pt x="12933" y="14318"/>
                </a:moveTo>
                <a:lnTo>
                  <a:pt x="14788" y="14318"/>
                </a:lnTo>
                <a:lnTo>
                  <a:pt x="14788" y="18028"/>
                </a:lnTo>
                <a:lnTo>
                  <a:pt x="19198" y="18028"/>
                </a:lnTo>
                <a:lnTo>
                  <a:pt x="19198" y="10800"/>
                </a:lnTo>
                <a:lnTo>
                  <a:pt x="8523" y="10800"/>
                </a:lnTo>
                <a:lnTo>
                  <a:pt x="8523" y="18028"/>
                </a:lnTo>
                <a:lnTo>
                  <a:pt x="12933" y="180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23:50:19Z</dcterms:created>
  <dc:creator/>
  <dc:description/>
  <cp:keywords>幻灯片之家 http:/www.eeppt.com</cp:keywords>
  <dc:language>en-US</dc:language>
  <cp:lastModifiedBy/>
  <dcterms:modified xsi:type="dcterms:W3CDTF">2015-07-04T13:28:28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