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F59-29E9-49E3-A2CB-D8D3C4E8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CA2-4424-499A-A4CC-070CE73B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1F9-7865-4127-9712-2FE86592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DDD-62FC-42C5-8829-03B7C8B9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AB2-6E8E-43C7-A56F-A4F0FBB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F37-32C6-4E59-B5BB-3FD081A1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D60-F814-46F2-9F0A-61B24ABD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E03-8AAD-4215-A9E0-DC454D3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FBC-DBFC-4293-AB22-9C99455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40C-A106-4B07-95CC-CA0BBD6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602-DC8D-4406-B6B5-8A13B7D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247-E6A6-4CA6-B005-5C76D6C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02A-39EF-4E91-A547-30C08443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f685"/>
          <p:cNvPicPr/>
          <p:nvPr/>
        </p:nvPicPr>
        <p:blipFill>
          <a:blip r:embed="rId1"/>
          <a:stretch/>
        </p:blipFill>
        <p:spPr>
          <a:xfrm>
            <a:off x="181080" y="-3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381720"/>
            <a:ext cx="460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47440" y="148608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自然之道》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1600" y="6526080"/>
            <a:ext cx="2828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76360" y="1197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向导一边走一边发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悲叹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：“如果不是我们，这些海龟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根本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就会受到伤害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115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W0200610214118416807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00504140404_5028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0716-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xiaxuyan,200609151714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1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258920" y="112536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假如你是葬身食肉鸟之腹的一只小幼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假如你是一只吃得饱饱的海鸥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假如你是亲身经历这件蠢事的作者的同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.............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260280"/>
            <a:ext cx="9325080" cy="6614640"/>
          </a:xfrm>
          <a:prstGeom prst="rect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旅游　筑巢　幼龟　 沙滩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侦察　企图    情愿     蠢事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返回　海鸥　补救 </a:t>
            </a:r>
            <a:br>
              <a:rPr sz="4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争先恐后   欲出又止   若无其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死不救   鱼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出   愚不可及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气喘吁吁   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云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140328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042920" y="170028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干了一件愚不可及的蠢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422-D0A5-4144-B79A-8679A7ECA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618280" y="1773360"/>
            <a:ext cx="462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向导却若无其事地答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叼就叼去吧，自然之道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就是这样的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2700360" y="4076640"/>
            <a:ext cx="165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332000" y="1052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突然，一只幼龟把头探出巢穴，却欲出又止，似乎在侦察外面是否安全。正当幼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踌躇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不前时，一只嘲鸫突然飞来，它用尖嘴啄幼龟的头，企图把它拉到沙滩上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476360" y="98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和同伴紧张地看着眼前的一幕，其中一位焦急地对向导说：“你得想想办法啊！”向导却若无其事地答道：“叼就叼去吧，自然之道，就是这样的。”向导的冷淡，招来了同伴们一片“不能见死不救”呼喊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pic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258920" y="119700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向导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极不情愿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地抱起那只小龟，朝大海走去。那只嘲鸫眼见到手的美食丢掉，只好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颓丧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地飞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pic_141424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pic_141425"/>
          <p:cNvPicPr/>
          <p:nvPr/>
        </p:nvPicPr>
        <p:blipFill>
          <a:blip r:embed="rId2"/>
          <a:stretch/>
        </p:blipFill>
        <p:spPr>
          <a:xfrm>
            <a:off x="4748040" y="0"/>
            <a:ext cx="43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3:41:28Z</dcterms:created>
  <dc:creator/>
  <dc:description/>
  <cp:keywords>幻灯片之家 http:/www.eeppt.com</cp:keywords>
  <dc:language>en-US</dc:language>
  <cp:lastModifiedBy/>
  <dcterms:modified xsi:type="dcterms:W3CDTF">2015-07-19T03:1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