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AB9-AE8D-4CEA-B370-5BC67897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49B-6A83-4E4B-9C16-8301BB0F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84E-978C-4CF7-9539-E13720F6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90E-BF1F-4632-AE4D-37C74EDF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CE9-AB67-44DD-8A47-065352E0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22D-226F-4A7F-8B01-6BEFF0B2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8E5-02C7-4823-B0A0-1537E4DB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CE8-3A73-41C1-956A-D7DC4BA4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238-B852-4663-B4F1-1C4A874B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2E5-6FA0-4FE8-9754-E2551998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F0F3-78BF-4D9A-9D4C-8F3EEF26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A5F-B9D4-4478-A43F-88747C40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62DB-398A-4251-AFAF-C689D7257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E:\唐红梅\植物妈妈有办法\7.bmp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8915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270080"/>
            <a:ext cx="77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植物妈妈有办法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0"/>
            <a:ext cx="8915400" cy="89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旅行            蒲公英              降落伞                娃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苍耳             纷纷                  山洼                  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蹦跳             炸开                  观察                知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48F-8729-4BCB-8440-8659E04C80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唐红梅\植物妈妈有办法\15.jpg"/>
          <p:cNvPicPr/>
          <p:nvPr/>
        </p:nvPicPr>
        <p:blipFill>
          <a:blip r:embed="rId1"/>
          <a:stretch/>
        </p:blipFill>
        <p:spPr>
          <a:xfrm>
            <a:off x="3124080" y="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E:\唐红梅\植物妈妈有办法\16.jpg"/>
          <p:cNvPicPr/>
          <p:nvPr/>
        </p:nvPicPr>
        <p:blipFill>
          <a:blip r:embed="rId2"/>
          <a:stretch/>
        </p:blipFill>
        <p:spPr>
          <a:xfrm>
            <a:off x="0" y="228600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E:\唐红梅\植物妈妈有办法\17.jpg"/>
          <p:cNvPicPr/>
          <p:nvPr/>
        </p:nvPicPr>
        <p:blipFill>
          <a:blip r:embed="rId3"/>
          <a:stretch/>
        </p:blipFill>
        <p:spPr>
          <a:xfrm>
            <a:off x="5638680" y="4114800"/>
            <a:ext cx="2503440" cy="3189240"/>
          </a:xfrm>
          <a:prstGeom prst="rect">
            <a:avLst/>
          </a:prstGeom>
          <a:ln w="0">
            <a:noFill/>
          </a:ln>
        </p:spPr>
      </p:pic>
      <p:pic>
        <p:nvPicPr>
          <p:cNvPr id="66" name="qiurisiyu.mp3" descr=""/>
          <p:cNvPicPr/>
          <p:nvPr/>
        </p:nvPicPr>
        <p:blipFill>
          <a:blip r:embed="rId4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343400" y="1523880"/>
            <a:ext cx="350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如  已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娃  纷好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田字格"/>
          <p:cNvPicPr/>
          <p:nvPr/>
        </p:nvPicPr>
        <p:blipFill>
          <a:blip r:embed="rId1"/>
          <a:stretch/>
        </p:blipFill>
        <p:spPr>
          <a:xfrm>
            <a:off x="228600" y="228600"/>
            <a:ext cx="3809880" cy="295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唐红梅\植物妈妈有办法\6.jpg"/>
          <p:cNvPicPr/>
          <p:nvPr/>
        </p:nvPicPr>
        <p:blipFill>
          <a:blip r:embed="rId1"/>
          <a:stretch/>
        </p:blipFill>
        <p:spPr>
          <a:xfrm>
            <a:off x="380880" y="2895480"/>
            <a:ext cx="4953240" cy="3705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E:\唐红梅\植物妈妈有办法\4.bmp"/>
          <p:cNvPicPr/>
          <p:nvPr/>
        </p:nvPicPr>
        <p:blipFill>
          <a:blip r:embed="rId2"/>
          <a:stretch/>
        </p:blipFill>
        <p:spPr>
          <a:xfrm>
            <a:off x="3886200" y="228600"/>
            <a:ext cx="5029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E:\唐红梅\植物妈妈有办法\2.bmp"/>
          <p:cNvPicPr/>
          <p:nvPr/>
        </p:nvPicPr>
        <p:blipFill>
          <a:blip r:embed="rId1"/>
          <a:stretch/>
        </p:blipFill>
        <p:spPr>
          <a:xfrm>
            <a:off x="304920" y="45720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E:\唐红梅\植物妈妈有办法\8.jpg"/>
          <p:cNvPicPr/>
          <p:nvPr/>
        </p:nvPicPr>
        <p:blipFill>
          <a:blip r:embed="rId2"/>
          <a:stretch/>
        </p:blipFill>
        <p:spPr>
          <a:xfrm>
            <a:off x="4648320" y="339084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唐红梅\植物妈妈有办法\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唐红梅\植物妈妈有办法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唐红梅\植物妈妈有办法\7.bmp"/>
          <p:cNvPicPr/>
          <p:nvPr/>
        </p:nvPicPr>
        <p:blipFill>
          <a:blip r:embed="rId1"/>
          <a:stretch/>
        </p:blipFill>
        <p:spPr>
          <a:xfrm>
            <a:off x="0" y="0"/>
            <a:ext cx="9144000" cy="8915400"/>
          </a:xfrm>
          <a:prstGeom prst="rect">
            <a:avLst/>
          </a:prstGeom>
          <a:ln w="0">
            <a:noFill/>
          </a:ln>
        </p:spPr>
      </p:pic>
      <p:sp>
        <p:nvSpPr>
          <p:cNvPr id="52" name="WordArt 3"/>
          <p:cNvSpPr txBox="1"/>
          <p:nvPr/>
        </p:nvSpPr>
        <p:spPr>
          <a:xfrm>
            <a:off x="914400" y="838080"/>
            <a:ext cx="71341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楷体_GB2312"/>
              </a:rPr>
              <a:t>植物妈妈有办法</a:t>
            </a:r>
            <a:endParaRPr b="1" lang="en-US" sz="8000" spc="-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8720" y="530208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27" descr="E:\唐红梅\植物妈妈有办法\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:\唐红梅\植物妈妈有办法\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唐红梅\植物妈妈有办法\19.jpg"/>
          <p:cNvPicPr/>
          <p:nvPr/>
        </p:nvPicPr>
        <p:blipFill>
          <a:blip r:embed="rId1"/>
          <a:stretch/>
        </p:blipFill>
        <p:spPr>
          <a:xfrm>
            <a:off x="137160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0:25:10Z</dcterms:created>
  <dc:creator/>
  <dc:description/>
  <cp:keywords>幻灯片之家 http:/www.eeppt.com</cp:keywords>
  <dc:language>en-US</dc:language>
  <cp:lastModifiedBy/>
  <dcterms:modified xsi:type="dcterms:W3CDTF">2015-07-18T14:41:29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