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55B-DDEC-4D7D-9A75-5C82969F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E7C-0783-4AE4-9D0B-F5DC422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025-C8CB-47D2-9849-68F922DC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1CF-323D-4E4B-A91B-A32C30A1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F87-9146-4CBD-8BF9-7B2AAC4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D21-38D4-4C1D-916D-E83765FF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121-CDE1-415A-970E-306BD16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5E9-95C9-47B0-A7A0-7C6E565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A3F-9D6F-4D73-A9F4-DCB1E1AA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42F-2761-4125-BFED-3A71D19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B63-02A6-4312-900E-88C537C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B0A-74B2-43A8-9CB7-F5BD9E6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2DB-6C7B-4469-9A90-ED2A388CD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_254418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72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37760" y="2421000"/>
            <a:ext cx="25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珍珠泉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你见过</a:t>
            </a:r>
            <a:r>
              <a:rPr b="1" lang="zh-CN" sz="8000" spc="-1" strike="noStrike">
                <a:solidFill>
                  <a:srgbClr val="333399"/>
                </a:solidFill>
                <a:latin typeface="Tahoma"/>
                <a:ea typeface="华文行楷"/>
              </a:rPr>
              <a:t>泉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水吗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西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羊八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河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喷鱼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台湾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水火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"/>
          <p:cNvSpPr/>
          <p:nvPr/>
        </p:nvSpPr>
        <p:spPr>
          <a:xfrm>
            <a:off x="3564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4" descr="014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80B-1920-42EA-B6F2-E1C4E3AD9F36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403280" y="1052640"/>
            <a:ext cx="67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初读要求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准字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课文内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后你对珍珠泉的印象怎  样？或有什么感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再读课文，想一想，说一说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17848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珍珠泉的周边的景物怎样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潭水是什么样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泉水是怎样冒出的，为什么叫珍珠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课文写了珍珠泉的哪些特点？表达了怎样的感情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47:51Z</dcterms:created>
  <dc:creator/>
  <dc:description/>
  <cp:keywords>幻灯片之家 http:/www.eeppt.com</cp:keywords>
  <dc:language>en-US</dc:language>
  <cp:lastModifiedBy/>
  <dcterms:modified xsi:type="dcterms:W3CDTF">2015-07-04T13:10:4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