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0D63-796B-43F4-B5DF-FE387EE62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1F14-F772-439E-B4A8-70D78B9FE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BD3D-89CC-405D-AC48-DFC52CC1F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28F0-D9AD-42D1-9169-FE41D347F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F006-BEA3-46D6-8519-90812D172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27DFE-75FB-4DD1-A60C-CF90E718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88D01-1673-4B3F-9555-4BCE762F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4D762-4869-4820-829A-85246B00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166FD-EBC6-4724-81E8-3D529C31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FBA8B-7A08-4AC2-ACD0-CE91D4C8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CD17-1222-4830-BF10-06EE40BDEF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7136B-19CE-4822-9EAA-476AFA5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BBE53-C8FB-4BC2-8BEB-4B256B7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E8156-274E-4CF0-8CA6-2056F631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5E7C8-E669-4340-BA39-F85FF687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335FA-4B95-4834-B5B7-84EE7EC4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AC468-D5B8-411A-94BC-B72BAA30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63B9A-0829-49A6-81DB-004A2A6C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4A76-5FE5-486B-8FDD-6AB7E67CE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EF18-93C0-4B0C-9B2D-DF3491905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8F61-B525-4CF6-9C12-DCED85B64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123A-BC57-4753-9461-110DCAF4B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059A-773B-4D50-A2F1-49A921873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02A3-3377-4594-A166-908281AA4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23640" y="6265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803640" y="6310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CAAF-D274-4C6B-8D15-C717D1D662C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2049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7A0F-2C51-4298-A466-FA59A672D7A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5D7F-9055-4C64-9298-FBEA9C062C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E02F-4AE9-4A3A-A2AC-3F885B315E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4097" descr="飞花-淡兰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4098"/>
          <p:cNvSpPr/>
          <p:nvPr/>
        </p:nvSpPr>
        <p:spPr>
          <a:xfrm>
            <a:off x="701028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AF0E-6E02-4073-833F-FA587AEB432F}" type="slidenum">
              <a:rPr b="0" lang="zh-CN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099"/>
          <p:cNvSpPr/>
          <p:nvPr/>
        </p:nvSpPr>
        <p:spPr>
          <a:xfrm>
            <a:off x="0" y="6237360"/>
            <a:ext cx="25092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0920" y="6237360"/>
            <a:ext cx="8893080" cy="360"/>
            <a:chOff x="250920" y="6237360"/>
            <a:chExt cx="8893080" cy="360"/>
          </a:xfrm>
        </p:grpSpPr>
        <p:sp>
          <p:nvSpPr>
            <p:cNvPr id="124" name="直接连接符 4100"/>
            <p:cNvSpPr/>
            <p:nvPr/>
          </p:nvSpPr>
          <p:spPr>
            <a:xfrm>
              <a:off x="250920" y="6237360"/>
              <a:ext cx="8893080" cy="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50920" y="6237360"/>
              <a:ext cx="88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50920" y="6597720"/>
            <a:ext cx="2952720" cy="360"/>
            <a:chOff x="250920" y="6597720"/>
            <a:chExt cx="2952720" cy="360"/>
          </a:xfrm>
        </p:grpSpPr>
        <p:sp>
          <p:nvSpPr>
            <p:cNvPr id="127" name="直接连接符 4101"/>
            <p:cNvSpPr/>
            <p:nvPr/>
          </p:nvSpPr>
          <p:spPr>
            <a:xfrm>
              <a:off x="250920" y="6597720"/>
              <a:ext cx="2952720" cy="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50920" y="6597720"/>
              <a:ext cx="29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文本框 4102"/>
          <p:cNvSpPr/>
          <p:nvPr/>
        </p:nvSpPr>
        <p:spPr>
          <a:xfrm>
            <a:off x="468360" y="6188040"/>
            <a:ext cx="6840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4103" descr="云-顶"/>
          <p:cNvPicPr/>
          <p:nvPr/>
        </p:nvPicPr>
        <p:blipFill>
          <a:blip r:embed="rId2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042920" y="2852640"/>
            <a:ext cx="3960720" cy="360"/>
            <a:chOff x="1042920" y="2852640"/>
            <a:chExt cx="3960720" cy="360"/>
          </a:xfrm>
        </p:grpSpPr>
        <p:sp>
          <p:nvSpPr>
            <p:cNvPr id="132" name="直接连接符 4104"/>
            <p:cNvSpPr/>
            <p:nvPr/>
          </p:nvSpPr>
          <p:spPr>
            <a:xfrm>
              <a:off x="1042920" y="2852640"/>
              <a:ext cx="3960720" cy="0"/>
            </a:xfrm>
            <a:prstGeom prst="line">
              <a:avLst/>
            </a:prstGeom>
            <a:ln w="9360">
              <a:solidFill>
                <a:srgbClr val="061d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042920" y="2852640"/>
              <a:ext cx="39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立方体 4105"/>
          <p:cNvSpPr/>
          <p:nvPr/>
        </p:nvSpPr>
        <p:spPr>
          <a:xfrm>
            <a:off x="6156360" y="5229360"/>
            <a:ext cx="2806560" cy="28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立方体 4106"/>
          <p:cNvSpPr/>
          <p:nvPr/>
        </p:nvSpPr>
        <p:spPr>
          <a:xfrm>
            <a:off x="6372360" y="4869000"/>
            <a:ext cx="2590560" cy="28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立方体 4107"/>
          <p:cNvSpPr/>
          <p:nvPr/>
        </p:nvSpPr>
        <p:spPr>
          <a:xfrm>
            <a:off x="6588000" y="4510080"/>
            <a:ext cx="2376720" cy="2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立方体 4108"/>
          <p:cNvSpPr/>
          <p:nvPr/>
        </p:nvSpPr>
        <p:spPr>
          <a:xfrm>
            <a:off x="6804000" y="4149720"/>
            <a:ext cx="2160720" cy="2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109"/>
          <p:cNvSpPr/>
          <p:nvPr/>
        </p:nvSpPr>
        <p:spPr>
          <a:xfrm>
            <a:off x="6443640" y="5229360"/>
            <a:ext cx="2232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110"/>
          <p:cNvSpPr/>
          <p:nvPr/>
        </p:nvSpPr>
        <p:spPr>
          <a:xfrm>
            <a:off x="6516720" y="4869000"/>
            <a:ext cx="2232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111"/>
          <p:cNvSpPr/>
          <p:nvPr/>
        </p:nvSpPr>
        <p:spPr>
          <a:xfrm>
            <a:off x="6732720" y="4510080"/>
            <a:ext cx="2016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112"/>
          <p:cNvSpPr/>
          <p:nvPr/>
        </p:nvSpPr>
        <p:spPr>
          <a:xfrm>
            <a:off x="6950160" y="4149720"/>
            <a:ext cx="1871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113"/>
          <p:cNvSpPr/>
          <p:nvPr/>
        </p:nvSpPr>
        <p:spPr>
          <a:xfrm>
            <a:off x="2612880" y="3240000"/>
            <a:ext cx="30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11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115"/>
          <p:cNvSpPr/>
          <p:nvPr/>
        </p:nvSpPr>
        <p:spPr>
          <a:xfrm>
            <a:off x="2714040" y="1484280"/>
            <a:ext cx="46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淡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804000" y="631044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7F63-B3E4-435F-A264-2940E0AF64B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5:30:29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6:31Z</dcterms:modified>
  <cp:revision>219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