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9.gif" ContentType="image/gif"/>
  <Override PartName="/ppt/media/image10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BFA-CF41-43FD-9F49-A7410D08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BA2-174F-4739-BB54-6478F00F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D7E-DA7C-4239-8EE0-6C0F46D7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880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496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880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496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269-3315-4A27-9432-F79239B5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872F-08C6-4590-849D-21032B96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D54D-3C02-40F3-A9A7-9460BA31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E899-B3ED-4243-89E2-21776BDF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04CF-FF14-4E38-A096-04F6840F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11D5-0E58-4713-9002-2141BB77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086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45A4-5054-40B7-9984-D75F65D0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723F-5084-4D7A-AAC2-4B837735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983-3DBD-4850-B201-282744FC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16BF-F2B6-47DF-B50B-A8B4247E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5003-D872-4016-9731-38DCF31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E40B-CBBD-4582-9227-B0728A02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5645-8CF9-49FD-90A3-B58531CE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880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496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880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496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6A37-7254-4C94-AE16-D3987B8F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78CC-9FC4-41B6-B921-4436D156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1D76-FBAC-41D3-A3D0-93A568B9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D1A5-DEB0-43A8-8545-EB84D99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5515-2F51-4994-BA98-961404C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D993-8144-42C2-B110-80D205A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EEF-D32A-4D15-BDC8-C9F4B8CD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086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02C8-2BE5-494C-BD2D-1D5214B8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5162-07F2-44C9-8752-CCF4B0BE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09623-3943-4444-ADD1-EDB76D9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5F8D-54C2-4117-81E3-A6A4B978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8B2EA-6147-4C4F-9763-A1B59A5A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4FF6B-4DDB-4D95-954D-3503F40A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880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496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4264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880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496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DD44-380A-4D66-8AD9-31A41D7E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2F3-E792-477A-B8A7-744D5B2E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533-8C10-49C9-BA66-FF435D77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086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E28-531E-4CFC-A9B0-D417BD9F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C96-D0CE-47FA-BCD1-3EA230A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6FB-4F28-40D5-8FC0-74479F7A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F56-4A0F-4188-8D49-E15336BF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721A-DE93-42FC-8FB4-7C938BF65970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A7C7-774B-4166-970F-E11BC241DF0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5B8E-BABB-4149-90CA-95DE7F929C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DA42-0C5A-41FA-892D-5198F9D6061D}" type="slidenum">
              <a:rPr b="0" lang="zh-CN" sz="10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8.gif"/><Relationship Id="rId6" Type="http://schemas.openxmlformats.org/officeDocument/2006/relationships/image" Target="../media/image6.gif"/><Relationship Id="rId7" Type="http://schemas.openxmlformats.org/officeDocument/2006/relationships/image" Target="../media/image9.gif"/><Relationship Id="rId8" Type="http://schemas.openxmlformats.org/officeDocument/2006/relationships/image" Target="../media/image3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1980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  <a:ea typeface="宋体"/>
              </a:rPr>
              <a:t>Silly Monster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86000" y="3505320"/>
            <a:ext cx="4114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1291680" y="1052640"/>
            <a:ext cx="50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动漫卡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免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Your Topic Goes Here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5123" descr="monster_taking_a_drink_hg_clr"/>
          <p:cNvPicPr/>
          <p:nvPr/>
        </p:nvPicPr>
        <p:blipFill>
          <a:blip r:embed="rId1"/>
          <a:stretch/>
        </p:blipFill>
        <p:spPr>
          <a:xfrm>
            <a:off x="114300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1590840"/>
            <a:ext cx="41148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286000" y="3504960"/>
            <a:ext cx="4114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  <a:ea typeface="宋体"/>
            </a:endParaRPr>
          </a:p>
        </p:txBody>
      </p:sp>
      <p:sp>
        <p:nvSpPr>
          <p:cNvPr id="132" name="文本框 6147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Your Topic Goes Here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7171" descr="monster_jumping_hg_clr"/>
          <p:cNvPicPr/>
          <p:nvPr/>
        </p:nvPicPr>
        <p:blipFill>
          <a:blip r:embed="rId2"/>
          <a:stretch/>
        </p:blipFill>
        <p:spPr>
          <a:xfrm>
            <a:off x="1143000" y="4419720"/>
            <a:ext cx="1449360" cy="243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586E-B30D-4E41-A6B5-F40B9B93D7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0" y="1980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  <a:ea typeface="宋体"/>
              </a:rPr>
              <a:t>Elements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6000" y="3504960"/>
            <a:ext cx="4114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  <a:ea typeface="宋体"/>
            </a:endParaRPr>
          </a:p>
        </p:txBody>
      </p:sp>
      <p:pic>
        <p:nvPicPr>
          <p:cNvPr id="142" name="图片 8195" descr="silly_monster_prt"/>
          <p:cNvPicPr/>
          <p:nvPr/>
        </p:nvPicPr>
        <p:blipFill>
          <a:blip r:embed="rId1"/>
          <a:stretch/>
        </p:blipFill>
        <p:spPr>
          <a:xfrm>
            <a:off x="6934320" y="190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8196" descr="silly_monster_qx"/>
          <p:cNvPicPr/>
          <p:nvPr/>
        </p:nvPicPr>
        <p:blipFill>
          <a:blip r:embed="rId2"/>
          <a:stretch/>
        </p:blipFill>
        <p:spPr>
          <a:xfrm>
            <a:off x="228600" y="190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197" descr="silly_monster_sld"/>
          <p:cNvPicPr/>
          <p:nvPr/>
        </p:nvPicPr>
        <p:blipFill>
          <a:blip r:embed="rId3"/>
          <a:stretch/>
        </p:blipFill>
        <p:spPr>
          <a:xfrm>
            <a:off x="2438280" y="19044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8198" descr="silly_monster_trs"/>
          <p:cNvPicPr/>
          <p:nvPr/>
        </p:nvPicPr>
        <p:blipFill>
          <a:blip r:embed="rId4"/>
          <a:stretch/>
        </p:blipFill>
        <p:spPr>
          <a:xfrm>
            <a:off x="4724280" y="19044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8199" descr="lovestruck_monsters_hg_clr"/>
          <p:cNvPicPr/>
          <p:nvPr/>
        </p:nvPicPr>
        <p:blipFill>
          <a:blip r:embed="rId5"/>
          <a:stretch/>
        </p:blipFill>
        <p:spPr>
          <a:xfrm>
            <a:off x="-15840" y="3657600"/>
            <a:ext cx="2454120" cy="30672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8200" descr="monster_jumping_hg_clr"/>
          <p:cNvPicPr/>
          <p:nvPr/>
        </p:nvPicPr>
        <p:blipFill>
          <a:blip r:embed="rId6"/>
          <a:stretch/>
        </p:blipFill>
        <p:spPr>
          <a:xfrm>
            <a:off x="2184480" y="3792600"/>
            <a:ext cx="1778040" cy="2989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8201" descr="monster_surprised_hg_clr"/>
          <p:cNvPicPr/>
          <p:nvPr/>
        </p:nvPicPr>
        <p:blipFill>
          <a:blip r:embed="rId7"/>
          <a:stretch/>
        </p:blipFill>
        <p:spPr>
          <a:xfrm>
            <a:off x="3352680" y="457200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202" descr="monster_taking_a_drink_hg_clr"/>
          <p:cNvPicPr/>
          <p:nvPr/>
        </p:nvPicPr>
        <p:blipFill>
          <a:blip r:embed="rId8"/>
          <a:stretch/>
        </p:blipFill>
        <p:spPr>
          <a:xfrm>
            <a:off x="49528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8203" descr="monster_wiggling_tail_hg_clr"/>
          <p:cNvPicPr/>
          <p:nvPr/>
        </p:nvPicPr>
        <p:blipFill>
          <a:blip r:embed="rId9"/>
          <a:stretch/>
        </p:blipFill>
        <p:spPr>
          <a:xfrm>
            <a:off x="6762600" y="4768920"/>
            <a:ext cx="2381400" cy="208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7:38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5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