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D3A6-4A63-466A-A34A-E4E5FDFFB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2752-1C4D-4E18-9CE9-A9CFB2647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7A7C-FE9C-48D6-961A-1F5A132D7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F70D-81F3-4AFB-AE58-8077087CD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3670-B3AA-421C-8A35-130F85625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34DD-29C0-4B57-8E95-E93489AA5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0890-0883-4283-B6F1-CB70468E6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AD6F-B0E8-49D5-8EC2-A0B698D2E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67BF-5144-49F1-A5EA-8C137C384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CD0B-11D9-4B10-AF5D-9B8A7E6F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C0F1-4BC9-45FE-A8D0-1DA46364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05C4-3018-42EB-8009-799AB03C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EB71C-0F4E-4EA1-832C-A9F3E030F1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0F846-3CD2-4415-9137-8EA69C9EFE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3073"/>
          <p:cNvSpPr/>
          <p:nvPr/>
        </p:nvSpPr>
        <p:spPr>
          <a:xfrm>
            <a:off x="0" y="0"/>
            <a:ext cx="9144000" cy="23623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组合 3074"/>
          <p:cNvGrpSpPr/>
          <p:nvPr/>
        </p:nvGrpSpPr>
        <p:grpSpPr>
          <a:xfrm>
            <a:off x="3182760" y="2286000"/>
            <a:ext cx="2468880" cy="3809160"/>
            <a:chOff x="3182760" y="2286000"/>
            <a:chExt cx="2468880" cy="3809160"/>
          </a:xfrm>
        </p:grpSpPr>
        <p:grpSp>
          <p:nvGrpSpPr>
            <p:cNvPr id="47" name="组合 3075"/>
            <p:cNvGrpSpPr/>
            <p:nvPr/>
          </p:nvGrpSpPr>
          <p:grpSpPr>
            <a:xfrm>
              <a:off x="4636080" y="3102120"/>
              <a:ext cx="1015560" cy="1541520"/>
              <a:chOff x="4636080" y="3102120"/>
              <a:chExt cx="1015560" cy="1541520"/>
            </a:xfrm>
          </p:grpSpPr>
          <p:sp>
            <p:nvSpPr>
              <p:cNvPr id="48" name="任意多边形 3076"/>
              <p:cNvSpPr/>
              <p:nvPr/>
            </p:nvSpPr>
            <p:spPr>
              <a:xfrm rot="240000">
                <a:off x="4669200" y="3625560"/>
                <a:ext cx="914400" cy="987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1454" y="21600"/>
                    </a:lnTo>
                    <a:lnTo>
                      <a:pt x="20146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bbe0e3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等腰三角形 3077"/>
              <p:cNvSpPr/>
              <p:nvPr/>
            </p:nvSpPr>
            <p:spPr>
              <a:xfrm rot="240000">
                <a:off x="4721040" y="3133080"/>
                <a:ext cx="914400" cy="4939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cc00cc"/>
                  </a:gs>
                  <a:gs pos="100000">
                    <a:srgbClr val="ff66c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组合 3078"/>
            <p:cNvGrpSpPr/>
            <p:nvPr/>
          </p:nvGrpSpPr>
          <p:grpSpPr>
            <a:xfrm>
              <a:off x="4977720" y="3780720"/>
              <a:ext cx="443160" cy="398520"/>
              <a:chOff x="4977720" y="3780720"/>
              <a:chExt cx="443160" cy="398520"/>
            </a:xfrm>
          </p:grpSpPr>
          <p:sp>
            <p:nvSpPr>
              <p:cNvPr id="51" name="椭圆 3079"/>
              <p:cNvSpPr/>
              <p:nvPr/>
            </p:nvSpPr>
            <p:spPr>
              <a:xfrm rot="21319200">
                <a:off x="4990320" y="3807000"/>
                <a:ext cx="277200" cy="32076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椭圆 3080"/>
              <p:cNvSpPr/>
              <p:nvPr/>
            </p:nvSpPr>
            <p:spPr>
              <a:xfrm rot="1255200">
                <a:off x="5095440" y="3819600"/>
                <a:ext cx="277200" cy="32076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组合 3081"/>
            <p:cNvGrpSpPr/>
            <p:nvPr/>
          </p:nvGrpSpPr>
          <p:grpSpPr>
            <a:xfrm>
              <a:off x="3809880" y="2286000"/>
              <a:ext cx="1218960" cy="2256840"/>
              <a:chOff x="3809880" y="2286000"/>
              <a:chExt cx="1218960" cy="2256840"/>
            </a:xfrm>
          </p:grpSpPr>
          <p:sp>
            <p:nvSpPr>
              <p:cNvPr id="54" name="任意多边形 3082"/>
              <p:cNvSpPr/>
              <p:nvPr/>
            </p:nvSpPr>
            <p:spPr>
              <a:xfrm>
                <a:off x="3809880" y="3038400"/>
                <a:ext cx="1218960" cy="1504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1454" y="21600"/>
                    </a:lnTo>
                    <a:lnTo>
                      <a:pt x="20146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bbe0e3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等腰三角形 3083"/>
              <p:cNvSpPr/>
              <p:nvPr/>
            </p:nvSpPr>
            <p:spPr>
              <a:xfrm>
                <a:off x="3809880" y="2286000"/>
                <a:ext cx="1218960" cy="7524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cc00cc"/>
                  </a:gs>
                  <a:gs pos="100000">
                    <a:srgbClr val="ff66c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组合 3084"/>
            <p:cNvGrpSpPr/>
            <p:nvPr/>
          </p:nvGrpSpPr>
          <p:grpSpPr>
            <a:xfrm>
              <a:off x="3182760" y="3106440"/>
              <a:ext cx="1001160" cy="1533240"/>
              <a:chOff x="3182760" y="3106440"/>
              <a:chExt cx="1001160" cy="1533240"/>
            </a:xfrm>
          </p:grpSpPr>
          <p:sp>
            <p:nvSpPr>
              <p:cNvPr id="57" name="任意多边形 3085"/>
              <p:cNvSpPr/>
              <p:nvPr/>
            </p:nvSpPr>
            <p:spPr>
              <a:xfrm rot="21395400">
                <a:off x="3240720" y="3625920"/>
                <a:ext cx="914400" cy="987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1454" y="21600"/>
                    </a:lnTo>
                    <a:lnTo>
                      <a:pt x="20146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bbe0e3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等腰三角形 3086"/>
              <p:cNvSpPr/>
              <p:nvPr/>
            </p:nvSpPr>
            <p:spPr>
              <a:xfrm rot="21395400">
                <a:off x="3196440" y="3133080"/>
                <a:ext cx="914400" cy="4939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cc00cc"/>
                  </a:gs>
                  <a:gs pos="100000">
                    <a:srgbClr val="ff66c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组合 3087"/>
            <p:cNvGrpSpPr/>
            <p:nvPr/>
          </p:nvGrpSpPr>
          <p:grpSpPr>
            <a:xfrm>
              <a:off x="3200400" y="4261320"/>
              <a:ext cx="2437920" cy="1833840"/>
              <a:chOff x="3200400" y="4261320"/>
              <a:chExt cx="2437920" cy="1833840"/>
            </a:xfrm>
          </p:grpSpPr>
          <p:sp>
            <p:nvSpPr>
              <p:cNvPr id="60" name="任意多边形 3088"/>
              <p:cNvSpPr/>
              <p:nvPr/>
            </p:nvSpPr>
            <p:spPr>
              <a:xfrm>
                <a:off x="3214080" y="4543560"/>
                <a:ext cx="2415600" cy="1551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1454" y="21600"/>
                    </a:lnTo>
                    <a:lnTo>
                      <a:pt x="20146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任意多边形 3089"/>
              <p:cNvSpPr/>
              <p:nvPr/>
            </p:nvSpPr>
            <p:spPr>
              <a:xfrm>
                <a:off x="3200400" y="4261320"/>
                <a:ext cx="327600" cy="304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1454" y="21600"/>
                    </a:lnTo>
                    <a:lnTo>
                      <a:pt x="20146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任意多边形 3090"/>
              <p:cNvSpPr/>
              <p:nvPr/>
            </p:nvSpPr>
            <p:spPr>
              <a:xfrm>
                <a:off x="4047120" y="4261320"/>
                <a:ext cx="327600" cy="304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1454" y="21600"/>
                    </a:lnTo>
                    <a:lnTo>
                      <a:pt x="20146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任意多边形 3091"/>
              <p:cNvSpPr/>
              <p:nvPr/>
            </p:nvSpPr>
            <p:spPr>
              <a:xfrm>
                <a:off x="4893840" y="4261320"/>
                <a:ext cx="327600" cy="304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1454" y="21600"/>
                    </a:lnTo>
                    <a:lnTo>
                      <a:pt x="20146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任意多边形 3092"/>
              <p:cNvSpPr/>
              <p:nvPr/>
            </p:nvSpPr>
            <p:spPr>
              <a:xfrm>
                <a:off x="4463280" y="4261320"/>
                <a:ext cx="327960" cy="304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1454" y="21600"/>
                    </a:lnTo>
                    <a:lnTo>
                      <a:pt x="20146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任意多边形 3093"/>
              <p:cNvSpPr/>
              <p:nvPr/>
            </p:nvSpPr>
            <p:spPr>
              <a:xfrm>
                <a:off x="3630600" y="4261320"/>
                <a:ext cx="327600" cy="304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1454" y="21600"/>
                    </a:lnTo>
                    <a:lnTo>
                      <a:pt x="20146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任意多边形 3094"/>
              <p:cNvSpPr/>
              <p:nvPr/>
            </p:nvSpPr>
            <p:spPr>
              <a:xfrm>
                <a:off x="5310360" y="4261320"/>
                <a:ext cx="327960" cy="304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1454" y="21600"/>
                    </a:lnTo>
                    <a:lnTo>
                      <a:pt x="20146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" name="组合 3095"/>
            <p:cNvGrpSpPr/>
            <p:nvPr/>
          </p:nvGrpSpPr>
          <p:grpSpPr>
            <a:xfrm>
              <a:off x="4160520" y="3257280"/>
              <a:ext cx="536040" cy="450000"/>
              <a:chOff x="4160520" y="3257280"/>
              <a:chExt cx="536040" cy="450000"/>
            </a:xfrm>
          </p:grpSpPr>
          <p:sp>
            <p:nvSpPr>
              <p:cNvPr id="68" name="椭圆 3096"/>
              <p:cNvSpPr/>
              <p:nvPr/>
            </p:nvSpPr>
            <p:spPr>
              <a:xfrm rot="20858400">
                <a:off x="4197600" y="3291480"/>
                <a:ext cx="332280" cy="38412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椭圆 3097"/>
              <p:cNvSpPr/>
              <p:nvPr/>
            </p:nvSpPr>
            <p:spPr>
              <a:xfrm rot="794400">
                <a:off x="4324680" y="3290040"/>
                <a:ext cx="332280" cy="38412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" name="组合 3098"/>
            <p:cNvGrpSpPr/>
            <p:nvPr/>
          </p:nvGrpSpPr>
          <p:grpSpPr>
            <a:xfrm>
              <a:off x="3447360" y="3766320"/>
              <a:ext cx="444600" cy="393120"/>
              <a:chOff x="3447360" y="3766320"/>
              <a:chExt cx="444600" cy="393120"/>
            </a:xfrm>
          </p:grpSpPr>
          <p:sp>
            <p:nvSpPr>
              <p:cNvPr id="71" name="椭圆 3099"/>
              <p:cNvSpPr/>
              <p:nvPr/>
            </p:nvSpPr>
            <p:spPr>
              <a:xfrm rot="20467200">
                <a:off x="3491640" y="3802320"/>
                <a:ext cx="277200" cy="32076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椭圆 3100"/>
              <p:cNvSpPr/>
              <p:nvPr/>
            </p:nvSpPr>
            <p:spPr>
              <a:xfrm rot="403200">
                <a:off x="3596760" y="3788280"/>
                <a:ext cx="277200" cy="32076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矩形 3101"/>
            <p:cNvSpPr/>
            <p:nvPr/>
          </p:nvSpPr>
          <p:spPr>
            <a:xfrm>
              <a:off x="3657600" y="4966920"/>
              <a:ext cx="380880" cy="141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矩形 3102"/>
            <p:cNvSpPr/>
            <p:nvPr/>
          </p:nvSpPr>
          <p:spPr>
            <a:xfrm>
              <a:off x="4191120" y="5178240"/>
              <a:ext cx="380880" cy="141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矩形 3103"/>
            <p:cNvSpPr/>
            <p:nvPr/>
          </p:nvSpPr>
          <p:spPr>
            <a:xfrm>
              <a:off x="4343400" y="5319720"/>
              <a:ext cx="380880" cy="1407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矩形 3104"/>
            <p:cNvSpPr/>
            <p:nvPr/>
          </p:nvSpPr>
          <p:spPr>
            <a:xfrm>
              <a:off x="4800600" y="4825800"/>
              <a:ext cx="380880" cy="1407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矩形 3105"/>
            <p:cNvSpPr/>
            <p:nvPr/>
          </p:nvSpPr>
          <p:spPr>
            <a:xfrm>
              <a:off x="4038480" y="5672520"/>
              <a:ext cx="381240" cy="1407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组合 3106"/>
          <p:cNvGrpSpPr/>
          <p:nvPr/>
        </p:nvGrpSpPr>
        <p:grpSpPr>
          <a:xfrm>
            <a:off x="1784880" y="3963240"/>
            <a:ext cx="1633320" cy="2367720"/>
            <a:chOff x="1784880" y="3963240"/>
            <a:chExt cx="1633320" cy="2367720"/>
          </a:xfrm>
        </p:grpSpPr>
        <p:grpSp>
          <p:nvGrpSpPr>
            <p:cNvPr id="79" name="组合 3107"/>
            <p:cNvGrpSpPr/>
            <p:nvPr/>
          </p:nvGrpSpPr>
          <p:grpSpPr>
            <a:xfrm>
              <a:off x="1784880" y="3963240"/>
              <a:ext cx="1633320" cy="2367720"/>
              <a:chOff x="1784880" y="3963240"/>
              <a:chExt cx="1633320" cy="2367720"/>
            </a:xfrm>
          </p:grpSpPr>
          <p:sp>
            <p:nvSpPr>
              <p:cNvPr id="80" name="圆角矩形 3108"/>
              <p:cNvSpPr/>
              <p:nvPr/>
            </p:nvSpPr>
            <p:spPr>
              <a:xfrm rot="21139200">
                <a:off x="1906560" y="4327560"/>
                <a:ext cx="1389240" cy="1919160"/>
              </a:xfrm>
              <a:custGeom>
                <a:avLst/>
                <a:gdLst>
                  <a:gd name="textAreaLeft" fmla="*/ 99000 w 1389240"/>
                  <a:gd name="textAreaRight" fmla="*/ 1290240 w 1389240"/>
                  <a:gd name="textAreaTop" fmla="*/ 99000 h 1919160"/>
                  <a:gd name="textAreaBottom" fmla="*/ 1820160 h 1919160"/>
                </a:gdLst>
                <a:ahLst/>
                <a:rect l="textAreaLeft" t="textAreaTop" r="textAreaRight" b="textAreaBottom"/>
                <a:pathLst>
                  <a:path w="21600" h="29837">
                    <a:moveTo>
                      <a:pt x="5256" y="0"/>
                    </a:moveTo>
                    <a:arcTo wR="5256" hR="5256" stAng="16200000" swAng="-5400000"/>
                    <a:lnTo>
                      <a:pt x="0" y="24581"/>
                    </a:lnTo>
                    <a:arcTo wR="5256" hR="5256" stAng="10800000" swAng="-5400000"/>
                    <a:lnTo>
                      <a:pt x="16344" y="29837"/>
                    </a:lnTo>
                    <a:arcTo wR="5256" hR="5256" stAng="5400000" swAng="-5400000"/>
                    <a:lnTo>
                      <a:pt x="21600" y="5256"/>
                    </a:lnTo>
                    <a:arcTo wR="5256" hR="5256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28a028"/>
                  </a:gs>
                  <a:gs pos="100000">
                    <a:srgbClr val="ffff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流程图: 终止 3109"/>
              <p:cNvSpPr/>
              <p:nvPr/>
            </p:nvSpPr>
            <p:spPr>
              <a:xfrm rot="21139200">
                <a:off x="1814760" y="4047120"/>
                <a:ext cx="1278000" cy="290520"/>
              </a:xfrm>
              <a:prstGeom prst="flowChartTerminator">
                <a:avLst/>
              </a:prstGeom>
              <a:gradFill rotWithShape="0">
                <a:gsLst>
                  <a:gs pos="0">
                    <a:srgbClr val="28a028"/>
                  </a:gs>
                  <a:gs pos="100000">
                    <a:srgbClr val="ffff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椭圆 3110"/>
            <p:cNvSpPr/>
            <p:nvPr/>
          </p:nvSpPr>
          <p:spPr>
            <a:xfrm rot="21139200">
              <a:off x="2348280" y="4618440"/>
              <a:ext cx="399960" cy="399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fb1ff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流程图: 决策 3111"/>
            <p:cNvSpPr/>
            <p:nvPr/>
          </p:nvSpPr>
          <p:spPr>
            <a:xfrm rot="21139200">
              <a:off x="2468160" y="5294520"/>
              <a:ext cx="378720" cy="505080"/>
            </a:xfrm>
            <a:prstGeom prst="flowChartDecision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fb1ff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组合 3112"/>
          <p:cNvGrpSpPr/>
          <p:nvPr/>
        </p:nvGrpSpPr>
        <p:grpSpPr>
          <a:xfrm>
            <a:off x="5091120" y="3881880"/>
            <a:ext cx="2533680" cy="2327040"/>
            <a:chOff x="5091120" y="3881880"/>
            <a:chExt cx="2533680" cy="2327040"/>
          </a:xfrm>
        </p:grpSpPr>
        <p:grpSp>
          <p:nvGrpSpPr>
            <p:cNvPr id="85" name="组合 3113"/>
            <p:cNvGrpSpPr/>
            <p:nvPr/>
          </p:nvGrpSpPr>
          <p:grpSpPr>
            <a:xfrm>
              <a:off x="5397840" y="5083200"/>
              <a:ext cx="1790280" cy="1125720"/>
              <a:chOff x="5397840" y="5083200"/>
              <a:chExt cx="1790280" cy="1125720"/>
            </a:xfrm>
          </p:grpSpPr>
          <p:sp>
            <p:nvSpPr>
              <p:cNvPr id="86" name="矩形 3114"/>
              <p:cNvSpPr/>
              <p:nvPr/>
            </p:nvSpPr>
            <p:spPr>
              <a:xfrm rot="233400">
                <a:off x="6126840" y="5163840"/>
                <a:ext cx="1028160" cy="1011240"/>
              </a:xfrm>
              <a:prstGeom prst="rect">
                <a:avLst/>
              </a:prstGeom>
              <a:solidFill>
                <a:srgbClr val="ffba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矩形 3115"/>
              <p:cNvSpPr/>
              <p:nvPr/>
            </p:nvSpPr>
            <p:spPr>
              <a:xfrm rot="233400">
                <a:off x="5431680" y="5092920"/>
                <a:ext cx="330480" cy="1011240"/>
              </a:xfrm>
              <a:prstGeom prst="rect">
                <a:avLst/>
              </a:prstGeom>
              <a:solidFill>
                <a:srgbClr val="ffba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矩形 3116"/>
              <p:cNvSpPr/>
              <p:nvPr/>
            </p:nvSpPr>
            <p:spPr>
              <a:xfrm rot="233400">
                <a:off x="5761440" y="5119200"/>
                <a:ext cx="440640" cy="1011240"/>
              </a:xfrm>
              <a:prstGeom prst="rect">
                <a:avLst/>
              </a:prstGeom>
              <a:gradFill rotWithShape="0">
                <a:gsLst>
                  <a:gs pos="0">
                    <a:srgbClr val="ffba97"/>
                  </a:gs>
                  <a:gs pos="50000">
                    <a:srgbClr val="ffdbc9"/>
                  </a:gs>
                  <a:gs pos="100000">
                    <a:srgbClr val="ffba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9" name="图片 3117" descr="roof"/>
            <p:cNvPicPr/>
            <p:nvPr/>
          </p:nvPicPr>
          <p:blipFill>
            <a:blip r:embed="rId2"/>
            <a:stretch/>
          </p:blipFill>
          <p:spPr>
            <a:xfrm rot="233400">
              <a:off x="5133960" y="3963240"/>
              <a:ext cx="2447640" cy="135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椭圆 3118"/>
            <p:cNvSpPr/>
            <p:nvPr/>
          </p:nvSpPr>
          <p:spPr>
            <a:xfrm rot="233400">
              <a:off x="5474880" y="4952160"/>
              <a:ext cx="1715760" cy="35676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椭圆 3119"/>
            <p:cNvSpPr/>
            <p:nvPr/>
          </p:nvSpPr>
          <p:spPr>
            <a:xfrm rot="233400">
              <a:off x="5931720" y="4409280"/>
              <a:ext cx="297360" cy="297360"/>
            </a:xfrm>
            <a:prstGeom prst="ellipse">
              <a:avLst/>
            </a:prstGeom>
            <a:solidFill>
              <a:srgbClr val="ff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椭圆 3120"/>
            <p:cNvSpPr/>
            <p:nvPr/>
          </p:nvSpPr>
          <p:spPr>
            <a:xfrm rot="233400">
              <a:off x="6483600" y="4150440"/>
              <a:ext cx="356760" cy="356760"/>
            </a:xfrm>
            <a:prstGeom prst="ellipse">
              <a:avLst/>
            </a:prstGeom>
            <a:solidFill>
              <a:srgbClr val="ff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椭圆 3121"/>
            <p:cNvSpPr/>
            <p:nvPr/>
          </p:nvSpPr>
          <p:spPr>
            <a:xfrm rot="233400">
              <a:off x="6690960" y="4639680"/>
              <a:ext cx="297720" cy="297360"/>
            </a:xfrm>
            <a:prstGeom prst="ellipse">
              <a:avLst/>
            </a:prstGeom>
            <a:solidFill>
              <a:srgbClr val="ff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椭圆 3122"/>
            <p:cNvSpPr/>
            <p:nvPr/>
          </p:nvSpPr>
          <p:spPr>
            <a:xfrm rot="233400">
              <a:off x="5443920" y="4555080"/>
              <a:ext cx="297720" cy="297360"/>
            </a:xfrm>
            <a:prstGeom prst="ellipse">
              <a:avLst/>
            </a:prstGeom>
            <a:solidFill>
              <a:srgbClr val="ff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椭圆 3123"/>
            <p:cNvSpPr/>
            <p:nvPr/>
          </p:nvSpPr>
          <p:spPr>
            <a:xfrm rot="233400">
              <a:off x="5713920" y="4151520"/>
              <a:ext cx="178200" cy="178200"/>
            </a:xfrm>
            <a:prstGeom prst="ellipse">
              <a:avLst/>
            </a:prstGeom>
            <a:solidFill>
              <a:srgbClr val="ff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椭圆 3124"/>
            <p:cNvSpPr/>
            <p:nvPr/>
          </p:nvSpPr>
          <p:spPr>
            <a:xfrm rot="233400">
              <a:off x="7098840" y="4842360"/>
              <a:ext cx="178200" cy="178200"/>
            </a:xfrm>
            <a:prstGeom prst="ellipse">
              <a:avLst/>
            </a:prstGeom>
            <a:solidFill>
              <a:srgbClr val="ff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椭圆 3125"/>
            <p:cNvSpPr/>
            <p:nvPr/>
          </p:nvSpPr>
          <p:spPr>
            <a:xfrm rot="233400">
              <a:off x="6332400" y="4672800"/>
              <a:ext cx="237960" cy="237960"/>
            </a:xfrm>
            <a:prstGeom prst="ellipse">
              <a:avLst/>
            </a:prstGeom>
            <a:solidFill>
              <a:srgbClr val="ff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椭圆 3126"/>
            <p:cNvSpPr/>
            <p:nvPr/>
          </p:nvSpPr>
          <p:spPr>
            <a:xfrm rot="233400">
              <a:off x="6946560" y="4416480"/>
              <a:ext cx="237960" cy="237960"/>
            </a:xfrm>
            <a:prstGeom prst="ellipse">
              <a:avLst/>
            </a:prstGeom>
            <a:solidFill>
              <a:srgbClr val="ff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椭圆 3127"/>
            <p:cNvSpPr/>
            <p:nvPr/>
          </p:nvSpPr>
          <p:spPr>
            <a:xfrm rot="233400">
              <a:off x="6188760" y="4183920"/>
              <a:ext cx="178200" cy="178200"/>
            </a:xfrm>
            <a:prstGeom prst="ellipse">
              <a:avLst/>
            </a:prstGeom>
            <a:solidFill>
              <a:srgbClr val="ff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流程图: 延期 3128"/>
            <p:cNvSpPr/>
            <p:nvPr/>
          </p:nvSpPr>
          <p:spPr>
            <a:xfrm rot="16433400">
              <a:off x="5903640" y="5494680"/>
              <a:ext cx="773640" cy="562680"/>
            </a:xfrm>
            <a:prstGeom prst="flowChartDelay">
              <a:avLst/>
            </a:prstGeom>
            <a:gradFill rotWithShape="0">
              <a:gsLst>
                <a:gs pos="0">
                  <a:srgbClr val="3fb1ff"/>
                </a:gs>
                <a:gs pos="50000">
                  <a:srgbClr val="ffffff"/>
                </a:gs>
                <a:gs pos="100000">
                  <a:srgbClr val="3fb1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流程图: 延期 3129"/>
            <p:cNvSpPr/>
            <p:nvPr/>
          </p:nvSpPr>
          <p:spPr>
            <a:xfrm rot="15327000">
              <a:off x="5616000" y="5212080"/>
              <a:ext cx="297720" cy="216720"/>
            </a:xfrm>
            <a:prstGeom prst="flowChartDelay">
              <a:avLst/>
            </a:prstGeom>
            <a:solidFill>
              <a:srgbClr val="ff7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流程图: 延期 3130"/>
            <p:cNvSpPr/>
            <p:nvPr/>
          </p:nvSpPr>
          <p:spPr>
            <a:xfrm rot="17355000">
              <a:off x="6696000" y="5285520"/>
              <a:ext cx="297720" cy="216720"/>
            </a:xfrm>
            <a:prstGeom prst="flowChartDelay">
              <a:avLst/>
            </a:prstGeom>
            <a:solidFill>
              <a:srgbClr val="ff7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3" name="图片 3131" descr=""/>
          <p:cNvPicPr/>
          <p:nvPr/>
        </p:nvPicPr>
        <p:blipFill>
          <a:blip r:embed="rId4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3132" descr="bg4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太阳形 3133"/>
          <p:cNvSpPr/>
          <p:nvPr/>
        </p:nvSpPr>
        <p:spPr>
          <a:xfrm>
            <a:off x="2057400" y="2514600"/>
            <a:ext cx="838080" cy="838080"/>
          </a:xfrm>
          <a:prstGeom prst="sun">
            <a:avLst>
              <a:gd name="adj" fmla="val 25000"/>
            </a:avLst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组合 3134"/>
          <p:cNvGrpSpPr/>
          <p:nvPr/>
        </p:nvGrpSpPr>
        <p:grpSpPr>
          <a:xfrm>
            <a:off x="6663600" y="3026520"/>
            <a:ext cx="658800" cy="963720"/>
            <a:chOff x="6663600" y="3026520"/>
            <a:chExt cx="658800" cy="963720"/>
          </a:xfrm>
        </p:grpSpPr>
        <p:grpSp>
          <p:nvGrpSpPr>
            <p:cNvPr id="107" name="组合 3135"/>
            <p:cNvGrpSpPr/>
            <p:nvPr/>
          </p:nvGrpSpPr>
          <p:grpSpPr>
            <a:xfrm>
              <a:off x="6663600" y="3026520"/>
              <a:ext cx="658800" cy="680400"/>
              <a:chOff x="6663600" y="3026520"/>
              <a:chExt cx="658800" cy="680400"/>
            </a:xfrm>
          </p:grpSpPr>
          <p:grpSp>
            <p:nvGrpSpPr>
              <p:cNvPr id="108" name="组合 3136"/>
              <p:cNvGrpSpPr/>
              <p:nvPr/>
            </p:nvGrpSpPr>
            <p:grpSpPr>
              <a:xfrm>
                <a:off x="6663600" y="3026520"/>
                <a:ext cx="658800" cy="658440"/>
                <a:chOff x="6663600" y="3026520"/>
                <a:chExt cx="658800" cy="658440"/>
              </a:xfrm>
            </p:grpSpPr>
            <p:sp>
              <p:nvSpPr>
                <p:cNvPr id="109" name="椭圆 3137"/>
                <p:cNvSpPr/>
                <p:nvPr/>
              </p:nvSpPr>
              <p:spPr>
                <a:xfrm rot="1392000">
                  <a:off x="6742440" y="3105000"/>
                  <a:ext cx="501480" cy="50148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新月形 3138"/>
                <p:cNvSpPr/>
                <p:nvPr/>
              </p:nvSpPr>
              <p:spPr>
                <a:xfrm rot="1234200">
                  <a:off x="6741360" y="3061800"/>
                  <a:ext cx="206280" cy="48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新月形 3139"/>
                <p:cNvSpPr/>
                <p:nvPr/>
              </p:nvSpPr>
              <p:spPr>
                <a:xfrm rot="12192600">
                  <a:off x="7022880" y="3171960"/>
                  <a:ext cx="206280" cy="491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" name="组合 3140"/>
              <p:cNvGrpSpPr/>
              <p:nvPr/>
            </p:nvGrpSpPr>
            <p:grpSpPr>
              <a:xfrm>
                <a:off x="6765120" y="3502440"/>
                <a:ext cx="281880" cy="204480"/>
                <a:chOff x="6765120" y="3502440"/>
                <a:chExt cx="281880" cy="204480"/>
              </a:xfrm>
            </p:grpSpPr>
            <p:sp>
              <p:nvSpPr>
                <p:cNvPr id="113" name="任意多边形 3141"/>
                <p:cNvSpPr/>
                <p:nvPr/>
              </p:nvSpPr>
              <p:spPr>
                <a:xfrm rot="1392000">
                  <a:off x="6847920" y="3523320"/>
                  <a:ext cx="101160" cy="11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3488" y="21600"/>
                      </a:lnTo>
                      <a:lnTo>
                        <a:pt x="18112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be0e3"/>
                    </a:gs>
                    <a:gs pos="50000">
                      <a:srgbClr val="ffffff"/>
                    </a:gs>
                    <a:gs pos="100000">
                      <a:srgbClr val="bbe0e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任意多边形 3142"/>
                <p:cNvSpPr/>
                <p:nvPr/>
              </p:nvSpPr>
              <p:spPr>
                <a:xfrm rot="2389800">
                  <a:off x="6919560" y="3570480"/>
                  <a:ext cx="101160" cy="11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3488" y="21600"/>
                      </a:lnTo>
                      <a:lnTo>
                        <a:pt x="18112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be0e3"/>
                    </a:gs>
                    <a:gs pos="50000">
                      <a:srgbClr val="ffffff"/>
                    </a:gs>
                    <a:gs pos="100000">
                      <a:srgbClr val="bbe0e3"/>
                    </a:gs>
                  </a:gsLst>
                  <a:lin ang="20604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任意多边形 3143"/>
                <p:cNvSpPr/>
                <p:nvPr/>
              </p:nvSpPr>
              <p:spPr>
                <a:xfrm rot="227400">
                  <a:off x="6768720" y="3505320"/>
                  <a:ext cx="101160" cy="11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3488" y="21600"/>
                      </a:lnTo>
                      <a:lnTo>
                        <a:pt x="18112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be0e3"/>
                    </a:gs>
                    <a:gs pos="50000">
                      <a:srgbClr val="ffffff"/>
                    </a:gs>
                    <a:gs pos="100000">
                      <a:srgbClr val="bbe0e3"/>
                    </a:gs>
                  </a:gsLst>
                  <a:lin ang="1164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" name="矩形 3144"/>
            <p:cNvSpPr/>
            <p:nvPr/>
          </p:nvSpPr>
          <p:spPr>
            <a:xfrm rot="1392000">
              <a:off x="6700320" y="3854160"/>
              <a:ext cx="117720" cy="11772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701400" y="3634200"/>
              <a:ext cx="108360" cy="201240"/>
              <a:chOff x="6701400" y="3634200"/>
              <a:chExt cx="108360" cy="201240"/>
            </a:xfrm>
          </p:grpSpPr>
          <p:sp>
            <p:nvSpPr>
              <p:cNvPr id="118" name="直接连接符 3145"/>
              <p:cNvSpPr/>
              <p:nvPr/>
            </p:nvSpPr>
            <p:spPr>
              <a:xfrm flipH="1">
                <a:off x="6728400" y="3634200"/>
                <a:ext cx="54360" cy="201240"/>
              </a:xfrm>
              <a:prstGeom prst="line">
                <a:avLst/>
              </a:prstGeom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 txBox="1"/>
              <p:nvPr/>
            </p:nvSpPr>
            <p:spPr>
              <a:xfrm rot="1392000">
                <a:off x="6740640" y="3631320"/>
                <a:ext cx="29520" cy="206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6837120" y="3692160"/>
              <a:ext cx="108360" cy="201240"/>
              <a:chOff x="6837120" y="3692160"/>
              <a:chExt cx="108360" cy="201240"/>
            </a:xfrm>
          </p:grpSpPr>
          <p:sp>
            <p:nvSpPr>
              <p:cNvPr id="121" name="直接连接符 3146"/>
              <p:cNvSpPr/>
              <p:nvPr/>
            </p:nvSpPr>
            <p:spPr>
              <a:xfrm flipH="1">
                <a:off x="6837120" y="3704040"/>
                <a:ext cx="108360" cy="177840"/>
              </a:xfrm>
              <a:prstGeom prst="line">
                <a:avLst/>
              </a:prstGeom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 txBox="1"/>
              <p:nvPr/>
            </p:nvSpPr>
            <p:spPr>
              <a:xfrm rot="1392000">
                <a:off x="6876360" y="3689280"/>
                <a:ext cx="29520" cy="206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" name="组合 3147"/>
          <p:cNvGrpSpPr/>
          <p:nvPr/>
        </p:nvGrpSpPr>
        <p:grpSpPr>
          <a:xfrm>
            <a:off x="5652720" y="2440440"/>
            <a:ext cx="1001160" cy="1534680"/>
            <a:chOff x="5652720" y="2440440"/>
            <a:chExt cx="1001160" cy="1534680"/>
          </a:xfrm>
        </p:grpSpPr>
        <p:grpSp>
          <p:nvGrpSpPr>
            <p:cNvPr id="124" name="组合 3148"/>
            <p:cNvGrpSpPr/>
            <p:nvPr/>
          </p:nvGrpSpPr>
          <p:grpSpPr>
            <a:xfrm>
              <a:off x="5652720" y="2440440"/>
              <a:ext cx="1001160" cy="1046160"/>
              <a:chOff x="5652720" y="2440440"/>
              <a:chExt cx="1001160" cy="1046160"/>
            </a:xfrm>
          </p:grpSpPr>
          <p:grpSp>
            <p:nvGrpSpPr>
              <p:cNvPr id="125" name="组合 3149"/>
              <p:cNvGrpSpPr/>
              <p:nvPr/>
            </p:nvGrpSpPr>
            <p:grpSpPr>
              <a:xfrm>
                <a:off x="5652720" y="2440440"/>
                <a:ext cx="1001160" cy="986040"/>
                <a:chOff x="5652720" y="2440440"/>
                <a:chExt cx="1001160" cy="986040"/>
              </a:xfrm>
            </p:grpSpPr>
            <p:sp>
              <p:nvSpPr>
                <p:cNvPr id="126" name="椭圆 3150"/>
                <p:cNvSpPr/>
                <p:nvPr/>
              </p:nvSpPr>
              <p:spPr>
                <a:xfrm rot="20698800">
                  <a:off x="5763600" y="2530440"/>
                  <a:ext cx="799920" cy="79992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新月形 3151"/>
                <p:cNvSpPr/>
                <p:nvPr/>
              </p:nvSpPr>
              <p:spPr>
                <a:xfrm rot="20541600">
                  <a:off x="5761440" y="2626200"/>
                  <a:ext cx="329400" cy="768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新月形 3152"/>
                <p:cNvSpPr/>
                <p:nvPr/>
              </p:nvSpPr>
              <p:spPr>
                <a:xfrm rot="9898800">
                  <a:off x="6228000" y="2484360"/>
                  <a:ext cx="329400" cy="784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组合 3153"/>
              <p:cNvGrpSpPr/>
              <p:nvPr/>
            </p:nvGrpSpPr>
            <p:grpSpPr>
              <a:xfrm>
                <a:off x="6033240" y="3196080"/>
                <a:ext cx="455760" cy="290520"/>
                <a:chOff x="6033240" y="3196080"/>
                <a:chExt cx="455760" cy="290520"/>
              </a:xfrm>
            </p:grpSpPr>
            <p:sp>
              <p:nvSpPr>
                <p:cNvPr id="130" name="任意多边形 3154"/>
                <p:cNvSpPr/>
                <p:nvPr/>
              </p:nvSpPr>
              <p:spPr>
                <a:xfrm rot="20698800">
                  <a:off x="6188760" y="3213720"/>
                  <a:ext cx="161280" cy="18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3488" y="21600"/>
                      </a:lnTo>
                      <a:lnTo>
                        <a:pt x="18112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be0e3"/>
                    </a:gs>
                    <a:gs pos="50000">
                      <a:srgbClr val="ffffff"/>
                    </a:gs>
                    <a:gs pos="100000">
                      <a:srgbClr val="bbe0e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任意多边形 3155"/>
                <p:cNvSpPr/>
                <p:nvPr/>
              </p:nvSpPr>
              <p:spPr>
                <a:xfrm rot="96600">
                  <a:off x="6324840" y="3201480"/>
                  <a:ext cx="161280" cy="18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3488" y="21600"/>
                      </a:lnTo>
                      <a:lnTo>
                        <a:pt x="18112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be0e3"/>
                    </a:gs>
                    <a:gs pos="50000">
                      <a:srgbClr val="ffffff"/>
                    </a:gs>
                    <a:gs pos="100000">
                      <a:srgbClr val="bbe0e3"/>
                    </a:gs>
                  </a:gsLst>
                  <a:lin ang="20604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任意多边形 3156"/>
                <p:cNvSpPr/>
                <p:nvPr/>
              </p:nvSpPr>
              <p:spPr>
                <a:xfrm rot="19534200">
                  <a:off x="6072120" y="3269160"/>
                  <a:ext cx="161280" cy="18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3488" y="21600"/>
                      </a:lnTo>
                      <a:lnTo>
                        <a:pt x="18112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be0e3"/>
                    </a:gs>
                    <a:gs pos="50000">
                      <a:srgbClr val="ffffff"/>
                    </a:gs>
                    <a:gs pos="100000">
                      <a:srgbClr val="bbe0e3"/>
                    </a:gs>
                  </a:gsLst>
                  <a:lin ang="1164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3" name="矩形 3157"/>
            <p:cNvSpPr/>
            <p:nvPr/>
          </p:nvSpPr>
          <p:spPr>
            <a:xfrm rot="20698800">
              <a:off x="6327360" y="3765600"/>
              <a:ext cx="187920" cy="18828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6175440" y="3475080"/>
              <a:ext cx="130680" cy="330480"/>
              <a:chOff x="6175440" y="3475080"/>
              <a:chExt cx="130680" cy="330480"/>
            </a:xfrm>
          </p:grpSpPr>
          <p:sp>
            <p:nvSpPr>
              <p:cNvPr id="135" name="直接连接符 3158"/>
              <p:cNvSpPr/>
              <p:nvPr/>
            </p:nvSpPr>
            <p:spPr>
              <a:xfrm>
                <a:off x="6175440" y="3487320"/>
                <a:ext cx="130680" cy="306000"/>
              </a:xfrm>
              <a:prstGeom prst="line">
                <a:avLst/>
              </a:prstGeom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 txBox="1"/>
              <p:nvPr/>
            </p:nvSpPr>
            <p:spPr>
              <a:xfrm rot="20698800">
                <a:off x="6217200" y="3475440"/>
                <a:ext cx="46800" cy="329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6402960" y="3414240"/>
              <a:ext cx="130680" cy="330480"/>
              <a:chOff x="6402960" y="3414240"/>
              <a:chExt cx="130680" cy="330480"/>
            </a:xfrm>
          </p:grpSpPr>
          <p:sp>
            <p:nvSpPr>
              <p:cNvPr id="138" name="直接连接符 3159"/>
              <p:cNvSpPr/>
              <p:nvPr/>
            </p:nvSpPr>
            <p:spPr>
              <a:xfrm>
                <a:off x="6448320" y="3414240"/>
                <a:ext cx="39960" cy="330480"/>
              </a:xfrm>
              <a:prstGeom prst="line">
                <a:avLst/>
              </a:prstGeom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 txBox="1"/>
              <p:nvPr/>
            </p:nvSpPr>
            <p:spPr>
              <a:xfrm rot="20698800">
                <a:off x="6444720" y="3414600"/>
                <a:ext cx="46800" cy="329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0" name="图片 3160" descr="note"/>
          <p:cNvPicPr/>
          <p:nvPr/>
        </p:nvPicPr>
        <p:blipFill>
          <a:blip r:embed="rId6"/>
          <a:stretch/>
        </p:blipFill>
        <p:spPr>
          <a:xfrm rot="21104400">
            <a:off x="1447560" y="3200040"/>
            <a:ext cx="477720" cy="569880"/>
          </a:xfrm>
          <a:prstGeom prst="rect">
            <a:avLst/>
          </a:prstGeom>
          <a:ln w="0">
            <a:noFill/>
          </a:ln>
        </p:spPr>
      </p:pic>
      <p:sp>
        <p:nvSpPr>
          <p:cNvPr id="141" name="文本框 3161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3162"/>
          <p:cNvSpPr/>
          <p:nvPr/>
        </p:nvSpPr>
        <p:spPr>
          <a:xfrm>
            <a:off x="2241360" y="53352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儿童小学生幼儿园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27T04:18:3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0:46Z</dcterms:modified>
  <cp:revision>17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  <property fmtid="{D5CDD505-2E9C-101B-9397-08002B2CF9AE}" pid="3" name="Version">
    <vt:r8>1</vt:r8>
  </property>
</Properties>
</file>