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jpeg" ContentType="image/jpeg"/>
  <Override PartName="/ppt/media/image74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6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FCF-E042-437D-A794-31A84EB3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DA5-0784-45AE-AE30-9A198BE3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2D0-F129-4F8C-AB61-EF176C58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969-942B-4837-B60D-314A0B0B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8EA2-8C7C-4571-8844-BA382303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62FB-0A5E-4DA0-B0B5-200B730D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EFDE-BEF0-4F96-9956-A5480177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EB5E-9022-4807-A418-14277E71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2F4C-0200-429F-9687-A0DBFFE2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1712-A09A-40AD-BE1C-F814E30D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8B2D-B27E-45D2-BF36-0DF4E3FB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C0F-CE64-4C23-B606-62C4EFDD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4000-2DCE-4AB3-965D-0BF272D2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4281-E660-4A56-9503-BBE26723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EDC5-649F-431A-877A-1A50185C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575B-1D0B-4EBB-9939-5B54FEC2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60BB-27A4-4AC2-A26C-A1DC2F3D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FDB-575D-4512-B2AC-C1893094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820-58DA-43D4-8B0E-AC55A94D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B78-9433-4A4E-9065-FA698DA8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043-CE71-4FE0-8525-DE6EBEA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20F-84AE-49D9-B3F2-4C9C68D5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EF4-48AC-4879-A334-5C48A7EB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441-4AB2-4556-B038-1C47C31F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2A46-8E72-4FEB-9A43-A251AC90E1B5}" type="datetime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629B-D44E-444D-B670-64179CFD1285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rcRect l="0" t="0" r="0" b="92405"/>
          <a:stretch/>
        </p:blipFill>
        <p:spPr>
          <a:xfrm>
            <a:off x="1440" y="6337440"/>
            <a:ext cx="9139320" cy="520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4971960"/>
            <a:ext cx="9144000" cy="1365480"/>
          </a:xfrm>
          <a:prstGeom prst="rect">
            <a:avLst/>
          </a:prstGeom>
          <a:ln w="0">
            <a:noFill/>
          </a:ln>
        </p:spPr>
      </p:pic>
      <p:sp>
        <p:nvSpPr>
          <p:cNvPr id="7" name="矩形 9"/>
          <p:cNvSpPr/>
          <p:nvPr/>
        </p:nvSpPr>
        <p:spPr>
          <a:xfrm>
            <a:off x="515880" y="3128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积思广益  横翔杰出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D01C-6349-4015-8E28-DC44172DA73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AE9F-CC75-4F42-A745-BC4FF3FBFD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19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35.png"/><Relationship Id="rId27" Type="http://schemas.openxmlformats.org/officeDocument/2006/relationships/image" Target="../media/image23.png"/><Relationship Id="rId28" Type="http://schemas.openxmlformats.org/officeDocument/2006/relationships/image" Target="../media/image36.png"/><Relationship Id="rId29" Type="http://schemas.openxmlformats.org/officeDocument/2006/relationships/image" Target="../media/image31.png"/><Relationship Id="rId30" Type="http://schemas.openxmlformats.org/officeDocument/2006/relationships/image" Target="../media/image37.png"/><Relationship Id="rId31" Type="http://schemas.openxmlformats.org/officeDocument/2006/relationships/image" Target="../media/image31.png"/><Relationship Id="rId32" Type="http://schemas.openxmlformats.org/officeDocument/2006/relationships/image" Target="../media/image38.png"/><Relationship Id="rId33" Type="http://schemas.openxmlformats.org/officeDocument/2006/relationships/image" Target="../media/image39.png"/><Relationship Id="rId34" Type="http://schemas.openxmlformats.org/officeDocument/2006/relationships/image" Target="../media/image40.png"/><Relationship Id="rId35" Type="http://schemas.openxmlformats.org/officeDocument/2006/relationships/image" Target="../media/image41.png"/><Relationship Id="rId36" Type="http://schemas.openxmlformats.org/officeDocument/2006/relationships/image" Target="../media/image42.png"/><Relationship Id="rId37" Type="http://schemas.openxmlformats.org/officeDocument/2006/relationships/image" Target="../media/image43.png"/><Relationship Id="rId38" Type="http://schemas.openxmlformats.org/officeDocument/2006/relationships/image" Target="../media/image44.png"/><Relationship Id="rId39" Type="http://schemas.openxmlformats.org/officeDocument/2006/relationships/image" Target="../media/image45.png"/><Relationship Id="rId40" Type="http://schemas.openxmlformats.org/officeDocument/2006/relationships/image" Target="../media/image46.png"/><Relationship Id="rId41" Type="http://schemas.openxmlformats.org/officeDocument/2006/relationships/image" Target="../media/image47.png"/><Relationship Id="rId42" Type="http://schemas.openxmlformats.org/officeDocument/2006/relationships/image" Target="../media/image18.png"/><Relationship Id="rId43" Type="http://schemas.openxmlformats.org/officeDocument/2006/relationships/image" Target="../media/image48.png"/><Relationship Id="rId44" Type="http://schemas.openxmlformats.org/officeDocument/2006/relationships/image" Target="../media/image45.png"/><Relationship Id="rId45" Type="http://schemas.openxmlformats.org/officeDocument/2006/relationships/image" Target="../media/image49.png"/><Relationship Id="rId46" Type="http://schemas.openxmlformats.org/officeDocument/2006/relationships/image" Target="../media/image50.png"/><Relationship Id="rId47" Type="http://schemas.openxmlformats.org/officeDocument/2006/relationships/image" Target="../media/image51.png"/><Relationship Id="rId48" Type="http://schemas.openxmlformats.org/officeDocument/2006/relationships/image" Target="../media/image52.png"/><Relationship Id="rId49" Type="http://schemas.openxmlformats.org/officeDocument/2006/relationships/image" Target="../media/image53.png"/><Relationship Id="rId50" Type="http://schemas.openxmlformats.org/officeDocument/2006/relationships/image" Target="../media/image54.png"/><Relationship Id="rId51" Type="http://schemas.openxmlformats.org/officeDocument/2006/relationships/image" Target="../media/image55.png"/><Relationship Id="rId52" Type="http://schemas.openxmlformats.org/officeDocument/2006/relationships/image" Target="../media/image56.png"/><Relationship Id="rId53" Type="http://schemas.openxmlformats.org/officeDocument/2006/relationships/image" Target="../media/image57.png"/><Relationship Id="rId54" Type="http://schemas.openxmlformats.org/officeDocument/2006/relationships/image" Target="../media/image58.png"/><Relationship Id="rId55" Type="http://schemas.openxmlformats.org/officeDocument/2006/relationships/image" Target="../media/image59.png"/><Relationship Id="rId56" Type="http://schemas.openxmlformats.org/officeDocument/2006/relationships/image" Target="../media/image60.png"/><Relationship Id="rId57" Type="http://schemas.openxmlformats.org/officeDocument/2006/relationships/image" Target="../media/image61.png"/><Relationship Id="rId58" Type="http://schemas.openxmlformats.org/officeDocument/2006/relationships/image" Target="../media/image61.png"/><Relationship Id="rId59" Type="http://schemas.openxmlformats.org/officeDocument/2006/relationships/image" Target="../media/image18.png"/><Relationship Id="rId60" Type="http://schemas.openxmlformats.org/officeDocument/2006/relationships/image" Target="../media/image62.png"/><Relationship Id="rId61" Type="http://schemas.openxmlformats.org/officeDocument/2006/relationships/image" Target="../media/image63.png"/><Relationship Id="rId62" Type="http://schemas.openxmlformats.org/officeDocument/2006/relationships/image" Target="../media/image64.png"/><Relationship Id="rId63" Type="http://schemas.openxmlformats.org/officeDocument/2006/relationships/image" Target="../media/image65.png"/><Relationship Id="rId64" Type="http://schemas.openxmlformats.org/officeDocument/2006/relationships/image" Target="../media/image24.png"/><Relationship Id="rId65" Type="http://schemas.openxmlformats.org/officeDocument/2006/relationships/image" Target="../media/image66.png"/><Relationship Id="rId66" Type="http://schemas.openxmlformats.org/officeDocument/2006/relationships/image" Target="../media/image67.png"/><Relationship Id="rId67" Type="http://schemas.openxmlformats.org/officeDocument/2006/relationships/image" Target="../media/image34.png"/><Relationship Id="rId68" Type="http://schemas.openxmlformats.org/officeDocument/2006/relationships/image" Target="../media/image34.png"/><Relationship Id="rId69" Type="http://schemas.openxmlformats.org/officeDocument/2006/relationships/image" Target="../media/image24.png"/><Relationship Id="rId70" Type="http://schemas.openxmlformats.org/officeDocument/2006/relationships/image" Target="../media/image58.png"/><Relationship Id="rId71" Type="http://schemas.openxmlformats.org/officeDocument/2006/relationships/image" Target="../media/image45.png"/><Relationship Id="rId72" Type="http://schemas.openxmlformats.org/officeDocument/2006/relationships/image" Target="../media/image68.png"/><Relationship Id="rId73" Type="http://schemas.openxmlformats.org/officeDocument/2006/relationships/image" Target="../media/image69.png"/><Relationship Id="rId74" Type="http://schemas.openxmlformats.org/officeDocument/2006/relationships/image" Target="../media/image33.png"/><Relationship Id="rId75" Type="http://schemas.openxmlformats.org/officeDocument/2006/relationships/image" Target="../media/image60.png"/><Relationship Id="rId76" Type="http://schemas.openxmlformats.org/officeDocument/2006/relationships/image" Target="../media/image70.png"/><Relationship Id="rId77" Type="http://schemas.openxmlformats.org/officeDocument/2006/relationships/image" Target="../media/image71.png"/><Relationship Id="rId78" Type="http://schemas.openxmlformats.org/officeDocument/2006/relationships/image" Target="../media/image71.png"/><Relationship Id="rId79" Type="http://schemas.openxmlformats.org/officeDocument/2006/relationships/image" Target="../media/image72.png"/><Relationship Id="rId80" Type="http://schemas.openxmlformats.org/officeDocument/2006/relationships/image" Target="../media/image70.png"/><Relationship Id="rId81" Type="http://schemas.openxmlformats.org/officeDocument/2006/relationships/image" Target="../media/image62.png"/><Relationship Id="rId82" Type="http://schemas.openxmlformats.org/officeDocument/2006/relationships/image" Target="../media/image62.png"/><Relationship Id="rId83" Type="http://schemas.openxmlformats.org/officeDocument/2006/relationships/image" Target="../media/image73.png"/><Relationship Id="rId84" Type="http://schemas.openxmlformats.org/officeDocument/2006/relationships/image" Target="../media/image74.png"/><Relationship Id="rId85" Type="http://schemas.openxmlformats.org/officeDocument/2006/relationships/image" Target="../media/image75.png"/><Relationship Id="rId86" Type="http://schemas.openxmlformats.org/officeDocument/2006/relationships/image" Target="../media/image39.png"/><Relationship Id="rId87" Type="http://schemas.openxmlformats.org/officeDocument/2006/relationships/image" Target="../media/image59.png"/><Relationship Id="rId88" Type="http://schemas.openxmlformats.org/officeDocument/2006/relationships/image" Target="../media/image76.png"/><Relationship Id="rId89" Type="http://schemas.openxmlformats.org/officeDocument/2006/relationships/image" Target="../media/image39.png"/><Relationship Id="rId90" Type="http://schemas.openxmlformats.org/officeDocument/2006/relationships/image" Target="../media/image23.png"/><Relationship Id="rId91" Type="http://schemas.openxmlformats.org/officeDocument/2006/relationships/image" Target="../media/image77.png"/><Relationship Id="rId92" Type="http://schemas.openxmlformats.org/officeDocument/2006/relationships/image" Target="../media/image78.png"/><Relationship Id="rId93" Type="http://schemas.openxmlformats.org/officeDocument/2006/relationships/image" Target="../media/image79.png"/><Relationship Id="rId94" Type="http://schemas.openxmlformats.org/officeDocument/2006/relationships/image" Target="../media/image80.png"/><Relationship Id="rId95" Type="http://schemas.openxmlformats.org/officeDocument/2006/relationships/image" Target="../media/image69.png"/><Relationship Id="rId96" Type="http://schemas.openxmlformats.org/officeDocument/2006/relationships/image" Target="../media/image18.png"/><Relationship Id="rId97" Type="http://schemas.openxmlformats.org/officeDocument/2006/relationships/image" Target="../media/image33.png"/><Relationship Id="rId98" Type="http://schemas.openxmlformats.org/officeDocument/2006/relationships/image" Target="../media/image58.png"/><Relationship Id="rId99" Type="http://schemas.openxmlformats.org/officeDocument/2006/relationships/image" Target="../media/image81.png"/><Relationship Id="rId100" Type="http://schemas.openxmlformats.org/officeDocument/2006/relationships/image" Target="../media/image82.png"/><Relationship Id="rId101" Type="http://schemas.openxmlformats.org/officeDocument/2006/relationships/image" Target="../media/image34.png"/><Relationship Id="rId102" Type="http://schemas.openxmlformats.org/officeDocument/2006/relationships/image" Target="../media/image34.png"/><Relationship Id="rId103" Type="http://schemas.openxmlformats.org/officeDocument/2006/relationships/image" Target="../media/image24.png"/><Relationship Id="rId104" Type="http://schemas.openxmlformats.org/officeDocument/2006/relationships/image" Target="../media/image24.png"/><Relationship Id="rId105" Type="http://schemas.openxmlformats.org/officeDocument/2006/relationships/image" Target="../media/image34.png"/><Relationship Id="rId106" Type="http://schemas.openxmlformats.org/officeDocument/2006/relationships/image" Target="../media/image34.png"/><Relationship Id="rId107" Type="http://schemas.openxmlformats.org/officeDocument/2006/relationships/image" Target="../media/image34.png"/><Relationship Id="rId108" Type="http://schemas.openxmlformats.org/officeDocument/2006/relationships/image" Target="../media/image34.png"/><Relationship Id="rId109" Type="http://schemas.openxmlformats.org/officeDocument/2006/relationships/image" Target="../media/image34.png"/><Relationship Id="rId110" Type="http://schemas.openxmlformats.org/officeDocument/2006/relationships/image" Target="../media/image83.png"/><Relationship Id="rId111" Type="http://schemas.openxmlformats.org/officeDocument/2006/relationships/hyperlink" Target="http://www.eeppt.com/moban/" TargetMode="External"/><Relationship Id="rId1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84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4.png"/><Relationship Id="rId8" Type="http://schemas.openxmlformats.org/officeDocument/2006/relationships/image" Target="../media/image8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89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" descr="01-1.png"/>
          <p:cNvPicPr/>
          <p:nvPr/>
        </p:nvPicPr>
        <p:blipFill>
          <a:blip r:embed="rId2"/>
          <a:stretch/>
        </p:blipFill>
        <p:spPr>
          <a:xfrm>
            <a:off x="12600" y="1371600"/>
            <a:ext cx="9131400" cy="54864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" descr="未标题-2.png"/>
          <p:cNvPicPr/>
          <p:nvPr/>
        </p:nvPicPr>
        <p:blipFill>
          <a:blip r:embed="rId3"/>
          <a:stretch/>
        </p:blipFill>
        <p:spPr>
          <a:xfrm>
            <a:off x="-420840" y="-569880"/>
            <a:ext cx="9129960" cy="54849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" descr="未标题-3.png"/>
          <p:cNvPicPr/>
          <p:nvPr/>
        </p:nvPicPr>
        <p:blipFill>
          <a:blip r:embed="rId4"/>
          <a:stretch/>
        </p:blipFill>
        <p:spPr>
          <a:xfrm>
            <a:off x="1719360" y="214200"/>
            <a:ext cx="6300720" cy="37864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4" descr="未标题-3.png"/>
          <p:cNvPicPr/>
          <p:nvPr/>
        </p:nvPicPr>
        <p:blipFill>
          <a:blip r:embed="rId5"/>
          <a:srcRect l="0" t="0" r="0" b="54581"/>
          <a:stretch/>
        </p:blipFill>
        <p:spPr>
          <a:xfrm>
            <a:off x="1785960" y="214200"/>
            <a:ext cx="6296040" cy="1719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" descr="未标题-3.png"/>
          <p:cNvPicPr/>
          <p:nvPr/>
        </p:nvPicPr>
        <p:blipFill>
          <a:blip r:embed="rId6"/>
          <a:srcRect l="0" t="0" r="0" b="65061"/>
          <a:stretch/>
        </p:blipFill>
        <p:spPr>
          <a:xfrm>
            <a:off x="1785960" y="214200"/>
            <a:ext cx="6286320" cy="13208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0" descr=""/>
          <p:cNvPicPr/>
          <p:nvPr/>
        </p:nvPicPr>
        <p:blipFill>
          <a:blip r:embed="rId7"/>
          <a:srcRect l="0" t="57647" r="0" b="0"/>
          <a:stretch/>
        </p:blipFill>
        <p:spPr>
          <a:xfrm>
            <a:off x="-214200" y="3808440"/>
            <a:ext cx="9610560" cy="3049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00">
                <a:alpha val="68000"/>
              </a:srgbClr>
            </a:outerShdw>
          </a:effectLst>
        </p:spPr>
      </p:pic>
      <p:sp>
        <p:nvSpPr>
          <p:cNvPr id="92" name="矩形 13"/>
          <p:cNvSpPr/>
          <p:nvPr/>
        </p:nvSpPr>
        <p:spPr>
          <a:xfrm>
            <a:off x="0" y="1155600"/>
            <a:ext cx="9140760" cy="2140200"/>
          </a:xfrm>
          <a:prstGeom prst="rect">
            <a:avLst/>
          </a:prstGeom>
          <a:solidFill>
            <a:srgbClr val="d9d9d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3" name="图片 15" descr="8.png"/>
          <p:cNvPicPr/>
          <p:nvPr/>
        </p:nvPicPr>
        <p:blipFill>
          <a:blip r:embed="rId8"/>
          <a:srcRect l="0" t="4594" r="0" b="93600"/>
          <a:stretch/>
        </p:blipFill>
        <p:spPr>
          <a:xfrm>
            <a:off x="6480" y="10684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7" descr="8.png"/>
          <p:cNvPicPr/>
          <p:nvPr/>
        </p:nvPicPr>
        <p:blipFill>
          <a:blip r:embed="rId9"/>
          <a:srcRect l="0" t="4594" r="0" b="93600"/>
          <a:stretch/>
        </p:blipFill>
        <p:spPr>
          <a:xfrm>
            <a:off x="-14400" y="3232080"/>
            <a:ext cx="9142560" cy="125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24"/>
          <p:cNvSpPr/>
          <p:nvPr/>
        </p:nvSpPr>
        <p:spPr>
          <a:xfrm>
            <a:off x="5069880" y="277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anklin Gothic Book"/>
              </a:rPr>
              <a:t>报告人：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文本框 308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文本框 3085"/>
          <p:cNvSpPr/>
          <p:nvPr/>
        </p:nvSpPr>
        <p:spPr>
          <a:xfrm>
            <a:off x="1690200" y="14130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房地产报告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75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750"/>
                            </p:stCondLst>
                            <p:childTnLst>
                              <p:par>
                                <p:cTn id="2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250"/>
                            </p:stCondLst>
                            <p:childTnLst>
                              <p:par>
                                <p:cTn id="4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6 L -2.5E-006 0.83449 E">
                                      <p:cBhvr>
                                        <p:cTn id="43" dur="175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-0.00052 0.76343 E">
                                      <p:cBhvr>
                                        <p:cTn id="45" dur="175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" dur="125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9" dur="125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250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31504 L 0 4.81481E-006 E">
                                      <p:cBhvr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3155 L 0.00243 -0.00439 E">
                                      <p:cBhvr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750"/>
                            </p:stCondLst>
                            <p:childTnLst>
                              <p:par>
                                <p:cTn id="71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4029840" y="496800"/>
            <a:ext cx="10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Arial"/>
              </a:rPr>
              <a:t>目 录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直接连接符 5"/>
          <p:cNvSpPr/>
          <p:nvPr/>
        </p:nvSpPr>
        <p:spPr>
          <a:xfrm>
            <a:off x="5253120" y="851040"/>
            <a:ext cx="389088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直接连接符 6"/>
          <p:cNvSpPr/>
          <p:nvPr/>
        </p:nvSpPr>
        <p:spPr>
          <a:xfrm flipH="1">
            <a:off x="0" y="851040"/>
            <a:ext cx="389088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468360" y="1989000"/>
            <a:ext cx="2011320" cy="2408400"/>
            <a:chOff x="468360" y="1989000"/>
            <a:chExt cx="2011320" cy="2408400"/>
          </a:xfrm>
        </p:grpSpPr>
        <p:grpSp>
          <p:nvGrpSpPr>
            <p:cNvPr id="102" name="Group 7"/>
            <p:cNvGrpSpPr/>
            <p:nvPr/>
          </p:nvGrpSpPr>
          <p:grpSpPr>
            <a:xfrm>
              <a:off x="1938960" y="1989000"/>
              <a:ext cx="540720" cy="2398320"/>
              <a:chOff x="1938960" y="1989000"/>
              <a:chExt cx="540720" cy="2398320"/>
            </a:xfrm>
          </p:grpSpPr>
          <p:pic>
            <p:nvPicPr>
              <p:cNvPr id="103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960" y="1989000"/>
                <a:ext cx="540720" cy="23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9"/>
              <p:cNvSpPr/>
              <p:nvPr/>
            </p:nvSpPr>
            <p:spPr>
              <a:xfrm rot="16200000">
                <a:off x="1304280" y="2986560"/>
                <a:ext cx="180756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sp>
          <p:nvSpPr>
            <p:cNvPr id="105" name="Text Box 13"/>
            <p:cNvSpPr/>
            <p:nvPr/>
          </p:nvSpPr>
          <p:spPr>
            <a:xfrm>
              <a:off x="468360" y="3480480"/>
              <a:ext cx="1431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2527200" y="1989000"/>
            <a:ext cx="1982880" cy="2408400"/>
            <a:chOff x="2527200" y="1989000"/>
            <a:chExt cx="1982880" cy="2408400"/>
          </a:xfrm>
        </p:grpSpPr>
        <p:grpSp>
          <p:nvGrpSpPr>
            <p:cNvPr id="107" name="Group 12"/>
            <p:cNvGrpSpPr/>
            <p:nvPr/>
          </p:nvGrpSpPr>
          <p:grpSpPr>
            <a:xfrm>
              <a:off x="3954600" y="1989000"/>
              <a:ext cx="555480" cy="2398320"/>
              <a:chOff x="3954600" y="1989000"/>
              <a:chExt cx="555480" cy="2398320"/>
            </a:xfrm>
          </p:grpSpPr>
          <p:pic>
            <p:nvPicPr>
              <p:cNvPr id="108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4600" y="1989000"/>
                <a:ext cx="555480" cy="23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Text Box 14"/>
              <p:cNvSpPr/>
              <p:nvPr/>
            </p:nvSpPr>
            <p:spPr>
              <a:xfrm rot="16200000">
                <a:off x="3327480" y="2981160"/>
                <a:ext cx="1807560" cy="4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sp>
          <p:nvSpPr>
            <p:cNvPr id="110" name="Text Box 13"/>
            <p:cNvSpPr/>
            <p:nvPr/>
          </p:nvSpPr>
          <p:spPr>
            <a:xfrm>
              <a:off x="2527200" y="3480480"/>
              <a:ext cx="1470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4595760" y="1989000"/>
            <a:ext cx="1990800" cy="2408400"/>
            <a:chOff x="4595760" y="1989000"/>
            <a:chExt cx="1990800" cy="2408400"/>
          </a:xfrm>
        </p:grpSpPr>
        <p:grpSp>
          <p:nvGrpSpPr>
            <p:cNvPr id="112" name="Group 18"/>
            <p:cNvGrpSpPr/>
            <p:nvPr/>
          </p:nvGrpSpPr>
          <p:grpSpPr>
            <a:xfrm>
              <a:off x="6037560" y="1989000"/>
              <a:ext cx="549000" cy="2398320"/>
              <a:chOff x="6037560" y="1989000"/>
              <a:chExt cx="549000" cy="2398320"/>
            </a:xfrm>
          </p:grpSpPr>
          <p:pic>
            <p:nvPicPr>
              <p:cNvPr id="11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7560" y="1989000"/>
                <a:ext cx="549000" cy="23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20"/>
              <p:cNvSpPr/>
              <p:nvPr/>
            </p:nvSpPr>
            <p:spPr>
              <a:xfrm rot="16200000">
                <a:off x="5402520" y="2983680"/>
                <a:ext cx="180756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sp>
          <p:nvSpPr>
            <p:cNvPr id="115" name="Text Box 13"/>
            <p:cNvSpPr/>
            <p:nvPr/>
          </p:nvSpPr>
          <p:spPr>
            <a:xfrm>
              <a:off x="4595760" y="3480480"/>
              <a:ext cx="1452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6" name="Group 23"/>
          <p:cNvGrpSpPr/>
          <p:nvPr/>
        </p:nvGrpSpPr>
        <p:grpSpPr>
          <a:xfrm>
            <a:off x="6661080" y="1989000"/>
            <a:ext cx="1990800" cy="2408400"/>
            <a:chOff x="6661080" y="1989000"/>
            <a:chExt cx="1990800" cy="2408400"/>
          </a:xfrm>
        </p:grpSpPr>
        <p:grpSp>
          <p:nvGrpSpPr>
            <p:cNvPr id="117" name="Group 24"/>
            <p:cNvGrpSpPr/>
            <p:nvPr/>
          </p:nvGrpSpPr>
          <p:grpSpPr>
            <a:xfrm>
              <a:off x="8100000" y="1989000"/>
              <a:ext cx="551880" cy="2398320"/>
              <a:chOff x="8100000" y="1989000"/>
              <a:chExt cx="551880" cy="2398320"/>
            </a:xfrm>
          </p:grpSpPr>
          <p:pic>
            <p:nvPicPr>
              <p:cNvPr id="118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8100000" y="1989000"/>
                <a:ext cx="551880" cy="23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26"/>
              <p:cNvSpPr/>
              <p:nvPr/>
            </p:nvSpPr>
            <p:spPr>
              <a:xfrm rot="16200000">
                <a:off x="7477920" y="2982600"/>
                <a:ext cx="1807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sp>
          <p:nvSpPr>
            <p:cNvPr id="120" name="Text Box 13"/>
            <p:cNvSpPr/>
            <p:nvPr/>
          </p:nvSpPr>
          <p:spPr>
            <a:xfrm>
              <a:off x="6661080" y="3480480"/>
              <a:ext cx="1460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rcRect l="0" t="0" r="0" b="92405"/>
          <a:stretch/>
        </p:blipFill>
        <p:spPr>
          <a:xfrm>
            <a:off x="1440" y="6337440"/>
            <a:ext cx="9139320" cy="52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4971960"/>
            <a:ext cx="9144000" cy="13654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957400" y="4968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Arial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直接连接符 5"/>
          <p:cNvSpPr/>
          <p:nvPr/>
        </p:nvSpPr>
        <p:spPr>
          <a:xfrm>
            <a:off x="6716880" y="851040"/>
            <a:ext cx="242712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直接连接符 6"/>
          <p:cNvSpPr/>
          <p:nvPr/>
        </p:nvSpPr>
        <p:spPr>
          <a:xfrm flipH="1">
            <a:off x="0" y="851040"/>
            <a:ext cx="242712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26" name="Group 7"/>
          <p:cNvGrpSpPr/>
          <p:nvPr/>
        </p:nvGrpSpPr>
        <p:grpSpPr>
          <a:xfrm>
            <a:off x="468360" y="1989000"/>
            <a:ext cx="2011320" cy="2408400"/>
            <a:chOff x="468360" y="1989000"/>
            <a:chExt cx="2011320" cy="2408400"/>
          </a:xfrm>
        </p:grpSpPr>
        <p:grpSp>
          <p:nvGrpSpPr>
            <p:cNvPr id="127" name="Group 9"/>
            <p:cNvGrpSpPr/>
            <p:nvPr/>
          </p:nvGrpSpPr>
          <p:grpSpPr>
            <a:xfrm>
              <a:off x="1938960" y="1989000"/>
              <a:ext cx="540720" cy="2398320"/>
              <a:chOff x="1938960" y="1989000"/>
              <a:chExt cx="540720" cy="2398320"/>
            </a:xfrm>
          </p:grpSpPr>
          <p:pic>
            <p:nvPicPr>
              <p:cNvPr id="12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938960" y="1989000"/>
                <a:ext cx="540720" cy="23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Text Box 11"/>
              <p:cNvSpPr/>
              <p:nvPr/>
            </p:nvSpPr>
            <p:spPr>
              <a:xfrm rot="16200000">
                <a:off x="1304280" y="2986560"/>
                <a:ext cx="180756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sp>
          <p:nvSpPr>
            <p:cNvPr id="130" name="Text Box 13"/>
            <p:cNvSpPr/>
            <p:nvPr/>
          </p:nvSpPr>
          <p:spPr>
            <a:xfrm>
              <a:off x="468360" y="3480480"/>
              <a:ext cx="1431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31" name="Group 13"/>
          <p:cNvGrpSpPr/>
          <p:nvPr/>
        </p:nvGrpSpPr>
        <p:grpSpPr>
          <a:xfrm>
            <a:off x="2527200" y="1989000"/>
            <a:ext cx="1982880" cy="2408400"/>
            <a:chOff x="2527200" y="1989000"/>
            <a:chExt cx="1982880" cy="2408400"/>
          </a:xfrm>
        </p:grpSpPr>
        <p:grpSp>
          <p:nvGrpSpPr>
            <p:cNvPr id="132" name="Group 14"/>
            <p:cNvGrpSpPr/>
            <p:nvPr/>
          </p:nvGrpSpPr>
          <p:grpSpPr>
            <a:xfrm>
              <a:off x="3954600" y="1989000"/>
              <a:ext cx="555480" cy="2398320"/>
              <a:chOff x="3954600" y="1989000"/>
              <a:chExt cx="555480" cy="2398320"/>
            </a:xfrm>
          </p:grpSpPr>
          <p:pic>
            <p:nvPicPr>
              <p:cNvPr id="133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3954600" y="1989000"/>
                <a:ext cx="555480" cy="23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Text Box 16"/>
              <p:cNvSpPr/>
              <p:nvPr/>
            </p:nvSpPr>
            <p:spPr>
              <a:xfrm rot="16200000">
                <a:off x="3327480" y="2981160"/>
                <a:ext cx="1807560" cy="4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sp>
          <p:nvSpPr>
            <p:cNvPr id="135" name="Text Box 13"/>
            <p:cNvSpPr/>
            <p:nvPr/>
          </p:nvSpPr>
          <p:spPr>
            <a:xfrm>
              <a:off x="2527200" y="3480480"/>
              <a:ext cx="1470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36" name="Group 19"/>
          <p:cNvGrpSpPr/>
          <p:nvPr/>
        </p:nvGrpSpPr>
        <p:grpSpPr>
          <a:xfrm>
            <a:off x="4595760" y="1989000"/>
            <a:ext cx="1990800" cy="2408400"/>
            <a:chOff x="4595760" y="1989000"/>
            <a:chExt cx="1990800" cy="2408400"/>
          </a:xfrm>
        </p:grpSpPr>
        <p:grpSp>
          <p:nvGrpSpPr>
            <p:cNvPr id="137" name="Group 20"/>
            <p:cNvGrpSpPr/>
            <p:nvPr/>
          </p:nvGrpSpPr>
          <p:grpSpPr>
            <a:xfrm>
              <a:off x="6037560" y="1989000"/>
              <a:ext cx="549000" cy="2398320"/>
              <a:chOff x="6037560" y="1989000"/>
              <a:chExt cx="549000" cy="2398320"/>
            </a:xfrm>
          </p:grpSpPr>
          <p:pic>
            <p:nvPicPr>
              <p:cNvPr id="138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6037560" y="1989000"/>
                <a:ext cx="549000" cy="23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Text Box 22"/>
              <p:cNvSpPr/>
              <p:nvPr/>
            </p:nvSpPr>
            <p:spPr>
              <a:xfrm rot="16200000">
                <a:off x="5402520" y="2983680"/>
                <a:ext cx="180756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sp>
          <p:nvSpPr>
            <p:cNvPr id="140" name="Text Box 13"/>
            <p:cNvSpPr/>
            <p:nvPr/>
          </p:nvSpPr>
          <p:spPr>
            <a:xfrm>
              <a:off x="4595760" y="3480480"/>
              <a:ext cx="1452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41" name="Group 25"/>
          <p:cNvGrpSpPr/>
          <p:nvPr/>
        </p:nvGrpSpPr>
        <p:grpSpPr>
          <a:xfrm>
            <a:off x="6661080" y="1989000"/>
            <a:ext cx="1990800" cy="2408400"/>
            <a:chOff x="6661080" y="1989000"/>
            <a:chExt cx="1990800" cy="2408400"/>
          </a:xfrm>
        </p:grpSpPr>
        <p:grpSp>
          <p:nvGrpSpPr>
            <p:cNvPr id="142" name="Group 26"/>
            <p:cNvGrpSpPr/>
            <p:nvPr/>
          </p:nvGrpSpPr>
          <p:grpSpPr>
            <a:xfrm>
              <a:off x="8100000" y="1989000"/>
              <a:ext cx="551880" cy="2398320"/>
              <a:chOff x="8100000" y="1989000"/>
              <a:chExt cx="551880" cy="2398320"/>
            </a:xfrm>
          </p:grpSpPr>
          <p:pic>
            <p:nvPicPr>
              <p:cNvPr id="143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8100000" y="1989000"/>
                <a:ext cx="551880" cy="23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 Box 28"/>
              <p:cNvSpPr/>
              <p:nvPr/>
            </p:nvSpPr>
            <p:spPr>
              <a:xfrm rot="16200000">
                <a:off x="7477920" y="2982600"/>
                <a:ext cx="1807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sp>
          <p:nvSpPr>
            <p:cNvPr id="145" name="Text Box 13"/>
            <p:cNvSpPr/>
            <p:nvPr/>
          </p:nvSpPr>
          <p:spPr>
            <a:xfrm>
              <a:off x="6661080" y="3480480"/>
              <a:ext cx="1460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6" name="TextBox 36"/>
          <p:cNvSpPr/>
          <p:nvPr/>
        </p:nvSpPr>
        <p:spPr>
          <a:xfrm>
            <a:off x="4029840" y="496800"/>
            <a:ext cx="10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Arial"/>
              </a:rPr>
              <a:t>目 录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直接连接符 37"/>
          <p:cNvSpPr/>
          <p:nvPr/>
        </p:nvSpPr>
        <p:spPr>
          <a:xfrm>
            <a:off x="5253120" y="851040"/>
            <a:ext cx="389088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直接连接符 38"/>
          <p:cNvSpPr/>
          <p:nvPr/>
        </p:nvSpPr>
        <p:spPr>
          <a:xfrm flipH="1">
            <a:off x="0" y="851040"/>
            <a:ext cx="389088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49" name="Group 34"/>
          <p:cNvGrpSpPr/>
          <p:nvPr/>
        </p:nvGrpSpPr>
        <p:grpSpPr>
          <a:xfrm>
            <a:off x="2909880" y="2127240"/>
            <a:ext cx="3225960" cy="2279520"/>
            <a:chOff x="2909880" y="2127240"/>
            <a:chExt cx="3225960" cy="2279520"/>
          </a:xfrm>
        </p:grpSpPr>
        <p:sp>
          <p:nvSpPr>
            <p:cNvPr id="150" name="Oval 2"/>
            <p:cNvSpPr/>
            <p:nvPr/>
          </p:nvSpPr>
          <p:spPr>
            <a:xfrm>
              <a:off x="2909880" y="3115440"/>
              <a:ext cx="3225960" cy="1291320"/>
            </a:xfrm>
            <a:prstGeom prst="ellipse">
              <a:avLst/>
            </a:prstGeom>
            <a:gradFill rotWithShape="0">
              <a:gsLst>
                <a:gs pos="0">
                  <a:srgbClr val="6c6c6c">
                    <a:alpha val="70196"/>
                  </a:srgbClr>
                </a:gs>
                <a:gs pos="100000">
                  <a:srgbClr val="eaeae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1" name="Oval 4"/>
            <p:cNvSpPr/>
            <p:nvPr/>
          </p:nvSpPr>
          <p:spPr>
            <a:xfrm>
              <a:off x="3765960" y="2127240"/>
              <a:ext cx="1580400" cy="15800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>
              <a:off x="3890880" y="2127240"/>
              <a:ext cx="1317600" cy="116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3" name="Group 38"/>
          <p:cNvGrpSpPr/>
          <p:nvPr/>
        </p:nvGrpSpPr>
        <p:grpSpPr>
          <a:xfrm>
            <a:off x="533520" y="2168640"/>
            <a:ext cx="3031920" cy="2238120"/>
            <a:chOff x="533520" y="2168640"/>
            <a:chExt cx="3031920" cy="2238120"/>
          </a:xfrm>
        </p:grpSpPr>
        <p:sp>
          <p:nvSpPr>
            <p:cNvPr id="154" name="AutoShape 13"/>
            <p:cNvSpPr/>
            <p:nvPr/>
          </p:nvSpPr>
          <p:spPr>
            <a:xfrm>
              <a:off x="533520" y="2628720"/>
              <a:ext cx="3031920" cy="1778040"/>
            </a:xfrm>
            <a:prstGeom prst="leftArrow">
              <a:avLst>
                <a:gd name="adj1" fmla="val 53667"/>
                <a:gd name="adj2" fmla="val 4870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525252">
                    <a:alpha val="1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533520" y="2168640"/>
              <a:ext cx="3031920" cy="1778040"/>
            </a:xfrm>
            <a:prstGeom prst="leftArrow">
              <a:avLst>
                <a:gd name="adj1" fmla="val 53667"/>
                <a:gd name="adj2" fmla="val 4870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5252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6" name="Group 41"/>
          <p:cNvGrpSpPr/>
          <p:nvPr/>
        </p:nvGrpSpPr>
        <p:grpSpPr>
          <a:xfrm>
            <a:off x="5470200" y="2168640"/>
            <a:ext cx="3093840" cy="2239920"/>
            <a:chOff x="5470200" y="2168640"/>
            <a:chExt cx="3093840" cy="2239920"/>
          </a:xfrm>
        </p:grpSpPr>
        <p:sp>
          <p:nvSpPr>
            <p:cNvPr id="157" name="AutoShape 15"/>
            <p:cNvSpPr/>
            <p:nvPr/>
          </p:nvSpPr>
          <p:spPr>
            <a:xfrm rot="10800000">
              <a:off x="5470200" y="2629800"/>
              <a:ext cx="3031560" cy="1778400"/>
            </a:xfrm>
            <a:prstGeom prst="leftArrow">
              <a:avLst>
                <a:gd name="adj1" fmla="val 53667"/>
                <a:gd name="adj2" fmla="val 48685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525252">
                    <a:alpha val="14117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 rot="10800000">
              <a:off x="5532480" y="2168280"/>
              <a:ext cx="3031560" cy="1778400"/>
            </a:xfrm>
            <a:prstGeom prst="leftArrow">
              <a:avLst>
                <a:gd name="adj1" fmla="val 53667"/>
                <a:gd name="adj2" fmla="val 48685"/>
              </a:avLst>
            </a:prstGeom>
            <a:gradFill rotWithShape="0">
              <a:gsLst>
                <a:gs pos="0">
                  <a:srgbClr val="e6002c"/>
                </a:gs>
                <a:gs pos="100000">
                  <a:srgbClr val="8200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59" name="TextBox 9"/>
          <p:cNvSpPr/>
          <p:nvPr/>
        </p:nvSpPr>
        <p:spPr>
          <a:xfrm>
            <a:off x="747720" y="4056120"/>
            <a:ext cx="314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5676840" y="4049640"/>
            <a:ext cx="314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3247920" y="1341360"/>
            <a:ext cx="314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L 0.33108 -0.31204 E">
                                      <p:cBhvr>
                                        <p:cTn id="116" dur="3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직사각형 44"/>
          <p:cNvSpPr/>
          <p:nvPr/>
        </p:nvSpPr>
        <p:spPr>
          <a:xfrm>
            <a:off x="2205000" y="1619280"/>
            <a:ext cx="1503360" cy="1192320"/>
          </a:xfrm>
          <a:prstGeom prst="rect">
            <a:avLst/>
          </a:prstGeom>
          <a:solidFill>
            <a:srgbClr val="a6a6a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11360" y="1749600"/>
            <a:ext cx="1165320" cy="938160"/>
            <a:chOff x="2511360" y="1749600"/>
            <a:chExt cx="1165320" cy="938160"/>
          </a:xfrm>
        </p:grpSpPr>
        <p:pic>
          <p:nvPicPr>
            <p:cNvPr id="164" name="오른쪽 화살표 46" descr=""/>
            <p:cNvPicPr/>
            <p:nvPr/>
          </p:nvPicPr>
          <p:blipFill>
            <a:blip r:embed="rId1"/>
            <a:stretch/>
          </p:blipFill>
          <p:spPr>
            <a:xfrm>
              <a:off x="2511360" y="1749600"/>
              <a:ext cx="11653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2516040" y="1995840"/>
              <a:ext cx="920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857160" y="1255680"/>
            <a:ext cx="1866960" cy="2022480"/>
            <a:chOff x="857160" y="1255680"/>
            <a:chExt cx="1866960" cy="2022480"/>
          </a:xfrm>
        </p:grpSpPr>
        <p:sp>
          <p:nvSpPr>
            <p:cNvPr id="167" name="타원 3"/>
            <p:cNvSpPr/>
            <p:nvPr/>
          </p:nvSpPr>
          <p:spPr>
            <a:xfrm>
              <a:off x="909360" y="2914560"/>
              <a:ext cx="1762200" cy="36360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abe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8" name="Oval 4"/>
            <p:cNvSpPr/>
            <p:nvPr/>
          </p:nvSpPr>
          <p:spPr>
            <a:xfrm>
              <a:off x="857160" y="1255680"/>
              <a:ext cx="1866960" cy="1866960"/>
            </a:xfrm>
            <a:prstGeom prst="ellipse">
              <a:avLst/>
            </a:prstGeom>
            <a:solidFill>
              <a:srgbClr val="ff3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grpSp>
          <p:nvGrpSpPr>
            <p:cNvPr id="169" name="Group 9"/>
            <p:cNvGrpSpPr/>
            <p:nvPr/>
          </p:nvGrpSpPr>
          <p:grpSpPr>
            <a:xfrm>
              <a:off x="960120" y="1358640"/>
              <a:ext cx="1659240" cy="1658880"/>
              <a:chOff x="960120" y="1358640"/>
              <a:chExt cx="1659240" cy="1658880"/>
            </a:xfrm>
          </p:grpSpPr>
          <p:sp>
            <p:nvSpPr>
              <p:cNvPr id="170" name="Oval 4"/>
              <p:cNvSpPr/>
              <p:nvPr/>
            </p:nvSpPr>
            <p:spPr>
              <a:xfrm>
                <a:off x="960120" y="1358640"/>
                <a:ext cx="1659240" cy="165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71" name="Oval 4"/>
              <p:cNvSpPr/>
              <p:nvPr/>
            </p:nvSpPr>
            <p:spPr>
              <a:xfrm>
                <a:off x="1011960" y="1410480"/>
                <a:ext cx="1555560" cy="1555200"/>
              </a:xfrm>
              <a:prstGeom prst="ellipse">
                <a:avLst/>
              </a:prstGeom>
              <a:gradFill rotWithShape="0">
                <a:gsLst>
                  <a:gs pos="0">
                    <a:srgbClr val="e1e1e1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sp>
          <p:nvSpPr>
            <p:cNvPr id="172" name="Oval 118"/>
            <p:cNvSpPr/>
            <p:nvPr/>
          </p:nvSpPr>
          <p:spPr>
            <a:xfrm>
              <a:off x="1220760" y="1411200"/>
              <a:ext cx="1139760" cy="83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0" y="4971960"/>
            <a:ext cx="9144000" cy="13654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2957400" y="4968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Arial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直接连接符 5"/>
          <p:cNvSpPr/>
          <p:nvPr/>
        </p:nvSpPr>
        <p:spPr>
          <a:xfrm>
            <a:off x="6716880" y="851040"/>
            <a:ext cx="242712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直接连接符 6"/>
          <p:cNvSpPr/>
          <p:nvPr/>
        </p:nvSpPr>
        <p:spPr>
          <a:xfrm flipH="1">
            <a:off x="0" y="851040"/>
            <a:ext cx="242712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3"/>
          <a:srcRect l="0" t="0" r="0" b="92405"/>
          <a:stretch/>
        </p:blipFill>
        <p:spPr>
          <a:xfrm>
            <a:off x="1440" y="6337440"/>
            <a:ext cx="9139320" cy="52056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18"/>
          <p:cNvGrpSpPr/>
          <p:nvPr/>
        </p:nvGrpSpPr>
        <p:grpSpPr>
          <a:xfrm>
            <a:off x="2511360" y="3981600"/>
            <a:ext cx="1165320" cy="931680"/>
            <a:chOff x="2511360" y="3981600"/>
            <a:chExt cx="1165320" cy="931680"/>
          </a:xfrm>
        </p:grpSpPr>
        <p:pic>
          <p:nvPicPr>
            <p:cNvPr id="179" name="오른쪽 화살표 47" descr=""/>
            <p:cNvPicPr/>
            <p:nvPr/>
          </p:nvPicPr>
          <p:blipFill>
            <a:blip r:embed="rId4"/>
            <a:stretch/>
          </p:blipFill>
          <p:spPr>
            <a:xfrm>
              <a:off x="2511360" y="3981600"/>
              <a:ext cx="11653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20"/>
            <p:cNvSpPr/>
            <p:nvPr/>
          </p:nvSpPr>
          <p:spPr>
            <a:xfrm>
              <a:off x="2516040" y="4224240"/>
              <a:ext cx="92088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857160" y="3433680"/>
            <a:ext cx="1866960" cy="1866960"/>
            <a:chOff x="857160" y="3433680"/>
            <a:chExt cx="1866960" cy="1866960"/>
          </a:xfrm>
        </p:grpSpPr>
        <p:sp>
          <p:nvSpPr>
            <p:cNvPr id="182" name="Oval 4"/>
            <p:cNvSpPr/>
            <p:nvPr/>
          </p:nvSpPr>
          <p:spPr>
            <a:xfrm>
              <a:off x="857160" y="3433680"/>
              <a:ext cx="1866960" cy="1866960"/>
            </a:xfrm>
            <a:prstGeom prst="ellipse">
              <a:avLst/>
            </a:prstGeom>
            <a:solidFill>
              <a:srgbClr val="ff3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grpSp>
          <p:nvGrpSpPr>
            <p:cNvPr id="183" name="Group 23"/>
            <p:cNvGrpSpPr/>
            <p:nvPr/>
          </p:nvGrpSpPr>
          <p:grpSpPr>
            <a:xfrm>
              <a:off x="960120" y="3536640"/>
              <a:ext cx="1659240" cy="1659240"/>
              <a:chOff x="960120" y="3536640"/>
              <a:chExt cx="1659240" cy="1659240"/>
            </a:xfrm>
          </p:grpSpPr>
          <p:sp>
            <p:nvSpPr>
              <p:cNvPr id="184" name="Oval 4"/>
              <p:cNvSpPr/>
              <p:nvPr/>
            </p:nvSpPr>
            <p:spPr>
              <a:xfrm>
                <a:off x="960120" y="3536640"/>
                <a:ext cx="1659240" cy="1659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85" name="Oval 4"/>
              <p:cNvSpPr/>
              <p:nvPr/>
            </p:nvSpPr>
            <p:spPr>
              <a:xfrm>
                <a:off x="1011960" y="3588480"/>
                <a:ext cx="1555560" cy="1555560"/>
              </a:xfrm>
              <a:prstGeom prst="ellipse">
                <a:avLst/>
              </a:prstGeom>
              <a:gradFill rotWithShape="0">
                <a:gsLst>
                  <a:gs pos="0">
                    <a:srgbClr val="e1e1e1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sp>
          <p:nvSpPr>
            <p:cNvPr id="186" name="Oval 118"/>
            <p:cNvSpPr/>
            <p:nvPr/>
          </p:nvSpPr>
          <p:spPr>
            <a:xfrm>
              <a:off x="1220760" y="3589200"/>
              <a:ext cx="1139760" cy="82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87" name="Group 27"/>
          <p:cNvGrpSpPr/>
          <p:nvPr/>
        </p:nvGrpSpPr>
        <p:grpSpPr>
          <a:xfrm>
            <a:off x="1001880" y="2449440"/>
            <a:ext cx="1562040" cy="523800"/>
            <a:chOff x="1001880" y="2449440"/>
            <a:chExt cx="1562040" cy="523800"/>
          </a:xfrm>
        </p:grpSpPr>
        <p:pic>
          <p:nvPicPr>
            <p:cNvPr id="188" name="Picture 3" descr="C:\Documents and Settings\HANA\바탕 화면\김성태\업무\파워포인트\자료\그림3.png"/>
            <p:cNvPicPr/>
            <p:nvPr/>
          </p:nvPicPr>
          <p:blipFill>
            <a:blip r:embed="rId5"/>
            <a:stretch/>
          </p:blipFill>
          <p:spPr>
            <a:xfrm>
              <a:off x="1001880" y="2552760"/>
              <a:ext cx="1562040" cy="42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Group 29"/>
            <p:cNvGrpSpPr/>
            <p:nvPr/>
          </p:nvGrpSpPr>
          <p:grpSpPr>
            <a:xfrm>
              <a:off x="1105560" y="2449440"/>
              <a:ext cx="1379160" cy="188640"/>
              <a:chOff x="1105560" y="2449440"/>
              <a:chExt cx="1379160" cy="188640"/>
            </a:xfrm>
          </p:grpSpPr>
          <p:pic>
            <p:nvPicPr>
              <p:cNvPr id="190" name="타원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05560" y="2449440"/>
                <a:ext cx="1379160" cy="18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31"/>
              <p:cNvSpPr/>
              <p:nvPr/>
            </p:nvSpPr>
            <p:spPr>
              <a:xfrm>
                <a:off x="1305360" y="2475360"/>
                <a:ext cx="976680" cy="13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92" name="Group 32"/>
          <p:cNvGrpSpPr/>
          <p:nvPr/>
        </p:nvGrpSpPr>
        <p:grpSpPr>
          <a:xfrm>
            <a:off x="1004760" y="4264200"/>
            <a:ext cx="1563840" cy="887400"/>
            <a:chOff x="1004760" y="4264200"/>
            <a:chExt cx="1563840" cy="887400"/>
          </a:xfrm>
        </p:grpSpPr>
        <p:pic>
          <p:nvPicPr>
            <p:cNvPr id="193" name="Picture 4" descr="C:\Documents and Settings\HANA\바탕 화면\김성태\업무\파워포인트\자료\그림3.png"/>
            <p:cNvPicPr/>
            <p:nvPr/>
          </p:nvPicPr>
          <p:blipFill>
            <a:blip r:embed="rId7"/>
            <a:stretch/>
          </p:blipFill>
          <p:spPr>
            <a:xfrm>
              <a:off x="1004760" y="4367520"/>
              <a:ext cx="1563840" cy="78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Group 34"/>
            <p:cNvGrpSpPr/>
            <p:nvPr/>
          </p:nvGrpSpPr>
          <p:grpSpPr>
            <a:xfrm>
              <a:off x="1010520" y="4264200"/>
              <a:ext cx="1558080" cy="194400"/>
              <a:chOff x="1010520" y="4264200"/>
              <a:chExt cx="1558080" cy="194400"/>
            </a:xfrm>
          </p:grpSpPr>
          <p:pic>
            <p:nvPicPr>
              <p:cNvPr id="195" name="타원 39" descr=""/>
              <p:cNvPicPr/>
              <p:nvPr/>
            </p:nvPicPr>
            <p:blipFill>
              <a:blip r:embed="rId8"/>
              <a:stretch/>
            </p:blipFill>
            <p:spPr>
              <a:xfrm>
                <a:off x="1010520" y="4264200"/>
                <a:ext cx="1558080" cy="19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Text Box 36"/>
              <p:cNvSpPr/>
              <p:nvPr/>
            </p:nvSpPr>
            <p:spPr>
              <a:xfrm>
                <a:off x="1239480" y="4294440"/>
                <a:ext cx="1102680" cy="13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97" name="Group 37"/>
          <p:cNvGrpSpPr/>
          <p:nvPr/>
        </p:nvGrpSpPr>
        <p:grpSpPr>
          <a:xfrm>
            <a:off x="3760920" y="1617840"/>
            <a:ext cx="4668840" cy="1193760"/>
            <a:chOff x="3760920" y="1617840"/>
            <a:chExt cx="4668840" cy="1193760"/>
          </a:xfrm>
        </p:grpSpPr>
        <p:sp>
          <p:nvSpPr>
            <p:cNvPr id="198" name="Rectangle 52"/>
            <p:cNvSpPr/>
            <p:nvPr/>
          </p:nvSpPr>
          <p:spPr>
            <a:xfrm>
              <a:off x="3760920" y="1617840"/>
              <a:ext cx="4668840" cy="261720"/>
            </a:xfrm>
            <a:prstGeom prst="rect">
              <a:avLst/>
            </a:prstGeom>
            <a:gradFill rotWithShape="0">
              <a:gsLst>
                <a:gs pos="0">
                  <a:srgbClr val="ff3e4b"/>
                </a:gs>
                <a:gs pos="100000">
                  <a:srgbClr val="c3000e"/>
                </a:gs>
              </a:gsLst>
              <a:lin ang="27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760920" y="1878120"/>
              <a:ext cx="4668840" cy="933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00" name="Group 40"/>
          <p:cNvGrpSpPr/>
          <p:nvPr/>
        </p:nvGrpSpPr>
        <p:grpSpPr>
          <a:xfrm>
            <a:off x="3760920" y="3795840"/>
            <a:ext cx="4668840" cy="1193760"/>
            <a:chOff x="3760920" y="3795840"/>
            <a:chExt cx="4668840" cy="1193760"/>
          </a:xfrm>
        </p:grpSpPr>
        <p:sp>
          <p:nvSpPr>
            <p:cNvPr id="201" name="Rectangle 52"/>
            <p:cNvSpPr/>
            <p:nvPr/>
          </p:nvSpPr>
          <p:spPr>
            <a:xfrm>
              <a:off x="3760920" y="3795840"/>
              <a:ext cx="4668840" cy="261720"/>
            </a:xfrm>
            <a:prstGeom prst="rect">
              <a:avLst/>
            </a:prstGeom>
            <a:gradFill rotWithShape="0">
              <a:gsLst>
                <a:gs pos="0">
                  <a:srgbClr val="ff3e4b"/>
                </a:gs>
                <a:gs pos="100000">
                  <a:srgbClr val="c3000e"/>
                </a:gs>
              </a:gsLst>
              <a:lin ang="27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3760920" y="4056120"/>
              <a:ext cx="4668840" cy="933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03" name="TextBox 36"/>
          <p:cNvSpPr/>
          <p:nvPr/>
        </p:nvSpPr>
        <p:spPr>
          <a:xfrm>
            <a:off x="4071960" y="21128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TextBox 37"/>
          <p:cNvSpPr/>
          <p:nvPr/>
        </p:nvSpPr>
        <p:spPr>
          <a:xfrm>
            <a:off x="4000680" y="42559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직사각형 45"/>
          <p:cNvSpPr/>
          <p:nvPr/>
        </p:nvSpPr>
        <p:spPr>
          <a:xfrm>
            <a:off x="2205000" y="3795840"/>
            <a:ext cx="1503360" cy="1193760"/>
          </a:xfrm>
          <a:prstGeom prst="rect">
            <a:avLst/>
          </a:prstGeom>
          <a:solidFill>
            <a:srgbClr val="a6a6a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250"/>
                            </p:stCondLst>
                            <p:childTnLst>
                              <p:par>
                                <p:cTn id="1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750"/>
                            </p:stCondLst>
                            <p:childTnLst>
                              <p:par>
                                <p:cTn id="1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700"/>
                            </p:stCondLst>
                            <p:childTnLst>
                              <p:par>
                                <p:cTn id="20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700"/>
                            </p:stCondLst>
                            <p:childTnLst>
                              <p:par>
                                <p:cTn id="2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450"/>
                            </p:stCondLst>
                            <p:childTnLst>
                              <p:par>
                                <p:cTn id="2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950"/>
                            </p:stCondLst>
                            <p:childTnLst>
                              <p:par>
                                <p:cTn id="2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4971960"/>
            <a:ext cx="9144000" cy="13654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2957400" y="4968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Arial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直接连接符 5"/>
          <p:cNvSpPr/>
          <p:nvPr/>
        </p:nvSpPr>
        <p:spPr>
          <a:xfrm>
            <a:off x="6716880" y="851040"/>
            <a:ext cx="242712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直接连接符 6"/>
          <p:cNvSpPr/>
          <p:nvPr/>
        </p:nvSpPr>
        <p:spPr>
          <a:xfrm flipH="1">
            <a:off x="0" y="851040"/>
            <a:ext cx="242712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rcRect l="0" t="0" r="0" b="92405"/>
          <a:stretch/>
        </p:blipFill>
        <p:spPr>
          <a:xfrm>
            <a:off x="1440" y="6337440"/>
            <a:ext cx="9139320" cy="52056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7"/>
          <p:cNvGrpSpPr/>
          <p:nvPr/>
        </p:nvGrpSpPr>
        <p:grpSpPr>
          <a:xfrm>
            <a:off x="1090440" y="1709640"/>
            <a:ext cx="6838920" cy="3365640"/>
            <a:chOff x="1090440" y="1709640"/>
            <a:chExt cx="6838920" cy="3365640"/>
          </a:xfrm>
        </p:grpSpPr>
        <p:sp>
          <p:nvSpPr>
            <p:cNvPr id="212" name="Freeform 134"/>
            <p:cNvSpPr/>
            <p:nvPr/>
          </p:nvSpPr>
          <p:spPr>
            <a:xfrm>
              <a:off x="1215720" y="1859040"/>
              <a:ext cx="201132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3" name="Freeform 135"/>
            <p:cNvSpPr/>
            <p:nvPr/>
          </p:nvSpPr>
          <p:spPr>
            <a:xfrm>
              <a:off x="1152360" y="2152440"/>
              <a:ext cx="54000" cy="446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4" name="Freeform 136"/>
            <p:cNvSpPr/>
            <p:nvPr/>
          </p:nvSpPr>
          <p:spPr>
            <a:xfrm>
              <a:off x="1639800" y="234792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5" name="Freeform 137"/>
            <p:cNvSpPr/>
            <p:nvPr/>
          </p:nvSpPr>
          <p:spPr>
            <a:xfrm>
              <a:off x="2881080" y="243684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6" name="Freeform 138"/>
            <p:cNvSpPr/>
            <p:nvPr/>
          </p:nvSpPr>
          <p:spPr>
            <a:xfrm>
              <a:off x="2128680" y="3046320"/>
              <a:ext cx="25092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7" name="Freeform 139"/>
            <p:cNvSpPr/>
            <p:nvPr/>
          </p:nvSpPr>
          <p:spPr>
            <a:xfrm>
              <a:off x="2334960" y="3147840"/>
              <a:ext cx="157320" cy="651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8" name="Freeform 140"/>
            <p:cNvSpPr/>
            <p:nvPr/>
          </p:nvSpPr>
          <p:spPr>
            <a:xfrm>
              <a:off x="2501640" y="318924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9" name="Freeform 141"/>
            <p:cNvSpPr/>
            <p:nvPr/>
          </p:nvSpPr>
          <p:spPr>
            <a:xfrm>
              <a:off x="2590560" y="3193920"/>
              <a:ext cx="19080" cy="396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0" name="Freeform 142"/>
            <p:cNvSpPr/>
            <p:nvPr/>
          </p:nvSpPr>
          <p:spPr>
            <a:xfrm>
              <a:off x="2300040" y="1850760"/>
              <a:ext cx="285840" cy="1400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1" name="Freeform 143"/>
            <p:cNvSpPr/>
            <p:nvPr/>
          </p:nvSpPr>
          <p:spPr>
            <a:xfrm>
              <a:off x="2427120" y="1785960"/>
              <a:ext cx="23184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2" name="Freeform 144"/>
            <p:cNvSpPr/>
            <p:nvPr/>
          </p:nvSpPr>
          <p:spPr>
            <a:xfrm>
              <a:off x="2752560" y="1896840"/>
              <a:ext cx="36972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3" name="Freeform 145"/>
            <p:cNvSpPr/>
            <p:nvPr/>
          </p:nvSpPr>
          <p:spPr>
            <a:xfrm>
              <a:off x="2749320" y="176688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4" name="Freeform 146"/>
            <p:cNvSpPr/>
            <p:nvPr/>
          </p:nvSpPr>
          <p:spPr>
            <a:xfrm>
              <a:off x="2616120" y="1877760"/>
              <a:ext cx="102960" cy="66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5" name="Freeform 147"/>
            <p:cNvSpPr/>
            <p:nvPr/>
          </p:nvSpPr>
          <p:spPr>
            <a:xfrm>
              <a:off x="2724120" y="189072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6" name="Freeform 148"/>
            <p:cNvSpPr/>
            <p:nvPr/>
          </p:nvSpPr>
          <p:spPr>
            <a:xfrm>
              <a:off x="2678040" y="183348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7" name="Freeform 149"/>
            <p:cNvSpPr/>
            <p:nvPr/>
          </p:nvSpPr>
          <p:spPr>
            <a:xfrm>
              <a:off x="2635200" y="178272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8" name="Freeform 150"/>
            <p:cNvSpPr/>
            <p:nvPr/>
          </p:nvSpPr>
          <p:spPr>
            <a:xfrm>
              <a:off x="2815920" y="178740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29" name="Freeform 151"/>
            <p:cNvSpPr/>
            <p:nvPr/>
          </p:nvSpPr>
          <p:spPr>
            <a:xfrm>
              <a:off x="1090440" y="2176200"/>
              <a:ext cx="39600" cy="241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0" name="Freeform 152"/>
            <p:cNvSpPr/>
            <p:nvPr/>
          </p:nvSpPr>
          <p:spPr>
            <a:xfrm>
              <a:off x="2292120" y="298764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blipFill rotWithShape="0">
              <a:blip r:embed="rId2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1" name="Freeform 153"/>
            <p:cNvSpPr/>
            <p:nvPr/>
          </p:nvSpPr>
          <p:spPr>
            <a:xfrm>
              <a:off x="2296800" y="302724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2" name="Freeform 154"/>
            <p:cNvSpPr/>
            <p:nvPr/>
          </p:nvSpPr>
          <p:spPr>
            <a:xfrm>
              <a:off x="2620800" y="3236760"/>
              <a:ext cx="237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blipFill rotWithShape="0">
              <a:blip r:embed="rId2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3" name="Freeform 155"/>
            <p:cNvSpPr/>
            <p:nvPr/>
          </p:nvSpPr>
          <p:spPr>
            <a:xfrm>
              <a:off x="2817720" y="246852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4" name="Freeform 156"/>
            <p:cNvSpPr/>
            <p:nvPr/>
          </p:nvSpPr>
          <p:spPr>
            <a:xfrm>
              <a:off x="2658960" y="214308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5" name="Freeform 157"/>
            <p:cNvSpPr/>
            <p:nvPr/>
          </p:nvSpPr>
          <p:spPr>
            <a:xfrm>
              <a:off x="2761920" y="185904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6" name="Freeform 158"/>
            <p:cNvSpPr/>
            <p:nvPr/>
          </p:nvSpPr>
          <p:spPr>
            <a:xfrm>
              <a:off x="2862000" y="203040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7" name="Freeform 159"/>
            <p:cNvSpPr/>
            <p:nvPr/>
          </p:nvSpPr>
          <p:spPr>
            <a:xfrm>
              <a:off x="2887560" y="170964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blipFill rotWithShape="0">
              <a:blip r:embed="rId2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8" name="Freeform 160"/>
            <p:cNvSpPr/>
            <p:nvPr/>
          </p:nvSpPr>
          <p:spPr>
            <a:xfrm>
              <a:off x="3225600" y="20016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blipFill rotWithShape="0">
              <a:blip r:embed="rId2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9" name="Freeform 161"/>
            <p:cNvSpPr/>
            <p:nvPr/>
          </p:nvSpPr>
          <p:spPr>
            <a:xfrm>
              <a:off x="3674880" y="2106360"/>
              <a:ext cx="203040" cy="8604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blipFill rotWithShape="0">
              <a:blip r:embed="rId3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0" name="Freeform 162"/>
            <p:cNvSpPr/>
            <p:nvPr/>
          </p:nvSpPr>
          <p:spPr>
            <a:xfrm>
              <a:off x="3835080" y="184788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blipFill rotWithShape="0">
              <a:blip r:embed="rId3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1" name="Freeform 163"/>
            <p:cNvSpPr/>
            <p:nvPr/>
          </p:nvSpPr>
          <p:spPr>
            <a:xfrm>
              <a:off x="4262400" y="1797120"/>
              <a:ext cx="24588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blipFill rotWithShape="0">
              <a:blip r:embed="rId3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2" name="Freeform 164"/>
            <p:cNvSpPr/>
            <p:nvPr/>
          </p:nvSpPr>
          <p:spPr>
            <a:xfrm>
              <a:off x="4416120" y="184932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blipFill rotWithShape="0">
              <a:blip r:embed="rId3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3" name="Freeform 165"/>
            <p:cNvSpPr/>
            <p:nvPr/>
          </p:nvSpPr>
          <p:spPr>
            <a:xfrm>
              <a:off x="3952800" y="228132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blipFill rotWithShape="0">
              <a:blip r:embed="rId3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4" name="Freeform 166"/>
            <p:cNvSpPr/>
            <p:nvPr/>
          </p:nvSpPr>
          <p:spPr>
            <a:xfrm>
              <a:off x="3867120" y="2357280"/>
              <a:ext cx="109440" cy="108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blipFill rotWithShape="0">
              <a:blip r:embed="rId3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5" name="Freeform 167"/>
            <p:cNvSpPr/>
            <p:nvPr/>
          </p:nvSpPr>
          <p:spPr>
            <a:xfrm>
              <a:off x="6543360" y="41716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blipFill rotWithShape="0">
              <a:blip r:embed="rId3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6" name="Freeform 168"/>
            <p:cNvSpPr/>
            <p:nvPr/>
          </p:nvSpPr>
          <p:spPr>
            <a:xfrm>
              <a:off x="6777000" y="375768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7" name="Freeform 169"/>
            <p:cNvSpPr/>
            <p:nvPr/>
          </p:nvSpPr>
          <p:spPr>
            <a:xfrm>
              <a:off x="6791040" y="3760560"/>
              <a:ext cx="493920" cy="33516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blipFill rotWithShape="0">
              <a:blip r:embed="rId3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8" name="Freeform 170"/>
            <p:cNvSpPr/>
            <p:nvPr/>
          </p:nvSpPr>
          <p:spPr>
            <a:xfrm>
              <a:off x="7156440" y="498312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blipFill rotWithShape="0">
              <a:blip r:embed="rId3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9" name="Freeform 171"/>
            <p:cNvSpPr/>
            <p:nvPr/>
          </p:nvSpPr>
          <p:spPr>
            <a:xfrm>
              <a:off x="7372080" y="4840200"/>
              <a:ext cx="26028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blipFill rotWithShape="0">
              <a:blip r:embed="rId4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0" name="Freeform 172"/>
            <p:cNvSpPr/>
            <p:nvPr/>
          </p:nvSpPr>
          <p:spPr>
            <a:xfrm>
              <a:off x="7642080" y="47606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1" name="Freeform 173"/>
            <p:cNvSpPr/>
            <p:nvPr/>
          </p:nvSpPr>
          <p:spPr>
            <a:xfrm>
              <a:off x="7729200" y="4695840"/>
              <a:ext cx="5904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2" name="Freeform 174"/>
            <p:cNvSpPr/>
            <p:nvPr/>
          </p:nvSpPr>
          <p:spPr>
            <a:xfrm>
              <a:off x="4994280" y="392436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3" name="Freeform 175"/>
            <p:cNvSpPr/>
            <p:nvPr/>
          </p:nvSpPr>
          <p:spPr>
            <a:xfrm>
              <a:off x="5838480" y="3429000"/>
              <a:ext cx="7812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4" name="Freeform 176"/>
            <p:cNvSpPr/>
            <p:nvPr/>
          </p:nvSpPr>
          <p:spPr>
            <a:xfrm>
              <a:off x="6367320" y="353376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5" name="Freeform 177"/>
            <p:cNvSpPr/>
            <p:nvPr/>
          </p:nvSpPr>
          <p:spPr>
            <a:xfrm>
              <a:off x="6217920" y="3443040"/>
              <a:ext cx="114480" cy="2178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6" name="Freeform 178"/>
            <p:cNvSpPr/>
            <p:nvPr/>
          </p:nvSpPr>
          <p:spPr>
            <a:xfrm>
              <a:off x="6295680" y="3617640"/>
              <a:ext cx="6372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7" name="Freeform 179"/>
            <p:cNvSpPr/>
            <p:nvPr/>
          </p:nvSpPr>
          <p:spPr>
            <a:xfrm>
              <a:off x="6367320" y="383544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8" name="Freeform 180"/>
            <p:cNvSpPr/>
            <p:nvPr/>
          </p:nvSpPr>
          <p:spPr>
            <a:xfrm>
              <a:off x="6532560" y="368460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9" name="Freeform 181"/>
            <p:cNvSpPr/>
            <p:nvPr/>
          </p:nvSpPr>
          <p:spPr>
            <a:xfrm>
              <a:off x="6487920" y="3020760"/>
              <a:ext cx="34920" cy="11304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60" name="Freeform 182"/>
            <p:cNvSpPr/>
            <p:nvPr/>
          </p:nvSpPr>
          <p:spPr>
            <a:xfrm>
              <a:off x="6510240" y="3209760"/>
              <a:ext cx="96840" cy="18756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61" name="Freeform 183"/>
            <p:cNvSpPr/>
            <p:nvPr/>
          </p:nvSpPr>
          <p:spPr>
            <a:xfrm>
              <a:off x="6578280" y="3457440"/>
              <a:ext cx="101880" cy="1252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62" name="Freeform 184"/>
            <p:cNvSpPr/>
            <p:nvPr/>
          </p:nvSpPr>
          <p:spPr>
            <a:xfrm>
              <a:off x="6699240" y="368136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63" name="Freeform 185"/>
            <p:cNvSpPr/>
            <p:nvPr/>
          </p:nvSpPr>
          <p:spPr>
            <a:xfrm>
              <a:off x="6673680" y="38113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64" name="Freeform 186"/>
            <p:cNvSpPr/>
            <p:nvPr/>
          </p:nvSpPr>
          <p:spPr>
            <a:xfrm>
              <a:off x="6716520" y="3795480"/>
              <a:ext cx="71280" cy="59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blipFill rotWithShape="0">
              <a:blip r:embed="rId5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65" name="Freeform 187"/>
            <p:cNvSpPr/>
            <p:nvPr/>
          </p:nvSpPr>
          <p:spPr>
            <a:xfrm>
              <a:off x="6825960" y="390672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blipFill rotWithShape="0">
              <a:blip r:embed="rId5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66" name="Freeform 188"/>
            <p:cNvSpPr/>
            <p:nvPr/>
          </p:nvSpPr>
          <p:spPr>
            <a:xfrm>
              <a:off x="7250040" y="384012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67" name="Freeform 189"/>
            <p:cNvSpPr/>
            <p:nvPr/>
          </p:nvSpPr>
          <p:spPr>
            <a:xfrm>
              <a:off x="6619680" y="393372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68" name="Freeform 190"/>
            <p:cNvSpPr/>
            <p:nvPr/>
          </p:nvSpPr>
          <p:spPr>
            <a:xfrm>
              <a:off x="6541920" y="396396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69" name="Freeform 191"/>
            <p:cNvSpPr/>
            <p:nvPr/>
          </p:nvSpPr>
          <p:spPr>
            <a:xfrm>
              <a:off x="6508440" y="391788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70" name="Freeform 192"/>
            <p:cNvSpPr/>
            <p:nvPr/>
          </p:nvSpPr>
          <p:spPr>
            <a:xfrm>
              <a:off x="6562440" y="39351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71" name="Freeform 193"/>
            <p:cNvSpPr/>
            <p:nvPr/>
          </p:nvSpPr>
          <p:spPr>
            <a:xfrm>
              <a:off x="6484680" y="3408120"/>
              <a:ext cx="42840" cy="874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72" name="Freeform 194"/>
            <p:cNvSpPr/>
            <p:nvPr/>
          </p:nvSpPr>
          <p:spPr>
            <a:xfrm>
              <a:off x="6565680" y="3394080"/>
              <a:ext cx="30240" cy="87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73" name="Freeform 195"/>
            <p:cNvSpPr/>
            <p:nvPr/>
          </p:nvSpPr>
          <p:spPr>
            <a:xfrm>
              <a:off x="6600600" y="336708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74" name="Freeform 196"/>
            <p:cNvSpPr/>
            <p:nvPr/>
          </p:nvSpPr>
          <p:spPr>
            <a:xfrm>
              <a:off x="6616440" y="3386160"/>
              <a:ext cx="33480" cy="759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75" name="Freeform 197"/>
            <p:cNvSpPr/>
            <p:nvPr/>
          </p:nvSpPr>
          <p:spPr>
            <a:xfrm>
              <a:off x="6189480" y="349560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76" name="Freeform 198"/>
            <p:cNvSpPr/>
            <p:nvPr/>
          </p:nvSpPr>
          <p:spPr>
            <a:xfrm>
              <a:off x="6173640" y="345924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77" name="Freeform 199"/>
            <p:cNvSpPr/>
            <p:nvPr/>
          </p:nvSpPr>
          <p:spPr>
            <a:xfrm>
              <a:off x="6167160" y="3430440"/>
              <a:ext cx="1908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78" name="Freeform 200"/>
            <p:cNvSpPr/>
            <p:nvPr/>
          </p:nvSpPr>
          <p:spPr>
            <a:xfrm>
              <a:off x="6148080" y="336708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79" name="Freeform 201"/>
            <p:cNvSpPr/>
            <p:nvPr/>
          </p:nvSpPr>
          <p:spPr>
            <a:xfrm>
              <a:off x="6151320" y="3406680"/>
              <a:ext cx="25560" cy="2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0" name="Freeform 202"/>
            <p:cNvSpPr/>
            <p:nvPr/>
          </p:nvSpPr>
          <p:spPr>
            <a:xfrm>
              <a:off x="7478640" y="4395600"/>
              <a:ext cx="71280" cy="954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blipFill rotWithShape="0">
              <a:blip r:embed="rId7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1" name="Freeform 203"/>
            <p:cNvSpPr/>
            <p:nvPr/>
          </p:nvSpPr>
          <p:spPr>
            <a:xfrm>
              <a:off x="7845120" y="4317840"/>
              <a:ext cx="84240" cy="730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blipFill rotWithShape="0">
              <a:blip r:embed="rId7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2" name="Freeform 204"/>
            <p:cNvSpPr/>
            <p:nvPr/>
          </p:nvSpPr>
          <p:spPr>
            <a:xfrm>
              <a:off x="7591320" y="4278240"/>
              <a:ext cx="27000" cy="36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blipFill rotWithShape="0">
              <a:blip r:embed="rId7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3" name="Freeform 205"/>
            <p:cNvSpPr/>
            <p:nvPr/>
          </p:nvSpPr>
          <p:spPr>
            <a:xfrm>
              <a:off x="7578720" y="424332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blipFill rotWithShape="0">
              <a:blip r:embed="rId7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4" name="Freeform 206"/>
            <p:cNvSpPr/>
            <p:nvPr/>
          </p:nvSpPr>
          <p:spPr>
            <a:xfrm>
              <a:off x="7335720" y="39351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blipFill rotWithShape="0">
              <a:blip r:embed="rId7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5" name="Freeform 207"/>
            <p:cNvSpPr/>
            <p:nvPr/>
          </p:nvSpPr>
          <p:spPr>
            <a:xfrm>
              <a:off x="7389720" y="400356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blipFill rotWithShape="0">
              <a:blip r:embed="rId7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6" name="Freeform 208"/>
            <p:cNvSpPr/>
            <p:nvPr/>
          </p:nvSpPr>
          <p:spPr>
            <a:xfrm>
              <a:off x="7432560" y="4103640"/>
              <a:ext cx="44280" cy="442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blipFill rotWithShape="0">
              <a:blip r:embed="rId7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7" name="Freeform 209"/>
            <p:cNvSpPr/>
            <p:nvPr/>
          </p:nvSpPr>
          <p:spPr>
            <a:xfrm>
              <a:off x="7486560" y="4087800"/>
              <a:ext cx="44280" cy="410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blipFill rotWithShape="0">
              <a:blip r:embed="rId7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8" name="Freeform 210"/>
            <p:cNvSpPr/>
            <p:nvPr/>
          </p:nvSpPr>
          <p:spPr>
            <a:xfrm>
              <a:off x="7470720" y="4030560"/>
              <a:ext cx="4104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blipFill rotWithShape="0">
              <a:blip r:embed="rId7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9" name="Freeform 211"/>
            <p:cNvSpPr/>
            <p:nvPr/>
          </p:nvSpPr>
          <p:spPr>
            <a:xfrm>
              <a:off x="7429320" y="399096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blipFill rotWithShape="0">
              <a:blip r:embed="rId8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90" name="Freeform 212"/>
            <p:cNvSpPr/>
            <p:nvPr/>
          </p:nvSpPr>
          <p:spPr>
            <a:xfrm>
              <a:off x="7378560" y="396540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blipFill rotWithShape="0">
              <a:blip r:embed="rId8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91" name="Freeform 213"/>
            <p:cNvSpPr/>
            <p:nvPr/>
          </p:nvSpPr>
          <p:spPr>
            <a:xfrm>
              <a:off x="7441920" y="404964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blipFill rotWithShape="0">
              <a:blip r:embed="rId8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92" name="Freeform 214"/>
            <p:cNvSpPr/>
            <p:nvPr/>
          </p:nvSpPr>
          <p:spPr>
            <a:xfrm>
              <a:off x="4886280" y="1868400"/>
              <a:ext cx="223560" cy="171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blipFill rotWithShape="0">
              <a:blip r:embed="rId8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93" name="Freeform 215"/>
            <p:cNvSpPr/>
            <p:nvPr/>
          </p:nvSpPr>
          <p:spPr>
            <a:xfrm>
              <a:off x="5019480" y="2033640"/>
              <a:ext cx="6336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blipFill rotWithShape="0">
              <a:blip r:embed="rId8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94" name="Freeform 216"/>
            <p:cNvSpPr/>
            <p:nvPr/>
          </p:nvSpPr>
          <p:spPr>
            <a:xfrm>
              <a:off x="5344920" y="1785960"/>
              <a:ext cx="6660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blipFill rotWithShape="0">
              <a:blip r:embed="rId8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95" name="Freeform 217"/>
            <p:cNvSpPr/>
            <p:nvPr/>
          </p:nvSpPr>
          <p:spPr>
            <a:xfrm>
              <a:off x="5392440" y="1806480"/>
              <a:ext cx="795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blipFill rotWithShape="0">
              <a:blip r:embed="rId8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96" name="Freeform 218"/>
            <p:cNvSpPr/>
            <p:nvPr/>
          </p:nvSpPr>
          <p:spPr>
            <a:xfrm>
              <a:off x="5478120" y="1811160"/>
              <a:ext cx="7956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blipFill rotWithShape="0">
              <a:blip r:embed="rId8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97" name="Freeform 219"/>
            <p:cNvSpPr/>
            <p:nvPr/>
          </p:nvSpPr>
          <p:spPr>
            <a:xfrm>
              <a:off x="6032160" y="1854000"/>
              <a:ext cx="140040" cy="493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blipFill rotWithShape="0">
              <a:blip r:embed="rId8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98" name="Freeform 220"/>
            <p:cNvSpPr/>
            <p:nvPr/>
          </p:nvSpPr>
          <p:spPr>
            <a:xfrm>
              <a:off x="6175080" y="185256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blipFill rotWithShape="0">
              <a:blip r:embed="rId8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99" name="Freeform 221"/>
            <p:cNvSpPr/>
            <p:nvPr/>
          </p:nvSpPr>
          <p:spPr>
            <a:xfrm>
              <a:off x="6141960" y="189864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blipFill rotWithShape="0">
              <a:blip r:embed="rId9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0" name="Freeform 222"/>
            <p:cNvSpPr/>
            <p:nvPr/>
          </p:nvSpPr>
          <p:spPr>
            <a:xfrm>
              <a:off x="6541920" y="2254320"/>
              <a:ext cx="120600" cy="1807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9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1" name="Freeform 223"/>
            <p:cNvSpPr/>
            <p:nvPr/>
          </p:nvSpPr>
          <p:spPr>
            <a:xfrm>
              <a:off x="6638760" y="244152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blipFill rotWithShape="0">
              <a:blip r:embed="rId9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2" name="Freeform 224"/>
            <p:cNvSpPr/>
            <p:nvPr/>
          </p:nvSpPr>
          <p:spPr>
            <a:xfrm>
              <a:off x="6581520" y="256860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blipFill rotWithShape="0">
              <a:blip r:embed="rId9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3" name="Freeform 225"/>
            <p:cNvSpPr/>
            <p:nvPr/>
          </p:nvSpPr>
          <p:spPr>
            <a:xfrm>
              <a:off x="4897440" y="17683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blipFill rotWithShape="0">
              <a:blip r:embed="rId9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4" name="Freeform 226"/>
            <p:cNvSpPr/>
            <p:nvPr/>
          </p:nvSpPr>
          <p:spPr>
            <a:xfrm>
              <a:off x="4727520" y="1782720"/>
              <a:ext cx="298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blipFill rotWithShape="0">
              <a:blip r:embed="rId9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5" name="Freeform 227"/>
            <p:cNvSpPr/>
            <p:nvPr/>
          </p:nvSpPr>
          <p:spPr>
            <a:xfrm>
              <a:off x="4765680" y="1780920"/>
              <a:ext cx="58680" cy="432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blipFill rotWithShape="0">
              <a:blip r:embed="rId9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6" name="Freeform 228"/>
            <p:cNvSpPr/>
            <p:nvPr/>
          </p:nvSpPr>
          <p:spPr>
            <a:xfrm>
              <a:off x="4862520" y="176688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blipFill rotWithShape="0">
              <a:blip r:embed="rId9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7" name="Freeform 229"/>
            <p:cNvSpPr/>
            <p:nvPr/>
          </p:nvSpPr>
          <p:spPr>
            <a:xfrm>
              <a:off x="4833720" y="179532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blipFill rotWithShape="0">
              <a:blip r:embed="rId9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8" name="Freeform 230"/>
            <p:cNvSpPr/>
            <p:nvPr/>
          </p:nvSpPr>
          <p:spPr>
            <a:xfrm>
              <a:off x="6643440" y="182088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blipFill rotWithShape="0">
              <a:blip r:embed="rId9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9" name="Freeform 231"/>
            <p:cNvSpPr/>
            <p:nvPr/>
          </p:nvSpPr>
          <p:spPr>
            <a:xfrm>
              <a:off x="5240160" y="412596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blipFill rotWithShape="0">
              <a:blip r:embed="rId10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0" name="Freeform 232"/>
            <p:cNvSpPr/>
            <p:nvPr/>
          </p:nvSpPr>
          <p:spPr>
            <a:xfrm>
              <a:off x="5303520" y="411480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1" name="Freeform 233"/>
            <p:cNvSpPr/>
            <p:nvPr/>
          </p:nvSpPr>
          <p:spPr>
            <a:xfrm>
              <a:off x="5197320" y="38703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2" name="Freeform 234"/>
            <p:cNvSpPr/>
            <p:nvPr/>
          </p:nvSpPr>
          <p:spPr>
            <a:xfrm>
              <a:off x="5292720" y="375444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blipFill rotWithShape="0">
              <a:blip r:embed="rId10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3" name="Freeform 235"/>
            <p:cNvSpPr/>
            <p:nvPr/>
          </p:nvSpPr>
          <p:spPr>
            <a:xfrm>
              <a:off x="5254560" y="375264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blipFill rotWithShape="0">
              <a:blip r:embed="rId10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4" name="Freeform 236"/>
            <p:cNvSpPr/>
            <p:nvPr/>
          </p:nvSpPr>
          <p:spPr>
            <a:xfrm>
              <a:off x="5236920" y="37875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5" name="Freeform 237"/>
            <p:cNvSpPr/>
            <p:nvPr/>
          </p:nvSpPr>
          <p:spPr>
            <a:xfrm>
              <a:off x="5197320" y="38415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6" name="Freeform 238"/>
            <p:cNvSpPr/>
            <p:nvPr/>
          </p:nvSpPr>
          <p:spPr>
            <a:xfrm>
              <a:off x="5227560" y="382104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7" name="Freeform 239"/>
            <p:cNvSpPr/>
            <p:nvPr/>
          </p:nvSpPr>
          <p:spPr>
            <a:xfrm>
              <a:off x="4063680" y="22525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8" name="Freeform 240"/>
            <p:cNvSpPr/>
            <p:nvPr/>
          </p:nvSpPr>
          <p:spPr>
            <a:xfrm>
              <a:off x="3966840" y="21985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9" name="Freeform 241"/>
            <p:cNvSpPr/>
            <p:nvPr/>
          </p:nvSpPr>
          <p:spPr>
            <a:xfrm>
              <a:off x="3589200" y="1854000"/>
              <a:ext cx="3270240" cy="261000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blipFill rotWithShape="0">
              <a:blip r:embed="rId11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20" name="Oval 115"/>
          <p:cNvSpPr/>
          <p:nvPr/>
        </p:nvSpPr>
        <p:spPr>
          <a:xfrm>
            <a:off x="1903320" y="20797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Oval 128"/>
          <p:cNvSpPr/>
          <p:nvPr/>
        </p:nvSpPr>
        <p:spPr>
          <a:xfrm>
            <a:off x="4424400" y="340524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Oval 129"/>
          <p:cNvSpPr/>
          <p:nvPr/>
        </p:nvSpPr>
        <p:spPr>
          <a:xfrm>
            <a:off x="6413400" y="255744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Oval 130"/>
          <p:cNvSpPr/>
          <p:nvPr/>
        </p:nvSpPr>
        <p:spPr>
          <a:xfrm>
            <a:off x="4846680" y="218268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Oval 132"/>
          <p:cNvSpPr/>
          <p:nvPr/>
        </p:nvSpPr>
        <p:spPr>
          <a:xfrm>
            <a:off x="2535120" y="4367160"/>
            <a:ext cx="26064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AutoShape 242"/>
          <p:cNvSpPr/>
          <p:nvPr/>
        </p:nvSpPr>
        <p:spPr>
          <a:xfrm>
            <a:off x="5292720" y="129384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AutoShape 242"/>
          <p:cNvSpPr/>
          <p:nvPr/>
        </p:nvSpPr>
        <p:spPr>
          <a:xfrm>
            <a:off x="5205240" y="3909960"/>
            <a:ext cx="314676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AutoShape 242"/>
          <p:cNvSpPr/>
          <p:nvPr/>
        </p:nvSpPr>
        <p:spPr>
          <a:xfrm>
            <a:off x="3500280" y="5019840"/>
            <a:ext cx="3146760" cy="433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文本框 7291"/>
          <p:cNvSpPr/>
          <p:nvPr/>
        </p:nvSpPr>
        <p:spPr>
          <a:xfrm>
            <a:off x="2340000" y="260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1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Franklin Gothic Book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0" y="4971960"/>
            <a:ext cx="9144000" cy="13654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2957400" y="4968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Arial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直接连接符 5"/>
          <p:cNvSpPr/>
          <p:nvPr/>
        </p:nvSpPr>
        <p:spPr>
          <a:xfrm>
            <a:off x="6716880" y="851040"/>
            <a:ext cx="242712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直接连接符 6"/>
          <p:cNvSpPr/>
          <p:nvPr/>
        </p:nvSpPr>
        <p:spPr>
          <a:xfrm flipH="1">
            <a:off x="0" y="851040"/>
            <a:ext cx="242712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2"/>
          <a:srcRect l="0" t="0" r="0" b="92405"/>
          <a:stretch/>
        </p:blipFill>
        <p:spPr>
          <a:xfrm>
            <a:off x="1440" y="6337440"/>
            <a:ext cx="9139320" cy="52056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7"/>
          <p:cNvGrpSpPr/>
          <p:nvPr/>
        </p:nvGrpSpPr>
        <p:grpSpPr>
          <a:xfrm>
            <a:off x="755640" y="1628640"/>
            <a:ext cx="7740720" cy="3600720"/>
            <a:chOff x="755640" y="1628640"/>
            <a:chExt cx="7740720" cy="3600720"/>
          </a:xfrm>
        </p:grpSpPr>
        <p:sp>
          <p:nvSpPr>
            <p:cNvPr id="335" name="矩形 160"/>
            <p:cNvSpPr/>
            <p:nvPr/>
          </p:nvSpPr>
          <p:spPr>
            <a:xfrm>
              <a:off x="755640" y="1628640"/>
              <a:ext cx="7740720" cy="36007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grpSp>
          <p:nvGrpSpPr>
            <p:cNvPr id="336" name="Group 9"/>
            <p:cNvGrpSpPr/>
            <p:nvPr/>
          </p:nvGrpSpPr>
          <p:grpSpPr>
            <a:xfrm>
              <a:off x="1430280" y="3031920"/>
              <a:ext cx="6610680" cy="307080"/>
              <a:chOff x="1430280" y="3031920"/>
              <a:chExt cx="6610680" cy="307080"/>
            </a:xfrm>
          </p:grpSpPr>
          <p:sp>
            <p:nvSpPr>
              <p:cNvPr id="337" name="Rectangle 12"/>
              <p:cNvSpPr/>
              <p:nvPr/>
            </p:nvSpPr>
            <p:spPr>
              <a:xfrm>
                <a:off x="3092400" y="30319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38" name="Rectangle 12"/>
              <p:cNvSpPr/>
              <p:nvPr/>
            </p:nvSpPr>
            <p:spPr>
              <a:xfrm>
                <a:off x="3924360" y="30319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39" name="Rectangle 12"/>
              <p:cNvSpPr/>
              <p:nvPr/>
            </p:nvSpPr>
            <p:spPr>
              <a:xfrm>
                <a:off x="4754520" y="30319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40" name="Rectangle 12"/>
              <p:cNvSpPr/>
              <p:nvPr/>
            </p:nvSpPr>
            <p:spPr>
              <a:xfrm>
                <a:off x="5586480" y="30319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41" name="Rectangle 12"/>
              <p:cNvSpPr/>
              <p:nvPr/>
            </p:nvSpPr>
            <p:spPr>
              <a:xfrm>
                <a:off x="6418440" y="30319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42" name="Rectangle 12"/>
              <p:cNvSpPr/>
              <p:nvPr/>
            </p:nvSpPr>
            <p:spPr>
              <a:xfrm>
                <a:off x="7248960" y="30319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43" name="Rectangle 12"/>
              <p:cNvSpPr/>
              <p:nvPr/>
            </p:nvSpPr>
            <p:spPr>
              <a:xfrm>
                <a:off x="1430280" y="30319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44" name="Rectangle 12"/>
              <p:cNvSpPr/>
              <p:nvPr/>
            </p:nvSpPr>
            <p:spPr>
              <a:xfrm>
                <a:off x="2261880" y="30319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345" name="Group 18"/>
            <p:cNvGrpSpPr/>
            <p:nvPr/>
          </p:nvGrpSpPr>
          <p:grpSpPr>
            <a:xfrm>
              <a:off x="888840" y="1857240"/>
              <a:ext cx="539640" cy="3354120"/>
              <a:chOff x="888840" y="1857240"/>
              <a:chExt cx="539640" cy="3354120"/>
            </a:xfrm>
          </p:grpSpPr>
          <p:sp>
            <p:nvSpPr>
              <p:cNvPr id="346" name="Rectangle 12"/>
              <p:cNvSpPr/>
              <p:nvPr/>
            </p:nvSpPr>
            <p:spPr>
              <a:xfrm>
                <a:off x="888840" y="23652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47" name="Rectangle 12"/>
              <p:cNvSpPr/>
              <p:nvPr/>
            </p:nvSpPr>
            <p:spPr>
              <a:xfrm>
                <a:off x="888840" y="26193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48" name="Rectangle 12"/>
              <p:cNvSpPr/>
              <p:nvPr/>
            </p:nvSpPr>
            <p:spPr>
              <a:xfrm>
                <a:off x="888840" y="28731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49" name="Rectangle 12"/>
              <p:cNvSpPr/>
              <p:nvPr/>
            </p:nvSpPr>
            <p:spPr>
              <a:xfrm>
                <a:off x="888840" y="2111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50" name="Rectangle 12"/>
              <p:cNvSpPr/>
              <p:nvPr/>
            </p:nvSpPr>
            <p:spPr>
              <a:xfrm>
                <a:off x="888840" y="18572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51" name="Rectangle 12"/>
              <p:cNvSpPr/>
              <p:nvPr/>
            </p:nvSpPr>
            <p:spPr>
              <a:xfrm>
                <a:off x="888840" y="31273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52" name="Rectangle 12"/>
              <p:cNvSpPr/>
              <p:nvPr/>
            </p:nvSpPr>
            <p:spPr>
              <a:xfrm>
                <a:off x="888840" y="33814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53" name="Rectangle 12"/>
              <p:cNvSpPr/>
              <p:nvPr/>
            </p:nvSpPr>
            <p:spPr>
              <a:xfrm>
                <a:off x="888840" y="3633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54" name="Rectangle 12"/>
              <p:cNvSpPr/>
              <p:nvPr/>
            </p:nvSpPr>
            <p:spPr>
              <a:xfrm>
                <a:off x="888840" y="3888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55" name="Rectangle 12"/>
              <p:cNvSpPr/>
              <p:nvPr/>
            </p:nvSpPr>
            <p:spPr>
              <a:xfrm>
                <a:off x="888840" y="41421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56" name="Rectangle 12"/>
              <p:cNvSpPr/>
              <p:nvPr/>
            </p:nvSpPr>
            <p:spPr>
              <a:xfrm>
                <a:off x="888840" y="4395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57" name="Rectangle 12"/>
              <p:cNvSpPr/>
              <p:nvPr/>
            </p:nvSpPr>
            <p:spPr>
              <a:xfrm>
                <a:off x="888840" y="4650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58" name="Rectangle 12"/>
              <p:cNvSpPr/>
              <p:nvPr/>
            </p:nvSpPr>
            <p:spPr>
              <a:xfrm>
                <a:off x="888840" y="49042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359" name="Group 32"/>
            <p:cNvGrpSpPr/>
            <p:nvPr/>
          </p:nvGrpSpPr>
          <p:grpSpPr>
            <a:xfrm>
              <a:off x="1411200" y="1996560"/>
              <a:ext cx="6661440" cy="3061080"/>
              <a:chOff x="1411200" y="1996560"/>
              <a:chExt cx="6661440" cy="3061080"/>
            </a:xfrm>
          </p:grpSpPr>
          <p:sp>
            <p:nvSpPr>
              <p:cNvPr id="360" name="直接连接符 171"/>
              <p:cNvSpPr/>
              <p:nvPr/>
            </p:nvSpPr>
            <p:spPr>
              <a:xfrm>
                <a:off x="6407280" y="30178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61" name="直接连接符 172"/>
              <p:cNvSpPr/>
              <p:nvPr/>
            </p:nvSpPr>
            <p:spPr>
              <a:xfrm flipV="1">
                <a:off x="3076560" y="30175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62" name="直接连接符 173"/>
              <p:cNvSpPr/>
              <p:nvPr/>
            </p:nvSpPr>
            <p:spPr>
              <a:xfrm>
                <a:off x="3908520" y="30178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63" name="直接连接符 174"/>
              <p:cNvSpPr/>
              <p:nvPr/>
            </p:nvSpPr>
            <p:spPr>
              <a:xfrm>
                <a:off x="4741920" y="30178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64" name="直接连接符 175"/>
              <p:cNvSpPr/>
              <p:nvPr/>
            </p:nvSpPr>
            <p:spPr>
              <a:xfrm flipV="1">
                <a:off x="2242800" y="30175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65" name="直接连接符 176"/>
              <p:cNvSpPr/>
              <p:nvPr/>
            </p:nvSpPr>
            <p:spPr>
              <a:xfrm>
                <a:off x="1411200" y="301788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66" name="直接连接符 177"/>
              <p:cNvSpPr/>
              <p:nvPr/>
            </p:nvSpPr>
            <p:spPr>
              <a:xfrm flipV="1">
                <a:off x="1411200" y="1996560"/>
                <a:ext cx="0" cy="306108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67" name="直接连接符 178"/>
              <p:cNvSpPr/>
              <p:nvPr/>
            </p:nvSpPr>
            <p:spPr>
              <a:xfrm>
                <a:off x="1411200" y="22525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68" name="直接连接符 179"/>
              <p:cNvSpPr/>
              <p:nvPr/>
            </p:nvSpPr>
            <p:spPr>
              <a:xfrm>
                <a:off x="1411200" y="35272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69" name="直接连接符 180"/>
              <p:cNvSpPr/>
              <p:nvPr/>
            </p:nvSpPr>
            <p:spPr>
              <a:xfrm>
                <a:off x="1411200" y="50518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70" name="直接连接符 181"/>
              <p:cNvSpPr/>
              <p:nvPr/>
            </p:nvSpPr>
            <p:spPr>
              <a:xfrm>
                <a:off x="1411200" y="2003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71" name="直接连接符 182"/>
              <p:cNvSpPr/>
              <p:nvPr/>
            </p:nvSpPr>
            <p:spPr>
              <a:xfrm>
                <a:off x="1411200" y="3271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72" name="直接连接符 183"/>
              <p:cNvSpPr/>
              <p:nvPr/>
            </p:nvSpPr>
            <p:spPr>
              <a:xfrm>
                <a:off x="1411200" y="2506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73" name="直接连接符 184"/>
              <p:cNvSpPr/>
              <p:nvPr/>
            </p:nvSpPr>
            <p:spPr>
              <a:xfrm>
                <a:off x="1411200" y="27622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74" name="直接连接符 185"/>
              <p:cNvSpPr/>
              <p:nvPr/>
            </p:nvSpPr>
            <p:spPr>
              <a:xfrm>
                <a:off x="1411200" y="4037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75" name="直接连接符 186"/>
              <p:cNvSpPr/>
              <p:nvPr/>
            </p:nvSpPr>
            <p:spPr>
              <a:xfrm>
                <a:off x="1411200" y="37832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76" name="直接连接符 187"/>
              <p:cNvSpPr/>
              <p:nvPr/>
            </p:nvSpPr>
            <p:spPr>
              <a:xfrm>
                <a:off x="1411200" y="48024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77" name="直接连接符 188"/>
              <p:cNvSpPr/>
              <p:nvPr/>
            </p:nvSpPr>
            <p:spPr>
              <a:xfrm>
                <a:off x="1411200" y="42926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78" name="直接连接符 189"/>
              <p:cNvSpPr/>
              <p:nvPr/>
            </p:nvSpPr>
            <p:spPr>
              <a:xfrm>
                <a:off x="1411200" y="45486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79" name="直接连接符 190"/>
              <p:cNvSpPr/>
              <p:nvPr/>
            </p:nvSpPr>
            <p:spPr>
              <a:xfrm>
                <a:off x="8066520" y="30178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80" name="直接连接符 191"/>
              <p:cNvSpPr/>
              <p:nvPr/>
            </p:nvSpPr>
            <p:spPr>
              <a:xfrm>
                <a:off x="5573880" y="30178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81" name="直接连接符 192"/>
              <p:cNvSpPr/>
              <p:nvPr/>
            </p:nvSpPr>
            <p:spPr>
              <a:xfrm>
                <a:off x="7239240" y="30178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382" name="TextBox 146"/>
          <p:cNvSpPr/>
          <p:nvPr/>
        </p:nvSpPr>
        <p:spPr>
          <a:xfrm>
            <a:off x="755640" y="11970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TextBox 146"/>
          <p:cNvSpPr/>
          <p:nvPr/>
        </p:nvSpPr>
        <p:spPr>
          <a:xfrm>
            <a:off x="755640" y="53150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84" name="Group 57"/>
          <p:cNvGrpSpPr/>
          <p:nvPr/>
        </p:nvGrpSpPr>
        <p:grpSpPr>
          <a:xfrm>
            <a:off x="1525680" y="1657440"/>
            <a:ext cx="6440400" cy="3342600"/>
            <a:chOff x="1525680" y="1657440"/>
            <a:chExt cx="6440400" cy="3342600"/>
          </a:xfrm>
        </p:grpSpPr>
        <p:grpSp>
          <p:nvGrpSpPr>
            <p:cNvPr id="385" name="Group 58"/>
            <p:cNvGrpSpPr/>
            <p:nvPr/>
          </p:nvGrpSpPr>
          <p:grpSpPr>
            <a:xfrm>
              <a:off x="1755720" y="1859760"/>
              <a:ext cx="6210360" cy="3140280"/>
              <a:chOff x="1755720" y="1859760"/>
              <a:chExt cx="6210360" cy="3140280"/>
            </a:xfrm>
          </p:grpSpPr>
          <p:sp>
            <p:nvSpPr>
              <p:cNvPr id="386" name="任意多边形 219"/>
              <p:cNvSpPr/>
              <p:nvPr/>
            </p:nvSpPr>
            <p:spPr>
              <a:xfrm>
                <a:off x="1833120" y="2023920"/>
                <a:ext cx="2716200" cy="992160"/>
              </a:xfrm>
              <a:custGeom>
                <a:avLst/>
                <a:gdLst/>
                <a:ahLst/>
                <a:rect l="l" t="t" r="r" b="b"/>
                <a:pathLst>
                  <a:path w="2717006" h="992982">
                    <a:moveTo>
                      <a:pt x="0" y="0"/>
                    </a:moveTo>
                    <a:lnTo>
                      <a:pt x="833437" y="190501"/>
                    </a:lnTo>
                    <a:lnTo>
                      <a:pt x="1664493" y="576263"/>
                    </a:lnTo>
                    <a:lnTo>
                      <a:pt x="2505075" y="678657"/>
                    </a:lnTo>
                    <a:lnTo>
                      <a:pt x="2717006" y="99298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87" name="任意多边形 220"/>
              <p:cNvSpPr/>
              <p:nvPr/>
            </p:nvSpPr>
            <p:spPr>
              <a:xfrm>
                <a:off x="4549680" y="3016080"/>
                <a:ext cx="3114720" cy="1643040"/>
              </a:xfrm>
              <a:custGeom>
                <a:avLst/>
                <a:gdLst/>
                <a:ahLst/>
                <a:rect l="l" t="t" r="r" b="b"/>
                <a:pathLst>
                  <a:path w="3114675" h="1643063">
                    <a:moveTo>
                      <a:pt x="0" y="0"/>
                    </a:moveTo>
                    <a:lnTo>
                      <a:pt x="611981" y="1052512"/>
                    </a:lnTo>
                    <a:lnTo>
                      <a:pt x="1445419" y="538163"/>
                    </a:lnTo>
                    <a:lnTo>
                      <a:pt x="2274094" y="781050"/>
                    </a:lnTo>
                    <a:lnTo>
                      <a:pt x="3114675" y="1643063"/>
                    </a:lnTo>
                  </a:path>
                </a:pathLst>
              </a:custGeom>
              <a:noFill/>
              <a:ln w="3816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88" name="矩形 50"/>
              <p:cNvSpPr/>
              <p:nvPr/>
            </p:nvSpPr>
            <p:spPr>
              <a:xfrm>
                <a:off x="1755720" y="1948680"/>
                <a:ext cx="144360" cy="142920"/>
              </a:xfrm>
              <a:prstGeom prst="rect">
                <a:avLst/>
              </a:prstGeom>
              <a:solidFill>
                <a:srgbClr val="ff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89" name="矩形 222"/>
              <p:cNvSpPr/>
              <p:nvPr/>
            </p:nvSpPr>
            <p:spPr>
              <a:xfrm>
                <a:off x="5918040" y="3479760"/>
                <a:ext cx="144360" cy="1443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90" name="矩形 52"/>
              <p:cNvSpPr/>
              <p:nvPr/>
            </p:nvSpPr>
            <p:spPr>
              <a:xfrm>
                <a:off x="2587320" y="2139120"/>
                <a:ext cx="144360" cy="144360"/>
              </a:xfrm>
              <a:prstGeom prst="rect">
                <a:avLst/>
              </a:prstGeom>
              <a:solidFill>
                <a:srgbClr val="ff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91" name="矩形 53"/>
              <p:cNvSpPr/>
              <p:nvPr/>
            </p:nvSpPr>
            <p:spPr>
              <a:xfrm>
                <a:off x="3421080" y="2520360"/>
                <a:ext cx="144360" cy="144360"/>
              </a:xfrm>
              <a:prstGeom prst="rect">
                <a:avLst/>
              </a:prstGeom>
              <a:solidFill>
                <a:srgbClr val="ff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92" name="矩形 54"/>
              <p:cNvSpPr/>
              <p:nvPr/>
            </p:nvSpPr>
            <p:spPr>
              <a:xfrm>
                <a:off x="4252680" y="2628360"/>
                <a:ext cx="144360" cy="142920"/>
              </a:xfrm>
              <a:prstGeom prst="rect">
                <a:avLst/>
              </a:prstGeom>
              <a:solidFill>
                <a:srgbClr val="ff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93" name="矩形 226"/>
              <p:cNvSpPr/>
              <p:nvPr/>
            </p:nvSpPr>
            <p:spPr>
              <a:xfrm>
                <a:off x="5086440" y="3990960"/>
                <a:ext cx="142560" cy="1425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94" name="矩形 227"/>
              <p:cNvSpPr/>
              <p:nvPr/>
            </p:nvSpPr>
            <p:spPr>
              <a:xfrm>
                <a:off x="6751800" y="3716280"/>
                <a:ext cx="142560" cy="1443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95" name="矩形 228"/>
              <p:cNvSpPr/>
              <p:nvPr/>
            </p:nvSpPr>
            <p:spPr>
              <a:xfrm>
                <a:off x="7583760" y="4584960"/>
                <a:ext cx="144360" cy="1443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96" name="TextBox 146"/>
              <p:cNvSpPr/>
              <p:nvPr/>
            </p:nvSpPr>
            <p:spPr>
              <a:xfrm>
                <a:off x="4857840" y="412128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97" name="TextBox 146"/>
              <p:cNvSpPr/>
              <p:nvPr/>
            </p:nvSpPr>
            <p:spPr>
              <a:xfrm>
                <a:off x="5683320" y="360036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98" name="TextBox 146"/>
              <p:cNvSpPr/>
              <p:nvPr/>
            </p:nvSpPr>
            <p:spPr>
              <a:xfrm>
                <a:off x="6864480" y="365148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99" name="TextBox 146"/>
              <p:cNvSpPr/>
              <p:nvPr/>
            </p:nvSpPr>
            <p:spPr>
              <a:xfrm>
                <a:off x="7347240" y="469296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00" name="TextBox 146"/>
              <p:cNvSpPr/>
              <p:nvPr/>
            </p:nvSpPr>
            <p:spPr>
              <a:xfrm>
                <a:off x="4019400" y="235512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01" name="TextBox 146"/>
              <p:cNvSpPr/>
              <p:nvPr/>
            </p:nvSpPr>
            <p:spPr>
              <a:xfrm>
                <a:off x="3193920" y="225504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02" name="TextBox 146"/>
              <p:cNvSpPr/>
              <p:nvPr/>
            </p:nvSpPr>
            <p:spPr>
              <a:xfrm>
                <a:off x="2355480" y="185976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sp>
          <p:nvSpPr>
            <p:cNvPr id="403" name="TextBox 146"/>
            <p:cNvSpPr/>
            <p:nvPr/>
          </p:nvSpPr>
          <p:spPr>
            <a:xfrm>
              <a:off x="1525680" y="1657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 spd="med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100"/>
                            </p:stCondLst>
                            <p:childTnLst>
                              <p:par>
                                <p:cTn id="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0" y="4971960"/>
            <a:ext cx="9144000" cy="136548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2957400" y="4968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Arial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直接连接符 5"/>
          <p:cNvSpPr/>
          <p:nvPr/>
        </p:nvSpPr>
        <p:spPr>
          <a:xfrm>
            <a:off x="6716880" y="851040"/>
            <a:ext cx="242712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直接连接符 6"/>
          <p:cNvSpPr/>
          <p:nvPr/>
        </p:nvSpPr>
        <p:spPr>
          <a:xfrm flipH="1">
            <a:off x="0" y="851040"/>
            <a:ext cx="2427120" cy="0"/>
          </a:xfrm>
          <a:prstGeom prst="line">
            <a:avLst/>
          </a:prstGeom>
          <a:ln w="11520">
            <a:solidFill>
              <a:srgbClr val="a6a6a6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rcRect l="0" t="0" r="0" b="92405"/>
          <a:stretch/>
        </p:blipFill>
        <p:spPr>
          <a:xfrm>
            <a:off x="1440" y="6337440"/>
            <a:ext cx="9139320" cy="520560"/>
          </a:xfrm>
          <a:prstGeom prst="rect">
            <a:avLst/>
          </a:prstGeom>
          <a:ln w="0">
            <a:noFill/>
          </a:ln>
        </p:spPr>
      </p:pic>
      <p:sp>
        <p:nvSpPr>
          <p:cNvPr id="409" name="弧形 8"/>
          <p:cNvSpPr/>
          <p:nvPr/>
        </p:nvSpPr>
        <p:spPr>
          <a:xfrm>
            <a:off x="738360" y="1538280"/>
            <a:ext cx="3430440" cy="3430440"/>
          </a:xfrm>
          <a:custGeom>
            <a:avLst/>
            <a:gdLst/>
            <a:ahLst/>
            <a:rect l="l" t="t" r="r" b="b"/>
            <a:pathLst>
              <a:path stroke="0" w="3430587" h="3430588">
                <a:moveTo>
                  <a:pt x="2963795" y="539081"/>
                </a:moveTo>
                <a:cubicBezTo>
                  <a:pt x="3492512" y="1100293"/>
                  <a:pt x="3581794" y="1945318"/>
                  <a:pt x="3182031" y="2604628"/>
                </a:cubicBezTo>
                <a:lnTo>
                  <a:pt x="1715294" y="1715294"/>
                </a:lnTo>
                <a:lnTo>
                  <a:pt x="2963795" y="539081"/>
                </a:lnTo>
                <a:close/>
              </a:path>
              <a:path fill="none" w="3430587" h="3430588">
                <a:moveTo>
                  <a:pt x="2963795" y="539081"/>
                </a:moveTo>
                <a:cubicBezTo>
                  <a:pt x="3492512" y="1100293"/>
                  <a:pt x="3581794" y="1945318"/>
                  <a:pt x="3182031" y="2604628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弧形 10"/>
          <p:cNvSpPr/>
          <p:nvPr/>
        </p:nvSpPr>
        <p:spPr>
          <a:xfrm>
            <a:off x="539640" y="1339920"/>
            <a:ext cx="3829320" cy="3828960"/>
          </a:xfrm>
          <a:custGeom>
            <a:avLst/>
            <a:gdLst/>
            <a:ahLst/>
            <a:rect l="l" t="t" r="r" b="b"/>
            <a:pathLst>
              <a:path stroke="0" w="3829050" h="3829050">
                <a:moveTo>
                  <a:pt x="3300086" y="593303"/>
                </a:moveTo>
                <a:cubicBezTo>
                  <a:pt x="3913387" y="1236470"/>
                  <a:pt x="4003459" y="2217121"/>
                  <a:pt x="3517578" y="2961247"/>
                </a:cubicBezTo>
                <a:lnTo>
                  <a:pt x="1914525" y="1914525"/>
                </a:lnTo>
                <a:lnTo>
                  <a:pt x="3300086" y="593303"/>
                </a:lnTo>
                <a:close/>
              </a:path>
              <a:path fill="none" w="3829050" h="3829050">
                <a:moveTo>
                  <a:pt x="3300086" y="593303"/>
                </a:moveTo>
                <a:cubicBezTo>
                  <a:pt x="3913387" y="1236470"/>
                  <a:pt x="4003459" y="2217121"/>
                  <a:pt x="3517578" y="2961247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弧形 11"/>
          <p:cNvSpPr/>
          <p:nvPr/>
        </p:nvSpPr>
        <p:spPr>
          <a:xfrm>
            <a:off x="330120" y="1130400"/>
            <a:ext cx="4246560" cy="4246560"/>
          </a:xfrm>
          <a:custGeom>
            <a:avLst/>
            <a:gdLst/>
            <a:ahLst/>
            <a:rect l="l" t="t" r="r" b="b"/>
            <a:pathLst>
              <a:path stroke="0" w="4246563" h="4246562">
                <a:moveTo>
                  <a:pt x="3667529" y="666015"/>
                </a:moveTo>
                <a:cubicBezTo>
                  <a:pt x="4352531" y="1391902"/>
                  <a:pt x="4439504" y="2496887"/>
                  <a:pt x="3876503" y="3321004"/>
                </a:cubicBezTo>
                <a:lnTo>
                  <a:pt x="2123282" y="2123281"/>
                </a:lnTo>
                <a:lnTo>
                  <a:pt x="3667529" y="666015"/>
                </a:lnTo>
                <a:close/>
              </a:path>
              <a:path fill="none" w="4246563" h="4246562">
                <a:moveTo>
                  <a:pt x="3667529" y="666015"/>
                </a:moveTo>
                <a:cubicBezTo>
                  <a:pt x="4352531" y="1391902"/>
                  <a:pt x="4439504" y="2496887"/>
                  <a:pt x="3876503" y="3321004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弧形 12"/>
          <p:cNvSpPr/>
          <p:nvPr/>
        </p:nvSpPr>
        <p:spPr>
          <a:xfrm>
            <a:off x="109440" y="907920"/>
            <a:ext cx="4689720" cy="4691160"/>
          </a:xfrm>
          <a:custGeom>
            <a:avLst/>
            <a:gdLst/>
            <a:ahLst/>
            <a:rect l="l" t="t" r="r" b="b"/>
            <a:pathLst>
              <a:path stroke="0" w="4689475" h="4691062">
                <a:moveTo>
                  <a:pt x="4049559" y="735211"/>
                </a:moveTo>
                <a:cubicBezTo>
                  <a:pt x="4824585" y="1556274"/>
                  <a:pt x="4904729" y="2813228"/>
                  <a:pt x="4240262" y="3726136"/>
                </a:cubicBezTo>
                <a:lnTo>
                  <a:pt x="2344738" y="2345531"/>
                </a:lnTo>
                <a:lnTo>
                  <a:pt x="4049559" y="735211"/>
                </a:lnTo>
                <a:close/>
              </a:path>
              <a:path fill="none" w="4689475" h="4691062">
                <a:moveTo>
                  <a:pt x="4049559" y="735211"/>
                </a:moveTo>
                <a:cubicBezTo>
                  <a:pt x="4824585" y="1556274"/>
                  <a:pt x="4904729" y="2813228"/>
                  <a:pt x="4240262" y="3726136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弧形 14"/>
          <p:cNvSpPr/>
          <p:nvPr/>
        </p:nvSpPr>
        <p:spPr>
          <a:xfrm>
            <a:off x="722160" y="1550880"/>
            <a:ext cx="3430800" cy="3430800"/>
          </a:xfrm>
          <a:custGeom>
            <a:avLst/>
            <a:gdLst/>
            <a:ahLst/>
            <a:rect l="l" t="t" r="r" b="b"/>
            <a:pathLst>
              <a:path stroke="0" w="3430587" h="3430588">
                <a:moveTo>
                  <a:pt x="2963795" y="539081"/>
                </a:moveTo>
                <a:cubicBezTo>
                  <a:pt x="3492512" y="1100293"/>
                  <a:pt x="3581794" y="1945318"/>
                  <a:pt x="3182031" y="2604628"/>
                </a:cubicBezTo>
                <a:lnTo>
                  <a:pt x="1715294" y="1715294"/>
                </a:lnTo>
                <a:lnTo>
                  <a:pt x="2963795" y="539081"/>
                </a:lnTo>
                <a:close/>
              </a:path>
              <a:path fill="none" w="3430587" h="3430588">
                <a:moveTo>
                  <a:pt x="2963795" y="539081"/>
                </a:moveTo>
                <a:cubicBezTo>
                  <a:pt x="3492512" y="1100293"/>
                  <a:pt x="3581794" y="1945318"/>
                  <a:pt x="3182031" y="2604628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弧形 15"/>
          <p:cNvSpPr/>
          <p:nvPr/>
        </p:nvSpPr>
        <p:spPr>
          <a:xfrm>
            <a:off x="522360" y="1352520"/>
            <a:ext cx="3828960" cy="3827520"/>
          </a:xfrm>
          <a:custGeom>
            <a:avLst/>
            <a:gdLst/>
            <a:ahLst/>
            <a:rect l="l" t="t" r="r" b="b"/>
            <a:pathLst>
              <a:path stroke="0" w="3829050" h="3827462">
                <a:moveTo>
                  <a:pt x="3299812" y="592770"/>
                </a:moveTo>
                <a:cubicBezTo>
                  <a:pt x="3913443" y="1235749"/>
                  <a:pt x="4003557" y="2216361"/>
                  <a:pt x="3517379" y="2960323"/>
                </a:cubicBezTo>
                <a:lnTo>
                  <a:pt x="1914525" y="1913731"/>
                </a:lnTo>
                <a:lnTo>
                  <a:pt x="3299812" y="592770"/>
                </a:lnTo>
                <a:close/>
              </a:path>
              <a:path fill="none" w="3829050" h="3827462">
                <a:moveTo>
                  <a:pt x="3299812" y="592770"/>
                </a:moveTo>
                <a:cubicBezTo>
                  <a:pt x="3913443" y="1235749"/>
                  <a:pt x="4003557" y="2216361"/>
                  <a:pt x="3517379" y="2960323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弧形 16"/>
          <p:cNvSpPr/>
          <p:nvPr/>
        </p:nvSpPr>
        <p:spPr>
          <a:xfrm>
            <a:off x="314280" y="1143000"/>
            <a:ext cx="4246560" cy="4246560"/>
          </a:xfrm>
          <a:custGeom>
            <a:avLst/>
            <a:gdLst/>
            <a:ahLst/>
            <a:rect l="l" t="t" r="r" b="b"/>
            <a:pathLst>
              <a:path stroke="0" w="4246563" h="4246562">
                <a:moveTo>
                  <a:pt x="3667529" y="666015"/>
                </a:moveTo>
                <a:cubicBezTo>
                  <a:pt x="4352531" y="1391902"/>
                  <a:pt x="4439504" y="2496887"/>
                  <a:pt x="3876503" y="3321004"/>
                </a:cubicBezTo>
                <a:lnTo>
                  <a:pt x="2123282" y="2123281"/>
                </a:lnTo>
                <a:lnTo>
                  <a:pt x="3667529" y="666015"/>
                </a:lnTo>
                <a:close/>
              </a:path>
              <a:path fill="none" w="4246563" h="4246562">
                <a:moveTo>
                  <a:pt x="3667529" y="666015"/>
                </a:moveTo>
                <a:cubicBezTo>
                  <a:pt x="4352531" y="1391902"/>
                  <a:pt x="4439504" y="2496887"/>
                  <a:pt x="3876503" y="3321004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弧形 17"/>
          <p:cNvSpPr/>
          <p:nvPr/>
        </p:nvSpPr>
        <p:spPr>
          <a:xfrm>
            <a:off x="92160" y="920880"/>
            <a:ext cx="4690800" cy="4690800"/>
          </a:xfrm>
          <a:custGeom>
            <a:avLst/>
            <a:gdLst/>
            <a:ahLst/>
            <a:rect l="l" t="t" r="r" b="b"/>
            <a:pathLst>
              <a:path stroke="0" w="4691063" h="4691062">
                <a:moveTo>
                  <a:pt x="4050658" y="734923"/>
                </a:moveTo>
                <a:cubicBezTo>
                  <a:pt x="4826285" y="1556067"/>
                  <a:pt x="4906486" y="2813405"/>
                  <a:pt x="4241476" y="3726442"/>
                </a:cubicBezTo>
                <a:lnTo>
                  <a:pt x="2345532" y="2345531"/>
                </a:lnTo>
                <a:lnTo>
                  <a:pt x="4050658" y="734923"/>
                </a:lnTo>
                <a:close/>
              </a:path>
              <a:path fill="none" w="4691063" h="4691062">
                <a:moveTo>
                  <a:pt x="4050658" y="734923"/>
                </a:moveTo>
                <a:cubicBezTo>
                  <a:pt x="4826285" y="1556067"/>
                  <a:pt x="4906486" y="2813405"/>
                  <a:pt x="4241476" y="3726442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弧形 18"/>
          <p:cNvSpPr/>
          <p:nvPr/>
        </p:nvSpPr>
        <p:spPr>
          <a:xfrm>
            <a:off x="730080" y="1550880"/>
            <a:ext cx="3432240" cy="3430800"/>
          </a:xfrm>
          <a:custGeom>
            <a:avLst/>
            <a:gdLst/>
            <a:ahLst/>
            <a:rect l="l" t="t" r="r" b="b"/>
            <a:pathLst>
              <a:path stroke="0" w="3432175" h="3430588">
                <a:moveTo>
                  <a:pt x="2964895" y="538793"/>
                </a:moveTo>
                <a:cubicBezTo>
                  <a:pt x="3494177" y="1100085"/>
                  <a:pt x="3583548" y="1945464"/>
                  <a:pt x="3183321" y="2604930"/>
                </a:cubicBezTo>
                <a:lnTo>
                  <a:pt x="1716088" y="1715294"/>
                </a:lnTo>
                <a:lnTo>
                  <a:pt x="2964895" y="538793"/>
                </a:lnTo>
                <a:close/>
              </a:path>
              <a:path fill="none" w="3432175" h="3430588">
                <a:moveTo>
                  <a:pt x="2964895" y="538793"/>
                </a:moveTo>
                <a:cubicBezTo>
                  <a:pt x="3494177" y="1100085"/>
                  <a:pt x="3583548" y="1945464"/>
                  <a:pt x="3183321" y="2604930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弧形 19"/>
          <p:cNvSpPr/>
          <p:nvPr/>
        </p:nvSpPr>
        <p:spPr>
          <a:xfrm>
            <a:off x="531720" y="1352520"/>
            <a:ext cx="3829320" cy="3827520"/>
          </a:xfrm>
          <a:custGeom>
            <a:avLst/>
            <a:gdLst/>
            <a:ahLst/>
            <a:rect l="l" t="t" r="r" b="b"/>
            <a:pathLst>
              <a:path stroke="0" w="3829050" h="3827462">
                <a:moveTo>
                  <a:pt x="3299812" y="592770"/>
                </a:moveTo>
                <a:cubicBezTo>
                  <a:pt x="3913443" y="1235749"/>
                  <a:pt x="4003557" y="2216361"/>
                  <a:pt x="3517379" y="2960323"/>
                </a:cubicBezTo>
                <a:lnTo>
                  <a:pt x="1914525" y="1913731"/>
                </a:lnTo>
                <a:lnTo>
                  <a:pt x="3299812" y="592770"/>
                </a:lnTo>
                <a:close/>
              </a:path>
              <a:path fill="none" w="3829050" h="3827462">
                <a:moveTo>
                  <a:pt x="3299812" y="592770"/>
                </a:moveTo>
                <a:cubicBezTo>
                  <a:pt x="3913443" y="1235749"/>
                  <a:pt x="4003557" y="2216361"/>
                  <a:pt x="3517379" y="2960323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弧形 20"/>
          <p:cNvSpPr/>
          <p:nvPr/>
        </p:nvSpPr>
        <p:spPr>
          <a:xfrm>
            <a:off x="324000" y="1143000"/>
            <a:ext cx="4244760" cy="4246560"/>
          </a:xfrm>
          <a:custGeom>
            <a:avLst/>
            <a:gdLst/>
            <a:ahLst/>
            <a:rect l="l" t="t" r="r" b="b"/>
            <a:pathLst>
              <a:path stroke="0" w="4244975" h="4246562">
                <a:moveTo>
                  <a:pt x="3666429" y="666303"/>
                </a:moveTo>
                <a:cubicBezTo>
                  <a:pt x="4350842" y="1392109"/>
                  <a:pt x="4437746" y="2496720"/>
                  <a:pt x="3875261" y="3320699"/>
                </a:cubicBezTo>
                <a:lnTo>
                  <a:pt x="2122488" y="2123281"/>
                </a:lnTo>
                <a:lnTo>
                  <a:pt x="3666429" y="666303"/>
                </a:lnTo>
                <a:close/>
              </a:path>
              <a:path fill="none" w="4244975" h="4246562">
                <a:moveTo>
                  <a:pt x="3666429" y="666303"/>
                </a:moveTo>
                <a:cubicBezTo>
                  <a:pt x="4350842" y="1392109"/>
                  <a:pt x="4437746" y="2496720"/>
                  <a:pt x="3875261" y="3320699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弧形 21"/>
          <p:cNvSpPr/>
          <p:nvPr/>
        </p:nvSpPr>
        <p:spPr>
          <a:xfrm>
            <a:off x="101520" y="920880"/>
            <a:ext cx="4689720" cy="4690800"/>
          </a:xfrm>
          <a:custGeom>
            <a:avLst/>
            <a:gdLst/>
            <a:ahLst/>
            <a:rect l="l" t="t" r="r" b="b"/>
            <a:pathLst>
              <a:path stroke="0" w="4689475" h="4691062">
                <a:moveTo>
                  <a:pt x="4049559" y="735211"/>
                </a:moveTo>
                <a:cubicBezTo>
                  <a:pt x="4824585" y="1556274"/>
                  <a:pt x="4904729" y="2813228"/>
                  <a:pt x="4240262" y="3726136"/>
                </a:cubicBezTo>
                <a:lnTo>
                  <a:pt x="2344738" y="2345531"/>
                </a:lnTo>
                <a:lnTo>
                  <a:pt x="4049559" y="735211"/>
                </a:lnTo>
                <a:close/>
              </a:path>
              <a:path fill="none" w="4689475" h="4691062">
                <a:moveTo>
                  <a:pt x="4049559" y="735211"/>
                </a:moveTo>
                <a:cubicBezTo>
                  <a:pt x="4824585" y="1556274"/>
                  <a:pt x="4904729" y="2813228"/>
                  <a:pt x="4240262" y="3726136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弧形 22"/>
          <p:cNvSpPr/>
          <p:nvPr/>
        </p:nvSpPr>
        <p:spPr>
          <a:xfrm>
            <a:off x="730080" y="1550880"/>
            <a:ext cx="3432240" cy="3430800"/>
          </a:xfrm>
          <a:custGeom>
            <a:avLst/>
            <a:gdLst/>
            <a:ahLst/>
            <a:rect l="l" t="t" r="r" b="b"/>
            <a:pathLst>
              <a:path stroke="0" w="3432175" h="3430588">
                <a:moveTo>
                  <a:pt x="2964895" y="538793"/>
                </a:moveTo>
                <a:cubicBezTo>
                  <a:pt x="3494177" y="1100085"/>
                  <a:pt x="3583548" y="1945464"/>
                  <a:pt x="3183321" y="2604930"/>
                </a:cubicBezTo>
                <a:lnTo>
                  <a:pt x="1716088" y="1715294"/>
                </a:lnTo>
                <a:lnTo>
                  <a:pt x="2964895" y="538793"/>
                </a:lnTo>
                <a:close/>
              </a:path>
              <a:path fill="none" w="3432175" h="3430588">
                <a:moveTo>
                  <a:pt x="2964895" y="538793"/>
                </a:moveTo>
                <a:cubicBezTo>
                  <a:pt x="3494177" y="1100085"/>
                  <a:pt x="3583548" y="1945464"/>
                  <a:pt x="3183321" y="2604930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弧形 23"/>
          <p:cNvSpPr/>
          <p:nvPr/>
        </p:nvSpPr>
        <p:spPr>
          <a:xfrm>
            <a:off x="531720" y="1352520"/>
            <a:ext cx="3829320" cy="3827520"/>
          </a:xfrm>
          <a:custGeom>
            <a:avLst/>
            <a:gdLst/>
            <a:ahLst/>
            <a:rect l="l" t="t" r="r" b="b"/>
            <a:pathLst>
              <a:path stroke="0" w="3829050" h="3827462">
                <a:moveTo>
                  <a:pt x="3299812" y="592770"/>
                </a:moveTo>
                <a:cubicBezTo>
                  <a:pt x="3913443" y="1235749"/>
                  <a:pt x="4003557" y="2216361"/>
                  <a:pt x="3517379" y="2960323"/>
                </a:cubicBezTo>
                <a:lnTo>
                  <a:pt x="1914525" y="1913731"/>
                </a:lnTo>
                <a:lnTo>
                  <a:pt x="3299812" y="592770"/>
                </a:lnTo>
                <a:close/>
              </a:path>
              <a:path fill="none" w="3829050" h="3827462">
                <a:moveTo>
                  <a:pt x="3299812" y="592770"/>
                </a:moveTo>
                <a:cubicBezTo>
                  <a:pt x="3913443" y="1235749"/>
                  <a:pt x="4003557" y="2216361"/>
                  <a:pt x="3517379" y="2960323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弧形 24"/>
          <p:cNvSpPr/>
          <p:nvPr/>
        </p:nvSpPr>
        <p:spPr>
          <a:xfrm>
            <a:off x="324000" y="1143000"/>
            <a:ext cx="4244760" cy="4246560"/>
          </a:xfrm>
          <a:custGeom>
            <a:avLst/>
            <a:gdLst/>
            <a:ahLst/>
            <a:rect l="l" t="t" r="r" b="b"/>
            <a:pathLst>
              <a:path stroke="0" w="4244975" h="4246562">
                <a:moveTo>
                  <a:pt x="3666429" y="666303"/>
                </a:moveTo>
                <a:cubicBezTo>
                  <a:pt x="4350842" y="1392109"/>
                  <a:pt x="4437746" y="2496720"/>
                  <a:pt x="3875261" y="3320699"/>
                </a:cubicBezTo>
                <a:lnTo>
                  <a:pt x="2122488" y="2123281"/>
                </a:lnTo>
                <a:lnTo>
                  <a:pt x="3666429" y="666303"/>
                </a:lnTo>
                <a:close/>
              </a:path>
              <a:path fill="none" w="4244975" h="4246562">
                <a:moveTo>
                  <a:pt x="3666429" y="666303"/>
                </a:moveTo>
                <a:cubicBezTo>
                  <a:pt x="4350842" y="1392109"/>
                  <a:pt x="4437746" y="2496720"/>
                  <a:pt x="3875261" y="3320699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弧形 25"/>
          <p:cNvSpPr/>
          <p:nvPr/>
        </p:nvSpPr>
        <p:spPr>
          <a:xfrm>
            <a:off x="101520" y="920880"/>
            <a:ext cx="4689720" cy="4690800"/>
          </a:xfrm>
          <a:custGeom>
            <a:avLst/>
            <a:gdLst/>
            <a:ahLst/>
            <a:rect l="l" t="t" r="r" b="b"/>
            <a:pathLst>
              <a:path stroke="0" w="4689475" h="4691062">
                <a:moveTo>
                  <a:pt x="4049559" y="735211"/>
                </a:moveTo>
                <a:cubicBezTo>
                  <a:pt x="4824585" y="1556274"/>
                  <a:pt x="4904729" y="2813228"/>
                  <a:pt x="4240262" y="3726136"/>
                </a:cubicBezTo>
                <a:lnTo>
                  <a:pt x="2344738" y="2345531"/>
                </a:lnTo>
                <a:lnTo>
                  <a:pt x="4049559" y="735211"/>
                </a:lnTo>
                <a:close/>
              </a:path>
              <a:path fill="none" w="4689475" h="4691062">
                <a:moveTo>
                  <a:pt x="4049559" y="735211"/>
                </a:moveTo>
                <a:cubicBezTo>
                  <a:pt x="4824585" y="1556274"/>
                  <a:pt x="4904729" y="2813228"/>
                  <a:pt x="4240262" y="3726136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25" name="Group 23"/>
          <p:cNvGrpSpPr/>
          <p:nvPr/>
        </p:nvGrpSpPr>
        <p:grpSpPr>
          <a:xfrm>
            <a:off x="878040" y="1708200"/>
            <a:ext cx="3122640" cy="3120840"/>
            <a:chOff x="878040" y="1708200"/>
            <a:chExt cx="3122640" cy="3120840"/>
          </a:xfrm>
        </p:grpSpPr>
        <p:sp>
          <p:nvSpPr>
            <p:cNvPr id="426" name="椭圆 27"/>
            <p:cNvSpPr/>
            <p:nvPr/>
          </p:nvSpPr>
          <p:spPr>
            <a:xfrm>
              <a:off x="878040" y="1708200"/>
              <a:ext cx="3122640" cy="31208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27" name="椭圆 28"/>
            <p:cNvSpPr/>
            <p:nvPr/>
          </p:nvSpPr>
          <p:spPr>
            <a:xfrm>
              <a:off x="942840" y="1773000"/>
              <a:ext cx="2992680" cy="299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28" name="弧形 29"/>
          <p:cNvSpPr/>
          <p:nvPr/>
        </p:nvSpPr>
        <p:spPr>
          <a:xfrm>
            <a:off x="720720" y="1550880"/>
            <a:ext cx="3430440" cy="3430800"/>
          </a:xfrm>
          <a:custGeom>
            <a:avLst/>
            <a:gdLst/>
            <a:ahLst/>
            <a:rect l="l" t="t" r="r" b="b"/>
            <a:pathLst>
              <a:path stroke="0" w="3430588" h="3430588">
                <a:moveTo>
                  <a:pt x="2963796" y="539081"/>
                </a:moveTo>
                <a:cubicBezTo>
                  <a:pt x="3492513" y="1100293"/>
                  <a:pt x="3581795" y="1945318"/>
                  <a:pt x="3182032" y="2604628"/>
                </a:cubicBezTo>
                <a:lnTo>
                  <a:pt x="1715294" y="1715294"/>
                </a:lnTo>
                <a:lnTo>
                  <a:pt x="2963796" y="539081"/>
                </a:lnTo>
                <a:close/>
              </a:path>
              <a:path fill="none" w="3430588" h="3430588">
                <a:moveTo>
                  <a:pt x="2963796" y="539081"/>
                </a:moveTo>
                <a:cubicBezTo>
                  <a:pt x="3492513" y="1100293"/>
                  <a:pt x="3581795" y="1945318"/>
                  <a:pt x="3182032" y="2604628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弧形 30"/>
          <p:cNvSpPr/>
          <p:nvPr/>
        </p:nvSpPr>
        <p:spPr>
          <a:xfrm>
            <a:off x="522360" y="1352520"/>
            <a:ext cx="3827520" cy="3827520"/>
          </a:xfrm>
          <a:custGeom>
            <a:avLst/>
            <a:gdLst/>
            <a:ahLst/>
            <a:rect l="l" t="t" r="r" b="b"/>
            <a:pathLst>
              <a:path stroke="0" w="3827462" h="3827462">
                <a:moveTo>
                  <a:pt x="3298717" y="593057"/>
                </a:moveTo>
                <a:cubicBezTo>
                  <a:pt x="3911764" y="1235957"/>
                  <a:pt x="4001798" y="2216202"/>
                  <a:pt x="3516119" y="2960019"/>
                </a:cubicBezTo>
                <a:lnTo>
                  <a:pt x="1913731" y="1913731"/>
                </a:lnTo>
                <a:lnTo>
                  <a:pt x="3298717" y="593057"/>
                </a:lnTo>
                <a:close/>
              </a:path>
              <a:path fill="none" w="3827462" h="3827462">
                <a:moveTo>
                  <a:pt x="3298717" y="593057"/>
                </a:moveTo>
                <a:cubicBezTo>
                  <a:pt x="3911764" y="1235957"/>
                  <a:pt x="4001798" y="2216202"/>
                  <a:pt x="3516119" y="2960019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弧形 31"/>
          <p:cNvSpPr/>
          <p:nvPr/>
        </p:nvSpPr>
        <p:spPr>
          <a:xfrm>
            <a:off x="312840" y="1143000"/>
            <a:ext cx="4246560" cy="4246560"/>
          </a:xfrm>
          <a:custGeom>
            <a:avLst/>
            <a:gdLst/>
            <a:ahLst/>
            <a:rect l="l" t="t" r="r" b="b"/>
            <a:pathLst>
              <a:path stroke="0" w="4246562" h="4246562">
                <a:moveTo>
                  <a:pt x="3667528" y="666015"/>
                </a:moveTo>
                <a:cubicBezTo>
                  <a:pt x="4352529" y="1391902"/>
                  <a:pt x="4439502" y="2496886"/>
                  <a:pt x="3876502" y="3321004"/>
                </a:cubicBezTo>
                <a:lnTo>
                  <a:pt x="2123281" y="2123281"/>
                </a:lnTo>
                <a:lnTo>
                  <a:pt x="3667528" y="666015"/>
                </a:lnTo>
                <a:close/>
              </a:path>
              <a:path fill="none" w="4246562" h="4246562">
                <a:moveTo>
                  <a:pt x="3667528" y="666015"/>
                </a:moveTo>
                <a:cubicBezTo>
                  <a:pt x="4352529" y="1391902"/>
                  <a:pt x="4439502" y="2496886"/>
                  <a:pt x="3876502" y="3321004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弧形 32"/>
          <p:cNvSpPr/>
          <p:nvPr/>
        </p:nvSpPr>
        <p:spPr>
          <a:xfrm>
            <a:off x="90360" y="920880"/>
            <a:ext cx="4691160" cy="4690800"/>
          </a:xfrm>
          <a:custGeom>
            <a:avLst/>
            <a:gdLst/>
            <a:ahLst/>
            <a:rect l="l" t="t" r="r" b="b"/>
            <a:pathLst>
              <a:path stroke="0" w="4691062" h="4691062">
                <a:moveTo>
                  <a:pt x="4050658" y="734923"/>
                </a:moveTo>
                <a:cubicBezTo>
                  <a:pt x="4826284" y="1556067"/>
                  <a:pt x="4906485" y="2813404"/>
                  <a:pt x="4241475" y="3726441"/>
                </a:cubicBezTo>
                <a:lnTo>
                  <a:pt x="2345531" y="2345531"/>
                </a:lnTo>
                <a:lnTo>
                  <a:pt x="4050658" y="734923"/>
                </a:lnTo>
                <a:close/>
              </a:path>
              <a:path fill="none" w="4691062" h="4691062">
                <a:moveTo>
                  <a:pt x="4050658" y="734923"/>
                </a:moveTo>
                <a:cubicBezTo>
                  <a:pt x="4826284" y="1556067"/>
                  <a:pt x="4906485" y="2813404"/>
                  <a:pt x="4241475" y="3726441"/>
                </a:cubicBez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32" name="Group 30"/>
          <p:cNvGrpSpPr/>
          <p:nvPr/>
        </p:nvGrpSpPr>
        <p:grpSpPr>
          <a:xfrm>
            <a:off x="4143240" y="1328760"/>
            <a:ext cx="4192560" cy="687960"/>
            <a:chOff x="4143240" y="1328760"/>
            <a:chExt cx="4192560" cy="687960"/>
          </a:xfrm>
        </p:grpSpPr>
        <p:sp>
          <p:nvSpPr>
            <p:cNvPr id="433" name="圆角矩形 34"/>
            <p:cNvSpPr/>
            <p:nvPr/>
          </p:nvSpPr>
          <p:spPr>
            <a:xfrm>
              <a:off x="4370040" y="1465200"/>
              <a:ext cx="3495600" cy="495360"/>
            </a:xfrm>
            <a:prstGeom prst="roundRect">
              <a:avLst>
                <a:gd name="adj" fmla="val 7616"/>
              </a:avLst>
            </a:prstGeom>
            <a:solidFill>
              <a:srgbClr val="d9d9d9">
                <a:alpha val="7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34" name="矩形 35"/>
            <p:cNvSpPr/>
            <p:nvPr/>
          </p:nvSpPr>
          <p:spPr>
            <a:xfrm>
              <a:off x="4620960" y="1512720"/>
              <a:ext cx="37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</a:rPr>
                <a:t>单击添加文本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35" name="椭圆 36"/>
            <p:cNvSpPr/>
            <p:nvPr/>
          </p:nvSpPr>
          <p:spPr>
            <a:xfrm rot="10800000">
              <a:off x="4143240" y="1485360"/>
              <a:ext cx="458640" cy="460440"/>
            </a:xfrm>
            <a:prstGeom prst="ellipse">
              <a:avLst/>
            </a:prstGeom>
            <a:solidFill>
              <a:srgbClr val="604a7b"/>
            </a:solidFill>
            <a:ln w="57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36" name="矩形 46"/>
            <p:cNvSpPr/>
            <p:nvPr/>
          </p:nvSpPr>
          <p:spPr>
            <a:xfrm>
              <a:off x="4195440" y="1328760"/>
              <a:ext cx="4046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Franklin Gothic Book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pic>
          <p:nvPicPr>
            <p:cNvPr id="437" name="图片 38" descr="A6188.png"/>
            <p:cNvPicPr/>
            <p:nvPr/>
          </p:nvPicPr>
          <p:blipFill>
            <a:blip r:embed="rId3"/>
            <a:stretch/>
          </p:blipFill>
          <p:spPr>
            <a:xfrm>
              <a:off x="4157280" y="1517040"/>
              <a:ext cx="438840" cy="41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Group 36"/>
          <p:cNvGrpSpPr/>
          <p:nvPr/>
        </p:nvGrpSpPr>
        <p:grpSpPr>
          <a:xfrm>
            <a:off x="4538520" y="2038320"/>
            <a:ext cx="4192560" cy="687960"/>
            <a:chOff x="4538520" y="2038320"/>
            <a:chExt cx="4192560" cy="687960"/>
          </a:xfrm>
        </p:grpSpPr>
        <p:sp>
          <p:nvSpPr>
            <p:cNvPr id="439" name="圆角矩形 40"/>
            <p:cNvSpPr/>
            <p:nvPr/>
          </p:nvSpPr>
          <p:spPr>
            <a:xfrm>
              <a:off x="4765320" y="2174760"/>
              <a:ext cx="3406680" cy="495360"/>
            </a:xfrm>
            <a:prstGeom prst="roundRect">
              <a:avLst>
                <a:gd name="adj" fmla="val 7616"/>
              </a:avLst>
            </a:prstGeom>
            <a:solidFill>
              <a:srgbClr val="d9d9d9">
                <a:alpha val="7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0" name="矩形 41"/>
            <p:cNvSpPr/>
            <p:nvPr/>
          </p:nvSpPr>
          <p:spPr>
            <a:xfrm>
              <a:off x="5016240" y="2222280"/>
              <a:ext cx="37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</a:rPr>
                <a:t>单击添加文本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1" name="椭圆 42"/>
            <p:cNvSpPr/>
            <p:nvPr/>
          </p:nvSpPr>
          <p:spPr>
            <a:xfrm rot="10800000">
              <a:off x="4538520" y="2194920"/>
              <a:ext cx="458640" cy="460440"/>
            </a:xfrm>
            <a:prstGeom prst="ellipse">
              <a:avLst/>
            </a:prstGeom>
            <a:solidFill>
              <a:srgbClr val="604a7b"/>
            </a:solidFill>
            <a:ln w="57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2" name="矩形 46"/>
            <p:cNvSpPr/>
            <p:nvPr/>
          </p:nvSpPr>
          <p:spPr>
            <a:xfrm>
              <a:off x="4590720" y="2038320"/>
              <a:ext cx="4046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Franklin Gothic Book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pic>
          <p:nvPicPr>
            <p:cNvPr id="443" name="图片 44" descr="A6188.png"/>
            <p:cNvPicPr/>
            <p:nvPr/>
          </p:nvPicPr>
          <p:blipFill>
            <a:blip r:embed="rId4"/>
            <a:stretch/>
          </p:blipFill>
          <p:spPr>
            <a:xfrm>
              <a:off x="4553280" y="2224080"/>
              <a:ext cx="438840" cy="41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4" name="Group 42"/>
          <p:cNvGrpSpPr/>
          <p:nvPr/>
        </p:nvGrpSpPr>
        <p:grpSpPr>
          <a:xfrm>
            <a:off x="4689360" y="2751120"/>
            <a:ext cx="4192560" cy="687960"/>
            <a:chOff x="4689360" y="2751120"/>
            <a:chExt cx="4192560" cy="687960"/>
          </a:xfrm>
        </p:grpSpPr>
        <p:sp>
          <p:nvSpPr>
            <p:cNvPr id="445" name="圆角矩形 46"/>
            <p:cNvSpPr/>
            <p:nvPr/>
          </p:nvSpPr>
          <p:spPr>
            <a:xfrm>
              <a:off x="4916160" y="2887560"/>
              <a:ext cx="3699000" cy="495360"/>
            </a:xfrm>
            <a:prstGeom prst="roundRect">
              <a:avLst>
                <a:gd name="adj" fmla="val 7616"/>
              </a:avLst>
            </a:prstGeom>
            <a:solidFill>
              <a:srgbClr val="d9d9d9">
                <a:alpha val="7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6" name="矩形 47"/>
            <p:cNvSpPr/>
            <p:nvPr/>
          </p:nvSpPr>
          <p:spPr>
            <a:xfrm>
              <a:off x="5167080" y="2935080"/>
              <a:ext cx="37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</a:rPr>
                <a:t>单击添加文本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7" name="椭圆 48"/>
            <p:cNvSpPr/>
            <p:nvPr/>
          </p:nvSpPr>
          <p:spPr>
            <a:xfrm rot="10800000">
              <a:off x="4689360" y="2907720"/>
              <a:ext cx="458640" cy="460440"/>
            </a:xfrm>
            <a:prstGeom prst="ellipse">
              <a:avLst/>
            </a:prstGeom>
            <a:solidFill>
              <a:srgbClr val="604a7b"/>
            </a:solidFill>
            <a:ln w="57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8" name="矩形 46"/>
            <p:cNvSpPr/>
            <p:nvPr/>
          </p:nvSpPr>
          <p:spPr>
            <a:xfrm>
              <a:off x="4741560" y="2751120"/>
              <a:ext cx="4046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Franklin Gothic Book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pic>
          <p:nvPicPr>
            <p:cNvPr id="449" name="图片 50" descr="A6188.png"/>
            <p:cNvPicPr/>
            <p:nvPr/>
          </p:nvPicPr>
          <p:blipFill>
            <a:blip r:embed="rId5"/>
            <a:stretch/>
          </p:blipFill>
          <p:spPr>
            <a:xfrm>
              <a:off x="4705920" y="2937600"/>
              <a:ext cx="432720" cy="41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Group 48"/>
          <p:cNvGrpSpPr/>
          <p:nvPr/>
        </p:nvGrpSpPr>
        <p:grpSpPr>
          <a:xfrm>
            <a:off x="4600440" y="3476520"/>
            <a:ext cx="4192560" cy="687960"/>
            <a:chOff x="4600440" y="3476520"/>
            <a:chExt cx="4192560" cy="687960"/>
          </a:xfrm>
        </p:grpSpPr>
        <p:sp>
          <p:nvSpPr>
            <p:cNvPr id="451" name="圆角矩形 52"/>
            <p:cNvSpPr/>
            <p:nvPr/>
          </p:nvSpPr>
          <p:spPr>
            <a:xfrm>
              <a:off x="4827240" y="3612960"/>
              <a:ext cx="3344760" cy="497160"/>
            </a:xfrm>
            <a:prstGeom prst="roundRect">
              <a:avLst>
                <a:gd name="adj" fmla="val 7616"/>
              </a:avLst>
            </a:prstGeom>
            <a:solidFill>
              <a:srgbClr val="d9d9d9">
                <a:alpha val="7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2" name="矩形 53"/>
            <p:cNvSpPr/>
            <p:nvPr/>
          </p:nvSpPr>
          <p:spPr>
            <a:xfrm>
              <a:off x="5078160" y="3662280"/>
              <a:ext cx="37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</a:rPr>
                <a:t>单击添加文本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3" name="椭圆 54"/>
            <p:cNvSpPr/>
            <p:nvPr/>
          </p:nvSpPr>
          <p:spPr>
            <a:xfrm rot="10800000">
              <a:off x="4600440" y="3633480"/>
              <a:ext cx="458640" cy="462240"/>
            </a:xfrm>
            <a:prstGeom prst="ellipse">
              <a:avLst/>
            </a:prstGeom>
            <a:solidFill>
              <a:srgbClr val="604a7b"/>
            </a:solidFill>
            <a:ln w="57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4" name="矩形 46"/>
            <p:cNvSpPr/>
            <p:nvPr/>
          </p:nvSpPr>
          <p:spPr>
            <a:xfrm>
              <a:off x="4652640" y="3476520"/>
              <a:ext cx="4046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Franklin Gothic Book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pic>
          <p:nvPicPr>
            <p:cNvPr id="455" name="图片 56" descr="A6188.png"/>
            <p:cNvPicPr/>
            <p:nvPr/>
          </p:nvPicPr>
          <p:blipFill>
            <a:blip r:embed="rId6"/>
            <a:stretch/>
          </p:blipFill>
          <p:spPr>
            <a:xfrm>
              <a:off x="4614480" y="3663000"/>
              <a:ext cx="43884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Group 54"/>
          <p:cNvGrpSpPr/>
          <p:nvPr/>
        </p:nvGrpSpPr>
        <p:grpSpPr>
          <a:xfrm>
            <a:off x="4243320" y="4199040"/>
            <a:ext cx="4648320" cy="687960"/>
            <a:chOff x="4243320" y="4199040"/>
            <a:chExt cx="4648320" cy="687960"/>
          </a:xfrm>
        </p:grpSpPr>
        <p:sp>
          <p:nvSpPr>
            <p:cNvPr id="457" name="圆角矩形 58"/>
            <p:cNvSpPr/>
            <p:nvPr/>
          </p:nvSpPr>
          <p:spPr>
            <a:xfrm>
              <a:off x="4470120" y="4335480"/>
              <a:ext cx="3395880" cy="495360"/>
            </a:xfrm>
            <a:prstGeom prst="roundRect">
              <a:avLst>
                <a:gd name="adj" fmla="val 7616"/>
              </a:avLst>
            </a:prstGeom>
            <a:solidFill>
              <a:srgbClr val="d9d9d9">
                <a:alpha val="7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8" name="矩形 59"/>
            <p:cNvSpPr/>
            <p:nvPr/>
          </p:nvSpPr>
          <p:spPr>
            <a:xfrm>
              <a:off x="4721040" y="4383000"/>
              <a:ext cx="41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</a:rPr>
                <a:t>单击添加文本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9" name="椭圆 60"/>
            <p:cNvSpPr/>
            <p:nvPr/>
          </p:nvSpPr>
          <p:spPr>
            <a:xfrm rot="10800000">
              <a:off x="4243320" y="4355640"/>
              <a:ext cx="458640" cy="460440"/>
            </a:xfrm>
            <a:prstGeom prst="ellipse">
              <a:avLst/>
            </a:prstGeom>
            <a:solidFill>
              <a:srgbClr val="604a7b"/>
            </a:solidFill>
            <a:ln w="57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60" name="矩形 46"/>
            <p:cNvSpPr/>
            <p:nvPr/>
          </p:nvSpPr>
          <p:spPr>
            <a:xfrm>
              <a:off x="4295520" y="4199040"/>
              <a:ext cx="4046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Franklin Gothic Book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pic>
          <p:nvPicPr>
            <p:cNvPr id="461" name="图片 62" descr="A6188.png"/>
            <p:cNvPicPr/>
            <p:nvPr/>
          </p:nvPicPr>
          <p:blipFill>
            <a:blip r:embed="rId7"/>
            <a:stretch/>
          </p:blipFill>
          <p:spPr>
            <a:xfrm>
              <a:off x="4254840" y="4388400"/>
              <a:ext cx="438840" cy="41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2" name="Picture 3" descr=""/>
          <p:cNvPicPr/>
          <p:nvPr/>
        </p:nvPicPr>
        <p:blipFill>
          <a:blip r:embed="rId8"/>
          <a:stretch/>
        </p:blipFill>
        <p:spPr>
          <a:xfrm>
            <a:off x="950760" y="1798560"/>
            <a:ext cx="2981520" cy="2962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2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indefinite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-1000"/>
                            </p:stCondLst>
                            <p:childTnLst>
                              <p:par>
                                <p:cTn id="3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indefinite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-1000"/>
                            </p:stCondLst>
                            <p:childTnLst>
                              <p:par>
                                <p:cTn id="3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indefinite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-1000"/>
                            </p:stCondLst>
                            <p:childTnLst>
                              <p:par>
                                <p:cTn id="4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indefinit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-1000"/>
                            </p:stCondLst>
                            <p:childTnLst>
                              <p:par>
                                <p:cTn id="4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indefinite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indefinite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indefinite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indefinite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D9A3-F30B-447C-8391-BED62D0E60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图片 1" descr="01-1.png"/>
          <p:cNvPicPr/>
          <p:nvPr/>
        </p:nvPicPr>
        <p:blipFill>
          <a:blip r:embed="rId2"/>
          <a:stretch/>
        </p:blipFill>
        <p:spPr>
          <a:xfrm>
            <a:off x="12600" y="1371600"/>
            <a:ext cx="9131400" cy="5486400"/>
          </a:xfrm>
          <a:prstGeom prst="rect">
            <a:avLst/>
          </a:prstGeom>
          <a:ln w="0">
            <a:noFill/>
          </a:ln>
        </p:spPr>
      </p:pic>
      <p:pic>
        <p:nvPicPr>
          <p:cNvPr id="469" name="图片 2" descr="未标题-2.png"/>
          <p:cNvPicPr/>
          <p:nvPr/>
        </p:nvPicPr>
        <p:blipFill>
          <a:blip r:embed="rId3"/>
          <a:stretch/>
        </p:blipFill>
        <p:spPr>
          <a:xfrm>
            <a:off x="-420840" y="-569880"/>
            <a:ext cx="9129960" cy="548496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3" descr="未标题-3.png"/>
          <p:cNvPicPr/>
          <p:nvPr/>
        </p:nvPicPr>
        <p:blipFill>
          <a:blip r:embed="rId4"/>
          <a:stretch/>
        </p:blipFill>
        <p:spPr>
          <a:xfrm>
            <a:off x="1719360" y="214200"/>
            <a:ext cx="6300720" cy="378648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4" descr="未标题-3.png"/>
          <p:cNvPicPr/>
          <p:nvPr/>
        </p:nvPicPr>
        <p:blipFill>
          <a:blip r:embed="rId5"/>
          <a:srcRect l="0" t="0" r="0" b="54581"/>
          <a:stretch/>
        </p:blipFill>
        <p:spPr>
          <a:xfrm>
            <a:off x="1785960" y="214200"/>
            <a:ext cx="6296040" cy="1719360"/>
          </a:xfrm>
          <a:prstGeom prst="rect">
            <a:avLst/>
          </a:prstGeom>
          <a:ln w="0">
            <a:noFill/>
          </a:ln>
        </p:spPr>
      </p:pic>
      <p:pic>
        <p:nvPicPr>
          <p:cNvPr id="472" name="图片 5" descr="未标题-3.png"/>
          <p:cNvPicPr/>
          <p:nvPr/>
        </p:nvPicPr>
        <p:blipFill>
          <a:blip r:embed="rId6"/>
          <a:srcRect l="0" t="0" r="0" b="65061"/>
          <a:stretch/>
        </p:blipFill>
        <p:spPr>
          <a:xfrm>
            <a:off x="1785960" y="214200"/>
            <a:ext cx="6286320" cy="1320840"/>
          </a:xfrm>
          <a:prstGeom prst="rect">
            <a:avLst/>
          </a:prstGeom>
          <a:ln w="0">
            <a:noFill/>
          </a:ln>
        </p:spPr>
      </p:pic>
      <p:pic>
        <p:nvPicPr>
          <p:cNvPr id="473" name="图片 10" descr=""/>
          <p:cNvPicPr/>
          <p:nvPr/>
        </p:nvPicPr>
        <p:blipFill>
          <a:blip r:embed="rId7"/>
          <a:srcRect l="0" t="57647" r="0" b="0"/>
          <a:stretch/>
        </p:blipFill>
        <p:spPr>
          <a:xfrm>
            <a:off x="-214200" y="3808440"/>
            <a:ext cx="9610560" cy="3049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00">
                <a:alpha val="68000"/>
              </a:srgbClr>
            </a:outerShdw>
          </a:effectLst>
        </p:spPr>
      </p:pic>
      <p:sp>
        <p:nvSpPr>
          <p:cNvPr id="474" name="矩形 13"/>
          <p:cNvSpPr/>
          <p:nvPr/>
        </p:nvSpPr>
        <p:spPr>
          <a:xfrm>
            <a:off x="0" y="1155600"/>
            <a:ext cx="9140760" cy="2140200"/>
          </a:xfrm>
          <a:prstGeom prst="rect">
            <a:avLst/>
          </a:prstGeom>
          <a:solidFill>
            <a:srgbClr val="d9d9d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5" name="图片 15" descr="8.png"/>
          <p:cNvPicPr/>
          <p:nvPr/>
        </p:nvPicPr>
        <p:blipFill>
          <a:blip r:embed="rId8"/>
          <a:srcRect l="0" t="4594" r="0" b="93600"/>
          <a:stretch/>
        </p:blipFill>
        <p:spPr>
          <a:xfrm>
            <a:off x="6480" y="10684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7" descr="8.png"/>
          <p:cNvPicPr/>
          <p:nvPr/>
        </p:nvPicPr>
        <p:blipFill>
          <a:blip r:embed="rId9"/>
          <a:srcRect l="0" t="4594" r="0" b="93600"/>
          <a:stretch/>
        </p:blipFill>
        <p:spPr>
          <a:xfrm>
            <a:off x="-14400" y="3232080"/>
            <a:ext cx="9142560" cy="125640"/>
          </a:xfrm>
          <a:prstGeom prst="rect">
            <a:avLst/>
          </a:prstGeom>
          <a:ln w="0">
            <a:noFill/>
          </a:ln>
        </p:spPr>
      </p:pic>
      <p:pic>
        <p:nvPicPr>
          <p:cNvPr id="477" name="TextBox 23" descr=""/>
          <p:cNvPicPr/>
          <p:nvPr/>
        </p:nvPicPr>
        <p:blipFill>
          <a:blip r:embed="rId10"/>
          <a:stretch/>
        </p:blipFill>
        <p:spPr>
          <a:xfrm>
            <a:off x="2682720" y="1359000"/>
            <a:ext cx="3760920" cy="1603440"/>
          </a:xfrm>
          <a:prstGeom prst="rect">
            <a:avLst/>
          </a:prstGeom>
          <a:ln w="0">
            <a:noFill/>
          </a:ln>
        </p:spPr>
      </p:pic>
      <p:sp>
        <p:nvSpPr>
          <p:cNvPr id="478" name="TextBox 24"/>
          <p:cNvSpPr/>
          <p:nvPr/>
        </p:nvSpPr>
        <p:spPr>
          <a:xfrm>
            <a:off x="3693600" y="266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anklin Gothic Book"/>
              </a:rPr>
              <a:t>报告人：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2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750"/>
                            </p:stCondLst>
                            <p:childTnLst>
                              <p:par>
                                <p:cTn id="5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750"/>
                            </p:stCondLst>
                            <p:childTnLst>
                              <p:par>
                                <p:cTn id="51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250"/>
                            </p:stCondLst>
                            <p:childTnLst>
                              <p:par>
                                <p:cTn id="52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6 L -2.5E-006 0.83449 E">
                                      <p:cBhvr>
                                        <p:cTn id="524" dur="175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-0.00052 0.76343 E">
                                      <p:cBhvr>
                                        <p:cTn id="526" dur="175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8" dur="1250" fill="hold"/>
                                        <p:tgtEl>
                                          <p:spTgt spid="4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30" dur="1250" fill="hold"/>
                                        <p:tgtEl>
                                          <p:spTgt spid="4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12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125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250"/>
                            </p:stCondLst>
                            <p:childTnLst>
                              <p:par>
                                <p:cTn id="5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31504 L 0 4.81481E-006 E">
                                      <p:cBhvr>
                                        <p:cTn id="548" dur="5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3155 L 0.00243 -0.00439 E">
                                      <p:cBhvr>
                                        <p:cTn id="550" dur="5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750"/>
                            </p:stCondLst>
                            <p:childTnLst>
                              <p:par>
                                <p:cTn id="55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9250"/>
                            </p:stCondLst>
                            <p:childTnLst>
                              <p:par>
                                <p:cTn id="55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5:31:44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5:45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