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22C1-D3E6-404D-B4CA-BD85D3249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2AB1-FA72-4117-AEBC-6DB24295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5CD-67EF-44C6-BE52-62C27ACA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F4E-F6E5-47B6-9E48-21A115707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D393-CA11-4B80-817F-78EA78D2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A2A5-AA78-4BB4-B89F-B607C0F5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5B4B8-D7F0-4D6E-BB6C-6676236B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3DF8-A1F2-4A31-905B-D4B1921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CA41-22AF-4D63-8B4D-A86A89D6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D90F-1B74-43A6-ABFD-D6908AEC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C16C4-0D79-4E6A-A5A0-A33CB7BA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42FB-1ED6-457C-BFB5-D384CD9C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94CD-3FC0-4C6B-A118-10B06718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E3BD-61E0-4DF4-ACD0-D8A7C685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09F3-9C61-47A0-A705-6F67ADA7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0A70-9E63-4A30-8350-38AD6ACC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46818-70CE-4162-A20E-B1D1DD60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B936-6B8F-4A4E-B6E3-89D8AA44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6AEC-3279-4C91-BCDD-95AF2B67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ECD-7FC6-4383-9F8D-776B9124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A0D3-C3DB-4991-AD55-E286F48F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943-A37F-424F-874F-B1698744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378-C0E9-45C5-B261-8E47CAE46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DDC-EAF7-4B88-A04B-AE652307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9877-9319-4AC5-8A04-C505FD2A2B1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1291-6A8B-4A5D-8B8A-DA9A744D76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27DA-0DE3-42FE-AA01-29DC7D80120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75A8-0E86-497E-AE01-0BFE54A29C6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3857760" y="52149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427640" y="630864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复古特色及相关类别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907280" y="549360"/>
            <a:ext cx="53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复古牛皮纸的田园风格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1353240" y="1857240"/>
            <a:ext cx="78984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4382b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385488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85668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3854880" y="420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5"/>
          <p:cNvSpPr/>
          <p:nvPr/>
        </p:nvSpPr>
        <p:spPr>
          <a:xfrm>
            <a:off x="1031400" y="2858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4382b"/>
                </a:solidFill>
                <a:latin typeface="微软雅黑"/>
                <a:ea typeface="微软雅黑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8"/>
          <p:cNvSpPr/>
          <p:nvPr/>
        </p:nvSpPr>
        <p:spPr>
          <a:xfrm>
            <a:off x="4000680" y="1714680"/>
            <a:ext cx="95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9"/>
          <p:cNvSpPr/>
          <p:nvPr/>
        </p:nvSpPr>
        <p:spPr>
          <a:xfrm>
            <a:off x="3933000" y="4714920"/>
            <a:ext cx="58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27136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49266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1102680" y="214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4382b"/>
                </a:solidFill>
                <a:latin typeface="微软雅黑"/>
                <a:ea typeface="微软雅黑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49266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5"/>
          <p:cNvSpPr/>
          <p:nvPr/>
        </p:nvSpPr>
        <p:spPr>
          <a:xfrm>
            <a:off x="271188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1"/>
          <p:cNvSpPr/>
          <p:nvPr/>
        </p:nvSpPr>
        <p:spPr>
          <a:xfrm>
            <a:off x="1031400" y="2142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4382b"/>
                </a:solidFill>
                <a:latin typeface="微软雅黑"/>
                <a:ea typeface="微软雅黑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914120" y="3286080"/>
            <a:ext cx="7290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3286080" y="3214800"/>
            <a:ext cx="355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4286160" y="3214800"/>
            <a:ext cx="42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 flipH="1">
            <a:off x="5429160" y="3246480"/>
            <a:ext cx="4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2404800" y="25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7"/>
          <p:cNvSpPr/>
          <p:nvPr/>
        </p:nvSpPr>
        <p:spPr>
          <a:xfrm>
            <a:off x="3503160" y="25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4574880" y="25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9"/>
          <p:cNvSpPr/>
          <p:nvPr/>
        </p:nvSpPr>
        <p:spPr>
          <a:xfrm>
            <a:off x="5619240" y="25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1761120" y="23572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1031400" y="3729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4382b"/>
                </a:solidFill>
                <a:latin typeface="微软雅黑"/>
                <a:ea typeface="微软雅黑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"/>
          <p:cNvSpPr/>
          <p:nvPr/>
        </p:nvSpPr>
        <p:spPr>
          <a:xfrm>
            <a:off x="2975400" y="37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4"/>
          <p:cNvSpPr/>
          <p:nvPr/>
        </p:nvSpPr>
        <p:spPr>
          <a:xfrm>
            <a:off x="411840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6510960" y="2344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5261400" y="3773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199"/>
          <p:cNvSpPr/>
          <p:nvPr/>
        </p:nvSpPr>
        <p:spPr>
          <a:xfrm>
            <a:off x="1692360" y="5373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9955-DC2D-488D-B190-1A530DBFB4B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1"/>
          <p:cNvSpPr/>
          <p:nvPr/>
        </p:nvSpPr>
        <p:spPr>
          <a:xfrm>
            <a:off x="1102680" y="3016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4382b"/>
                </a:solidFill>
                <a:latin typeface="微软雅黑"/>
                <a:ea typeface="微软雅黑"/>
              </a:rPr>
              <a:t>添加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"/>
          <p:cNvSpPr/>
          <p:nvPr/>
        </p:nvSpPr>
        <p:spPr>
          <a:xfrm>
            <a:off x="42138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"/>
          <p:cNvSpPr/>
          <p:nvPr/>
        </p:nvSpPr>
        <p:spPr>
          <a:xfrm>
            <a:off x="421380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4"/>
          <p:cNvSpPr/>
          <p:nvPr/>
        </p:nvSpPr>
        <p:spPr>
          <a:xfrm>
            <a:off x="42120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4:46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