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667-8ACE-4929-B268-3B25F358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D593-225B-4AC3-88F1-BC2F5B38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3837-6F6C-4673-9746-1D4D109B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272-E604-402D-A152-4AE47320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4F22-4270-429D-9CE2-597DD350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672F-351A-4D4A-A6CE-D4DBD05E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2A79-CFF2-4B26-8785-AFC7D5ED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EE7A-1104-4C7A-9674-2AA8487A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B3F4-877F-4F53-BD5F-7ADA754C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086F-20F9-4329-9F59-40E80F56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60DE-EF83-461B-AB45-633629FB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FDF7-A628-4C00-9B3F-7A56C1DB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692A-3C3F-40C7-9FC7-6FE550F9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E89F-9F1E-40ED-87A6-AFF5FFA0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0B53-4B0F-4A19-ACA1-F43CA19A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82BC-9F1D-45B5-A59B-CBB82DCB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F6BE-762B-4E69-90B6-CB0C7008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4987-C9A1-491F-82ED-7CDFE940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52E-5E75-4427-8ED5-9F1B5DFB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3B4-CBC9-4C5F-B54A-7A72C6FC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A78-64E9-488C-A22B-68F94F65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B92-8F6E-44A0-8120-C3CB791A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674F-1B19-4281-8F4F-8AC4DDDB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D7C-252C-4246-A50E-8E756A1D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CB81-2825-4448-BEF6-248E5C34EA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4CA3-A925-4496-BB1C-4957BA98146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5E4E-B6C9-4097-BE1E-F6CEBB01856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task3.cc/projects/pomodroid/" TargetMode="External"/><Relationship Id="rId3" Type="http://schemas.openxmlformats.org/officeDocument/2006/relationships/image" Target="../media/image9.png"/><Relationship Id="rId4" Type="http://schemas.openxmlformats.org/officeDocument/2006/relationships/hyperlink" Target="http://www.xoring.com/" TargetMode="External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hyperlink" Target="http://itunes.apple.com/us/app/promodoro/id359028017?mt=8" TargetMode="External"/><Relationship Id="rId8" Type="http://schemas.openxmlformats.org/officeDocument/2006/relationships/image" Target="../media/image10.png"/><Relationship Id="rId9" Type="http://schemas.openxmlformats.org/officeDocument/2006/relationships/hyperlink" Target="http://www.xoring.com/" TargetMode="External"/><Relationship Id="rId10" Type="http://schemas.openxmlformats.org/officeDocument/2006/relationships/hyperlink" Target="http://itunes.apple.com/us/app/promodoro/id359028017?mt=8" TargetMode="External"/><Relationship Id="rId11" Type="http://schemas.openxmlformats.org/officeDocument/2006/relationships/hyperlink" Target="http://task3.cc/projects/pomodroid/" TargetMode="Externa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3073"/>
          <p:cNvSpPr/>
          <p:nvPr/>
        </p:nvSpPr>
        <p:spPr>
          <a:xfrm>
            <a:off x="2225520" y="36450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88835"/>
                </a:solidFill>
                <a:latin typeface="Arial"/>
                <a:ea typeface="黑体"/>
              </a:rPr>
              <a:t>番茄工作法</a:t>
            </a:r>
            <a:r>
              <a:rPr b="1" lang="zh-CN" sz="4000" spc="-1" strike="noStrike">
                <a:solidFill>
                  <a:srgbClr val="f88835"/>
                </a:solidFill>
                <a:latin typeface="Arial"/>
                <a:ea typeface="黑体"/>
              </a:rPr>
              <a:t>PPT</a:t>
            </a:r>
            <a:r>
              <a:rPr b="1" lang="zh-CN" sz="4000" spc="-1" strike="noStrike">
                <a:solidFill>
                  <a:srgbClr val="f88835"/>
                </a:solidFill>
                <a:latin typeface="Arial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074"/>
          <p:cNvSpPr/>
          <p:nvPr/>
        </p:nvSpPr>
        <p:spPr>
          <a:xfrm>
            <a:off x="4556160" y="200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2772000" y="4191120"/>
            <a:ext cx="372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ulim"/>
                <a:ea typeface="Gulim"/>
              </a:rPr>
              <a:t>pomo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108000" y="63086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097" descr="标题4底纹"/>
          <p:cNvPicPr/>
          <p:nvPr/>
        </p:nvPicPr>
        <p:blipFill>
          <a:blip r:embed="rId2"/>
          <a:stretch/>
        </p:blipFill>
        <p:spPr>
          <a:xfrm>
            <a:off x="685800" y="4572000"/>
            <a:ext cx="6039000" cy="15652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098" descr="标题3底纹"/>
          <p:cNvPicPr/>
          <p:nvPr/>
        </p:nvPicPr>
        <p:blipFill>
          <a:blip r:embed="rId3"/>
          <a:stretch/>
        </p:blipFill>
        <p:spPr>
          <a:xfrm>
            <a:off x="1752480" y="3429000"/>
            <a:ext cx="6056280" cy="16621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4099" descr="标题2底纹"/>
          <p:cNvPicPr/>
          <p:nvPr/>
        </p:nvPicPr>
        <p:blipFill>
          <a:blip r:embed="rId4"/>
          <a:stretch/>
        </p:blipFill>
        <p:spPr>
          <a:xfrm>
            <a:off x="2514600" y="2362320"/>
            <a:ext cx="6095880" cy="161424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4100"/>
          <p:cNvSpPr/>
          <p:nvPr/>
        </p:nvSpPr>
        <p:spPr>
          <a:xfrm>
            <a:off x="5115960" y="320040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8835"/>
                </a:solidFill>
                <a:latin typeface="黑体"/>
                <a:ea typeface="黑体"/>
              </a:rPr>
              <a:t>唤醒激励 持久激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4101"/>
          <p:cNvSpPr/>
          <p:nvPr/>
        </p:nvSpPr>
        <p:spPr>
          <a:xfrm>
            <a:off x="3972960" y="4267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8835"/>
                </a:solidFill>
                <a:latin typeface="黑体"/>
                <a:ea typeface="黑体"/>
              </a:rPr>
              <a:t>减轻焦虑 减少中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4102"/>
          <p:cNvSpPr/>
          <p:nvPr/>
        </p:nvSpPr>
        <p:spPr>
          <a:xfrm>
            <a:off x="2813040" y="533412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8835"/>
                </a:solidFill>
                <a:latin typeface="黑体"/>
                <a:ea typeface="黑体"/>
              </a:rPr>
              <a:t>完善流程预估 精确质量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103" descr="标题1底纹"/>
          <p:cNvPicPr/>
          <p:nvPr/>
        </p:nvPicPr>
        <p:blipFill>
          <a:blip r:embed="rId5"/>
          <a:stretch/>
        </p:blipFill>
        <p:spPr>
          <a:xfrm>
            <a:off x="1371600" y="1371600"/>
            <a:ext cx="6119640" cy="1424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99840" y="159984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8835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f88835"/>
                </a:solidFill>
                <a:latin typeface="黑体"/>
                <a:ea typeface="黑体"/>
              </a:rPr>
              <a:t>唤醒激励 持久激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5121" descr="叙述段落"/>
          <p:cNvPicPr/>
          <p:nvPr/>
        </p:nvPicPr>
        <p:blipFill>
          <a:blip r:embed="rId2"/>
          <a:stretch/>
        </p:blipFill>
        <p:spPr>
          <a:xfrm>
            <a:off x="-225360" y="-606600"/>
            <a:ext cx="9750240" cy="761688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5122"/>
          <p:cNvSpPr/>
          <p:nvPr/>
        </p:nvSpPr>
        <p:spPr>
          <a:xfrm>
            <a:off x="3777840" y="3276720"/>
            <a:ext cx="25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一个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番茄，</a:t>
            </a: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5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分钟工作和五分钟休息。每四个番茄插入一个</a:t>
            </a:r>
            <a:r>
              <a:rPr b="0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5-30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分钟休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单个番茄不可分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无论番茄进行到第几分钟，一旦打断标上点号，一旦中断，番茄作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5123"/>
          <p:cNvSpPr/>
          <p:nvPr/>
        </p:nvSpPr>
        <p:spPr>
          <a:xfrm>
            <a:off x="2043720" y="4114800"/>
            <a:ext cx="4021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预估一件工作的番茄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将复杂的工作分割为小的事情，将简单的工作合并为打的事情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用一个个完整的番茄去完成它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坚持计划，守护番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不要将番茄用于休息，要享受生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5124"/>
          <p:cNvSpPr/>
          <p:nvPr/>
        </p:nvSpPr>
        <p:spPr>
          <a:xfrm>
            <a:off x="6051960" y="1676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番茄让我们做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125"/>
          <p:cNvSpPr/>
          <p:nvPr/>
        </p:nvSpPr>
        <p:spPr>
          <a:xfrm>
            <a:off x="5561640" y="144792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’S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MO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6145" descr="过渡图像"/>
          <p:cNvPicPr/>
          <p:nvPr/>
        </p:nvPicPr>
        <p:blipFill>
          <a:blip r:embed="rId2"/>
          <a:stretch/>
        </p:blipFill>
        <p:spPr>
          <a:xfrm>
            <a:off x="-320760" y="44280"/>
            <a:ext cx="9750600" cy="762012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6146"/>
          <p:cNvSpPr/>
          <p:nvPr/>
        </p:nvSpPr>
        <p:spPr>
          <a:xfrm>
            <a:off x="1751400" y="3886200"/>
            <a:ext cx="59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Gulim"/>
                <a:ea typeface="Gulim"/>
              </a:rPr>
              <a:t>LINK PAGE NEX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6147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7169" descr="方型底纹横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3657600"/>
            <a:ext cx="2968560" cy="25322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7170" descr="方型底纹竖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380880"/>
            <a:ext cx="2709720" cy="30481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7171" descr="图标"/>
          <p:cNvPicPr/>
          <p:nvPr/>
        </p:nvPicPr>
        <p:blipFill>
          <a:blip r:embed="rId6"/>
          <a:stretch/>
        </p:blipFill>
        <p:spPr>
          <a:xfrm>
            <a:off x="2743200" y="3809880"/>
            <a:ext cx="1766880" cy="202428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7172" descr="方型底纹竖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00200" y="914400"/>
            <a:ext cx="2709720" cy="304812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7173"/>
          <p:cNvSpPr/>
          <p:nvPr/>
        </p:nvSpPr>
        <p:spPr>
          <a:xfrm>
            <a:off x="5508720" y="109692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7174">
            <a:hlinkClick r:id="rId9"/>
          </p:cNvPr>
          <p:cNvSpPr/>
          <p:nvPr/>
        </p:nvSpPr>
        <p:spPr>
          <a:xfrm>
            <a:off x="5335920" y="1355760"/>
            <a:ext cx="8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8835"/>
                </a:solidFill>
                <a:latin typeface="Arial"/>
              </a:rPr>
              <a:t>P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7175">
            <a:hlinkClick r:id="rId10"/>
          </p:cNvPr>
          <p:cNvSpPr/>
          <p:nvPr/>
        </p:nvSpPr>
        <p:spPr>
          <a:xfrm>
            <a:off x="2424240" y="197496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8835"/>
                </a:solidFill>
                <a:latin typeface="Arial"/>
              </a:rPr>
              <a:t>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7176">
            <a:hlinkClick r:id="rId11"/>
          </p:cNvPr>
          <p:cNvSpPr/>
          <p:nvPr/>
        </p:nvSpPr>
        <p:spPr>
          <a:xfrm>
            <a:off x="5334120" y="4419720"/>
            <a:ext cx="204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8835"/>
                </a:solidFill>
                <a:latin typeface="Arial"/>
              </a:rPr>
              <a:t>andro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75AE-88DB-496E-9181-B282D8C78C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8193"/>
          <p:cNvSpPr/>
          <p:nvPr/>
        </p:nvSpPr>
        <p:spPr>
          <a:xfrm>
            <a:off x="609480" y="1752480"/>
            <a:ext cx="5213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8194"/>
          <p:cNvSpPr/>
          <p:nvPr/>
        </p:nvSpPr>
        <p:spPr>
          <a:xfrm>
            <a:off x="4730040" y="3200400"/>
            <a:ext cx="20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鸣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…………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。。。。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。。。。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8195"/>
          <p:cNvSpPr/>
          <p:nvPr/>
        </p:nvSpPr>
        <p:spPr>
          <a:xfrm>
            <a:off x="3205080" y="510120"/>
            <a:ext cx="118584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88835"/>
                </a:solidFill>
                <a:latin typeface="Arial"/>
                <a:ea typeface="黑体"/>
              </a:rPr>
              <a:t>谢谢观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8196"/>
          <p:cNvSpPr/>
          <p:nvPr/>
        </p:nvSpPr>
        <p:spPr>
          <a:xfrm>
            <a:off x="4068720" y="1417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05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