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106-EF7C-4A73-A078-290897D1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717-47E3-4090-A43D-97DCF866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FEE-A441-4642-B7AF-EE3AE0DE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444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5992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9444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5992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43E-A5B7-4A13-9D9F-346C5616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D73F-9967-48B5-B901-EC7C4E3C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C600-0D7F-4FA1-B638-27425167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3F3E-7147-42C5-8A81-F9AF4AC1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A549-B717-43AB-9917-225415B3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8527-BF20-4BB9-8FC9-172EFA29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5943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1AFD-31E0-4FA7-8094-9766A1BD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A4D5-0122-4BE6-9DA4-366B9383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92C-89CF-49E9-A05D-80DFD994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6A87-BA9A-4486-8523-4390DB3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7FCA-55FA-4459-9A1A-DF04C00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DCAB-6A8A-486A-8CBA-8223100E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7A84-870E-43DA-8F38-BE0A735B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9444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5992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59444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95992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E508-B88C-4FFF-AAF7-7B9C96C1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9480-9F5F-4942-A13C-41E78EA9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3DF1-BC11-43EE-918A-48C95EF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8CEF-E038-4982-9C14-86ED5BC1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66EA-5FA3-4BD7-B403-B774D5FC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7AF6-20D2-48C5-A79C-95A86273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EBA-C069-4F4F-8B6A-E896BD43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5943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7A6BA-C62D-4695-A4EC-5A557160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0824-02F5-4A23-A74A-40E46F9A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442F-A81F-43B6-B1F5-865288D6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2050-FF09-48FE-A412-91AAA73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54A3-CAF7-41C4-9557-03EF5713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C2F9C-D03D-4D3E-A9C0-464591B7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59444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959920" y="213372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59444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2959920" y="3049560"/>
            <a:ext cx="130032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8A7F-47C8-46B4-8EAC-170CBFBC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EDA-C205-4140-AE2D-54D8CD0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47E-3339-442C-A1E2-3C6A845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609480"/>
            <a:ext cx="5943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214-BB6A-4D22-992A-F0BD16C9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A2C-53C0-4040-A8FA-C84C7D5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98240" y="304956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CCA-EF3E-4F32-BF1A-CD01CA2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98240" y="2133720"/>
            <a:ext cx="197064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049560"/>
            <a:ext cx="4038480" cy="83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ED8-F33A-46FA-A151-65ED696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8276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2680" indent="-148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40040" indent="-148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37040" indent="-14832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37040" indent="-148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37040" indent="-148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46E2-EF96-4E0C-8C7B-220C3A09D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1E81-56AC-4200-AE12-4BE443BF0EF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674E-40D8-49B0-B503-515B61A302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2133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82760" indent="-185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2680" indent="-148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40040" indent="-148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37040" indent="-14832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37040" indent="-148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37040" indent="-148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B88F-F815-42B6-8E43-BDF04F63A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Eras Bold ITC"/>
              </a:rPr>
              <a:t>骨骼摩擦</a:t>
            </a:r>
            <a:r>
              <a:rPr b="0" lang="zh-CN" sz="4000" spc="-1" strike="noStrike">
                <a:solidFill>
                  <a:srgbClr val="ffffff"/>
                </a:solidFill>
                <a:latin typeface="Eras Bold ITC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Eras Bold ITC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Eras Bold ITC"/>
                <a:ea typeface="宋体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1752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Bold ITC"/>
              </a:rPr>
              <a:t>Click to add sub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6324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add own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320" y="609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7170"/>
          <p:cNvSpPr/>
          <p:nvPr/>
        </p:nvSpPr>
        <p:spPr>
          <a:xfrm>
            <a:off x="1523880" y="20574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0C2F-CB47-4B9E-8BED-9964948AF4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内容占位符 8194" descr="skeletal_friction_qx"/>
          <p:cNvPicPr/>
          <p:nvPr/>
        </p:nvPicPr>
        <p:blipFill>
          <a:blip r:embed="rId1"/>
          <a:stretch/>
        </p:blipFill>
        <p:spPr>
          <a:xfrm>
            <a:off x="762120" y="1523880"/>
            <a:ext cx="3043080" cy="2283120"/>
          </a:xfrm>
          <a:prstGeom prst="rect">
            <a:avLst/>
          </a:prstGeom>
          <a:ln w="0">
            <a:noFill/>
          </a:ln>
        </p:spPr>
      </p:pic>
      <p:pic>
        <p:nvPicPr>
          <p:cNvPr id="137" name="内容占位符 8195" descr="skeletal_friction_sld"/>
          <p:cNvPicPr/>
          <p:nvPr/>
        </p:nvPicPr>
        <p:blipFill>
          <a:blip r:embed="rId2"/>
          <a:stretch/>
        </p:blipFill>
        <p:spPr>
          <a:xfrm>
            <a:off x="4038480" y="1523880"/>
            <a:ext cx="3043440" cy="2283120"/>
          </a:xfrm>
          <a:prstGeom prst="rect">
            <a:avLst/>
          </a:prstGeom>
          <a:ln w="0">
            <a:noFill/>
          </a:ln>
        </p:spPr>
      </p:pic>
      <p:pic>
        <p:nvPicPr>
          <p:cNvPr id="138" name="内容占位符 8196" descr="skeletal_friction_prt"/>
          <p:cNvPicPr/>
          <p:nvPr/>
        </p:nvPicPr>
        <p:blipFill>
          <a:blip r:embed="rId3"/>
          <a:stretch/>
        </p:blipFill>
        <p:spPr>
          <a:xfrm>
            <a:off x="4038480" y="4038480"/>
            <a:ext cx="3043440" cy="2283120"/>
          </a:xfrm>
          <a:prstGeom prst="rect">
            <a:avLst/>
          </a:prstGeom>
          <a:ln w="0">
            <a:noFill/>
          </a:ln>
        </p:spPr>
      </p:pic>
      <p:pic>
        <p:nvPicPr>
          <p:cNvPr id="139" name="内容占位符 8197" descr="skeletal_friction_trs"/>
          <p:cNvPicPr/>
          <p:nvPr/>
        </p:nvPicPr>
        <p:blipFill>
          <a:blip r:embed="rId4"/>
          <a:stretch/>
        </p:blipFill>
        <p:spPr>
          <a:xfrm>
            <a:off x="762120" y="4038480"/>
            <a:ext cx="304308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2T23:43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9:14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