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312-2F4D-4FA9-863E-76AE73B1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73A-7519-4EE5-A958-3E5E032C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FFC-8071-40D5-8677-2941C40F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C3A-6154-467A-894B-5F990210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5473-ED5F-45B3-8FD2-AC9668FC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9D4D-559C-4626-AA96-B2389579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104E-1D44-4D4E-AE8D-ADBC8D9B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4C35-67FF-4CED-9B94-599D6A8C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4EA3-C0F6-4F07-953D-A69AEE8B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43FC-9403-4948-9149-261805E8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3FD2-B474-4C65-BC96-EF3D3DE1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DBB-D6F1-4472-8BE2-E33252B0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6DAD-1D54-4C07-B74C-5758FCA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2DF4-E029-41D0-BCCE-779B0269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2533-0BB1-4895-83D2-C6FF50C5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96EE-60AB-48BF-A98B-833A38EF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2B56-F007-4E31-B779-4EEB7DF6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0A6-3F4A-4CA2-AE69-B4C183DF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C68C-3359-4983-A56C-B6E8D54F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9A0-5B6B-46FE-93AC-1E340DEB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3BC-56E5-4D17-B27B-8416503E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D23-5620-4AB8-8182-A2BDC878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73C-2079-448E-8C61-5C41B7F5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752-C28F-4291-995D-04E50524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146E-5BE6-440F-A49D-FB6BCF2C925C}" type="slidenum">
              <a:rPr b="0" lang="zh-CN" sz="9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8BC3-5A9D-4E48-9287-AE50116F99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 rot="21232200">
            <a:off x="443880" y="7239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你的工作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=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度假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 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099"/>
          <p:cNvSpPr/>
          <p:nvPr/>
        </p:nvSpPr>
        <p:spPr>
          <a:xfrm>
            <a:off x="2507760" y="3860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给工作度个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 rot="316800">
            <a:off x="440280" y="1379520"/>
            <a:ext cx="8839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华文琥珀"/>
                <a:ea typeface="华文琥珀"/>
              </a:rPr>
              <a:t>做一个快乐的工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Kozuka Gothic Pr6N EL"/>
                <a:ea typeface="Kozuka Gothic Pr6N E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 rot="21157200">
            <a:off x="3080880" y="3366720"/>
            <a:ext cx="56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华文琥珀"/>
                <a:ea typeface="华文琥珀"/>
              </a:rPr>
              <a:t>做一个工作像度假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5123"/>
          <p:cNvSpPr/>
          <p:nvPr/>
        </p:nvSpPr>
        <p:spPr>
          <a:xfrm>
            <a:off x="5572080" y="4629240"/>
            <a:ext cx="33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.downh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"/>
          <p:cNvSpPr/>
          <p:nvPr/>
        </p:nvSpPr>
        <p:spPr>
          <a:xfrm>
            <a:off x="3456000" y="54936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Adobe Gothic Std B"/>
                <a:ea typeface="Adobe Gothic Std B"/>
              </a:rPr>
              <a:t>NO</a:t>
            </a:r>
            <a:r>
              <a:rPr b="0" lang="zh-CN" sz="4000" spc="-1" strike="noStrike">
                <a:solidFill>
                  <a:srgbClr val="404040"/>
                </a:solidFill>
                <a:latin typeface="Kozuka Gothic Pro B"/>
                <a:ea typeface="Kozuka Gothic Pro B"/>
              </a:rPr>
              <a:t>抱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692600" y="1614600"/>
            <a:ext cx="40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040"/>
                </a:solidFill>
                <a:latin typeface="Kozuka Gothic Pr6N EL"/>
                <a:ea typeface="Kozuka Gothic Pr6N EL"/>
              </a:rPr>
              <a:t>Let’s 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47"/>
          <p:cNvSpPr/>
          <p:nvPr/>
        </p:nvSpPr>
        <p:spPr>
          <a:xfrm>
            <a:off x="3203640" y="4653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3492360" y="625140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be or not to be, to do or </a:t>
            </a: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不想</a:t>
            </a: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do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 rot="915600">
            <a:off x="2017440" y="233676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你的工作像度假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7A5B-40F7-4C21-A92D-25A2DD77E216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179280" y="4215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成就感——忘记工作的抱怨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2997000" y="1989000"/>
            <a:ext cx="47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那种感觉绝对比度假要舒服</a:t>
            </a:r>
            <a:r>
              <a:rPr b="1" lang="en-US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N</a:t>
            </a: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49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