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8444-C95C-487B-810C-18D7F2BB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9B38-5220-4DC3-9A33-A6AB0F5A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3E54-DFEC-4DD3-8A7D-1ACEBBCE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6960-7A33-45FC-BC17-8F7D36EE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0E08-B6AD-452E-97EC-1487F3D7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418B-BA73-4258-A03F-3DB84EDF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69BB-C8B7-4780-826C-BF4E7106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8B41-7D21-4CCE-BBB1-22B8E442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AF4A-5DDE-41E9-8101-7B611065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9CB9-80B0-42A2-BCD5-65430877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394B-6EF8-4623-98C4-59812F23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B5AB-DFDD-4CAE-9302-9D5FEFE2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3B15-549E-44A0-981E-42225B53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7924-5DED-4EB0-8B1D-0C07DA1D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CF51-3BF2-4CB6-A1A1-D69C27B2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8DF0-EB59-4665-8439-D31AB20B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ECC6-587E-45DA-A828-FA6B93A5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EDDC-2432-4A96-B914-0688A1D7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39DB-FED6-4619-BBC1-317AAF86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21F8-D5E9-41A9-9F92-A5FFE4D3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061E-3D44-499F-989C-277F360D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D582-2EC5-491E-A773-02C578B6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87E9-A6CF-4971-9D3D-19A2F46D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BF70-3C71-4FBE-B267-A88A4440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622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1280" indent="-1054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43280" indent="-148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43280" indent="-148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43280" indent="-148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E4A9D-D4B6-4B52-AA51-F27BDDE2CD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6E056-C5E4-43B1-B015-876D2EEE84C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074D4-42BD-4C28-877A-CF1911921B7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072" descr=""/>
          <p:cNvPicPr/>
          <p:nvPr/>
        </p:nvPicPr>
        <p:blipFill>
          <a:blip r:embed="rId1"/>
          <a:stretch/>
        </p:blipFill>
        <p:spPr>
          <a:xfrm>
            <a:off x="396720" y="0"/>
            <a:ext cx="937260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0720" y="1137960"/>
            <a:ext cx="76104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国外爱心公益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2288" descr=""/>
          <p:cNvPicPr/>
          <p:nvPr/>
        </p:nvPicPr>
        <p:blipFill>
          <a:blip r:embed="rId1"/>
          <a:stretch/>
        </p:blipFill>
        <p:spPr>
          <a:xfrm>
            <a:off x="287280" y="0"/>
            <a:ext cx="96012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BB385-CBB3-4C36-9BE2-B7597DDA936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3312" descr=""/>
          <p:cNvPicPr/>
          <p:nvPr/>
        </p:nvPicPr>
        <p:blipFill>
          <a:blip r:embed="rId1"/>
          <a:stretch/>
        </p:blipFill>
        <p:spPr>
          <a:xfrm>
            <a:off x="216000" y="0"/>
            <a:ext cx="96012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4096" descr=""/>
          <p:cNvPicPr/>
          <p:nvPr/>
        </p:nvPicPr>
        <p:blipFill>
          <a:blip r:embed="rId1"/>
          <a:stretch/>
        </p:blipFill>
        <p:spPr>
          <a:xfrm>
            <a:off x="863640" y="0"/>
            <a:ext cx="84582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5120" descr=""/>
          <p:cNvPicPr/>
          <p:nvPr/>
        </p:nvPicPr>
        <p:blipFill>
          <a:blip r:embed="rId1"/>
          <a:stretch/>
        </p:blipFill>
        <p:spPr>
          <a:xfrm>
            <a:off x="971640" y="0"/>
            <a:ext cx="822960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8197"/>
          <p:cNvSpPr/>
          <p:nvPr/>
        </p:nvSpPr>
        <p:spPr>
          <a:xfrm>
            <a:off x="3095640" y="108000"/>
            <a:ext cx="582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6144" descr=""/>
          <p:cNvPicPr/>
          <p:nvPr/>
        </p:nvPicPr>
        <p:blipFill>
          <a:blip r:embed="rId1"/>
          <a:stretch/>
        </p:blipFill>
        <p:spPr>
          <a:xfrm>
            <a:off x="144360" y="0"/>
            <a:ext cx="9829800" cy="7559640"/>
          </a:xfrm>
          <a:prstGeom prst="rect">
            <a:avLst/>
          </a:prstGeom>
          <a:ln w="0">
            <a:noFill/>
          </a:ln>
        </p:spPr>
      </p:pic>
      <p:sp>
        <p:nvSpPr>
          <p:cNvPr id="88" name="矩形 6146"/>
          <p:cNvSpPr/>
          <p:nvPr/>
        </p:nvSpPr>
        <p:spPr>
          <a:xfrm>
            <a:off x="3388320" y="3606840"/>
            <a:ext cx="2529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材天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caitianxi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7168" descr=""/>
          <p:cNvPicPr/>
          <p:nvPr/>
        </p:nvPicPr>
        <p:blipFill>
          <a:blip r:embed="rId1"/>
          <a:stretch/>
        </p:blipFill>
        <p:spPr>
          <a:xfrm>
            <a:off x="0" y="395280"/>
            <a:ext cx="100807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矩形 7170"/>
          <p:cNvSpPr/>
          <p:nvPr/>
        </p:nvSpPr>
        <p:spPr>
          <a:xfrm>
            <a:off x="3388320" y="3606840"/>
            <a:ext cx="2529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材天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caitianxi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8197"/>
          <p:cNvSpPr/>
          <p:nvPr/>
        </p:nvSpPr>
        <p:spPr>
          <a:xfrm>
            <a:off x="1943280" y="828720"/>
            <a:ext cx="582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8192" descr=""/>
          <p:cNvPicPr/>
          <p:nvPr/>
        </p:nvPicPr>
        <p:blipFill>
          <a:blip r:embed="rId1"/>
          <a:stretch/>
        </p:blipFill>
        <p:spPr>
          <a:xfrm>
            <a:off x="792000" y="0"/>
            <a:ext cx="84582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9216" descr=""/>
          <p:cNvPicPr/>
          <p:nvPr/>
        </p:nvPicPr>
        <p:blipFill>
          <a:blip r:embed="rId1"/>
          <a:stretch/>
        </p:blipFill>
        <p:spPr>
          <a:xfrm>
            <a:off x="0" y="9360"/>
            <a:ext cx="10058400" cy="755028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8197"/>
          <p:cNvSpPr/>
          <p:nvPr/>
        </p:nvSpPr>
        <p:spPr>
          <a:xfrm>
            <a:off x="2303640" y="395280"/>
            <a:ext cx="582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0240" descr=""/>
          <p:cNvPicPr/>
          <p:nvPr/>
        </p:nvPicPr>
        <p:blipFill>
          <a:blip r:embed="rId1"/>
          <a:stretch/>
        </p:blipFill>
        <p:spPr>
          <a:xfrm>
            <a:off x="793800" y="0"/>
            <a:ext cx="81914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1264" descr=""/>
          <p:cNvPicPr/>
          <p:nvPr/>
        </p:nvPicPr>
        <p:blipFill>
          <a:blip r:embed="rId1"/>
          <a:stretch/>
        </p:blipFill>
        <p:spPr>
          <a:xfrm>
            <a:off x="503280" y="-190440"/>
            <a:ext cx="9144000" cy="775008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8197"/>
          <p:cNvSpPr/>
          <p:nvPr/>
        </p:nvSpPr>
        <p:spPr>
          <a:xfrm>
            <a:off x="2664000" y="468360"/>
            <a:ext cx="582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9T07:41:5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57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