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2CB-1339-437F-A25E-A356ED91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5524-E4B6-4621-A451-919449B5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4C60-6662-4354-A4A7-B8D36063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1D8-E14C-4F44-92D6-F3B2567C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D886-3C2F-4F96-A41A-834A1245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E32D-87C1-4D8B-BA42-63BC5F81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D98A-A296-4AB1-A9AA-57CE45C3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3D01-3466-488B-87A7-4EB8EA11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C5C1-F3BD-4E94-ADBF-D5245A6E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A31F-DA66-40BC-B5BE-9DCD34E6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546A-F2DC-4345-A70A-4BD9CAAA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C06-F5E9-4A72-8F58-59D44A08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36FD-E0E2-48DE-A76D-117BEF77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160A-5855-4C2C-83EE-FB10F0B6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FBD4-2773-4CDA-BAB0-7C9AB30F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A8AB-39FB-40AB-9784-73A39111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F976-5C9E-41EB-ADBB-8C64C7D8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33771-53E3-4375-9FC6-02D2FB29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F5F46-01AB-43FB-8537-6AE579E0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CA96A-29D0-4A82-928A-69A67368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CBC72-0956-4FA6-B3E2-75FC9DBE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9E31A-6BC8-4C3A-9358-C5FEA327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AC10-F644-4AFD-89E1-916921E6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F5D51-EF7F-4C44-85A4-647E22B9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AB42F-A14F-4F66-85EC-B7160E59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592F7-11D5-4B04-9E29-8461F29D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3F02C-99DF-42FD-993B-93A12F74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CF16E-341D-4FDA-83D7-77AA6FE2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588AA-B82E-4BD7-8306-61B6C114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6BE44-D829-4579-ADDA-FFF70565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1EF54-604E-4026-BDF4-DACBEBCD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F703F-479B-47E3-BEAE-1877209E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20CF6-7547-4F44-9023-CF48948E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8C6-61F4-423B-B9C0-3F78FE9F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DF5DF-A683-4151-B161-E05727A9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D38E5-01B3-4B15-8C83-7FF26E4A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DFB17-BB28-4319-900C-50406A50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52433-DD2F-4005-9890-D36A740F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ECF11-9451-4FA3-BA46-10597853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3D18F-6707-4D04-8523-F72EED27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31889-0ABE-497E-AA57-17ABE3E6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79E9F-AD1E-4BC7-9D47-CA78DCED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B7954-B567-4A4B-A733-AA5C7798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98429-30C2-4DB5-8A88-C0F95062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096-59BD-49F4-8A2A-5DB67F47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B148D-8405-4F58-9EAF-60A7E02B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89332-562F-4021-9E49-8FC07671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D1D19-3C04-451D-98CB-F1C60B82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B5462-8021-478E-B50B-2067D02B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09095-2213-4A07-901D-DBBDE81F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EDD69-1696-40A8-967A-47976A1E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3BA27-1A37-4B01-A227-CBD18F4B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3DDAA-FE26-42CA-AE37-51B33489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82EBE-E524-421A-806F-2820708B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64FA3-3A77-401B-9C0D-9168EE8B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936-3976-4977-920F-CEEEEF1F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7F98A-1D4E-4773-BE03-41C6DAE8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5B2-4FDD-48FC-8BAA-EB964469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AC73-3492-437E-8493-13C8C36D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B401-5C0F-44EC-82F9-25A64382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9506">
                  <a:alpha val="30196"/>
                </a:srgbClr>
              </a:gs>
              <a:gs pos="100000">
                <a:srgbClr val="f4921f">
                  <a:alpha val="4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05BF-2544-4B3B-A61A-03058A7B696F}" type="datetime">
              <a:rPr b="0" lang="fr-FR" sz="1200" spc="-1" strike="noStrike">
                <a:solidFill>
                  <a:srgbClr val="404924"/>
                </a:solidFill>
                <a:latin typeface="Constant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40492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87CE-0084-4E40-A05D-57CFDCCE85BE}" type="slidenum">
              <a:rPr b="0" lang="fr-FR" sz="1200" spc="-1" strike="noStrike">
                <a:solidFill>
                  <a:srgbClr val="40492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文本框 1035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文本框 1038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9506">
                  <a:alpha val="30196"/>
                </a:srgbClr>
              </a:gs>
              <a:gs pos="100000">
                <a:srgbClr val="f4921f">
                  <a:alpha val="4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文本框 2054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文本框 2057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ac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2efc0"/>
                </a:solidFill>
                <a:latin typeface="Constanti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C1AF-C3B9-4C1C-84E2-ACED6FDDE15E}" type="datetime">
              <a:rPr b="0" lang="fr-FR" sz="1200" spc="-1" strike="noStrike">
                <a:solidFill>
                  <a:srgbClr val="f2efc0"/>
                </a:solidFill>
                <a:latin typeface="Constantia"/>
                <a:ea typeface="宋体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2efc0"/>
                </a:solidFill>
                <a:latin typeface="Constanti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F6FC-0A23-4E9E-A893-7389BFBB5510}" type="slidenum">
              <a:rPr b="0" lang="fr-FR" sz="1200" spc="-1" strike="noStrike">
                <a:solidFill>
                  <a:srgbClr val="f2efc0"/>
                </a:solidFill>
                <a:latin typeface="Constanti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9506">
                  <a:alpha val="30196"/>
                </a:srgbClr>
              </a:gs>
              <a:gs pos="100000">
                <a:srgbClr val="f4921f">
                  <a:alpha val="4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文本框 3078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文本框 3081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ac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efac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2efc0"/>
                </a:solidFill>
                <a:latin typeface="Constanti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F4D6-CE56-4B10-AF60-E08AC20FDC12}" type="datetime">
              <a:rPr b="0" lang="fr-FR" sz="1200" spc="-1" strike="noStrike">
                <a:solidFill>
                  <a:srgbClr val="f2efc0"/>
                </a:solidFill>
                <a:latin typeface="Constantia"/>
                <a:ea typeface="宋体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2efc0"/>
                </a:solidFill>
                <a:latin typeface="Constanti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651B-57EB-4550-9626-8567AE62F92B}" type="slidenum">
              <a:rPr b="0" lang="fr-FR" sz="1200" spc="-1" strike="noStrike">
                <a:solidFill>
                  <a:srgbClr val="f2efc0"/>
                </a:solidFill>
                <a:latin typeface="Constanti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e lib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e lib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9506">
                  <a:alpha val="30196"/>
                </a:srgbClr>
              </a:gs>
              <a:gs pos="100000">
                <a:srgbClr val="f4921f">
                  <a:alpha val="4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404924"/>
                </a:solidFill>
                <a:latin typeface="Constanti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8CF7-CFBD-47A1-A07A-EBBB10736E5F}" type="datetime">
              <a:rPr b="0" lang="fr-FR" sz="1200" spc="-1" strike="noStrike">
                <a:solidFill>
                  <a:srgbClr val="404924"/>
                </a:solidFill>
                <a:latin typeface="Constantia"/>
                <a:ea typeface="宋体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404924"/>
                </a:solidFill>
                <a:latin typeface="Constanti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1253-5EF9-4D28-8082-BD4F28F231C4}" type="slidenum">
              <a:rPr b="0" lang="fr-FR" sz="1200" spc="-1" strike="noStrike">
                <a:solidFill>
                  <a:srgbClr val="404924"/>
                </a:solidFill>
                <a:latin typeface="Constanti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4F67-3B8E-4D08-96A8-E043D485FD5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3A53-ECC1-412D-8F56-EC70467A877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2625840" y="2271600"/>
            <a:ext cx="4287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nstantia"/>
                <a:ea typeface="宋体"/>
              </a:rPr>
              <a:t>单击添加署名或公司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614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6147"/>
          <p:cNvSpPr/>
          <p:nvPr/>
        </p:nvSpPr>
        <p:spPr>
          <a:xfrm>
            <a:off x="2725560" y="12682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国外城市风光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000" spc="-1" strike="noStrike">
                <a:solidFill>
                  <a:srgbClr val="9d3a02"/>
                </a:solidFill>
                <a:latin typeface="Arial"/>
                <a:ea typeface="宋体"/>
              </a:rPr>
              <a:t>Title</a:t>
            </a: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d3a02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d3a02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d3a02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8195"/>
          <p:cNvSpPr/>
          <p:nvPr/>
        </p:nvSpPr>
        <p:spPr>
          <a:xfrm>
            <a:off x="1332000" y="580536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e58b6"/>
                </a:solidFill>
                <a:uFillTx/>
                <a:latin typeface="Arial"/>
                <a:ea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E88C-AA52-425D-A28B-A9D79E53323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000" spc="-1" strike="noStrike">
                <a:solidFill>
                  <a:srgbClr val="9d3a02"/>
                </a:solidFill>
                <a:latin typeface="Arial"/>
                <a:ea typeface="宋体"/>
              </a:rPr>
              <a:t>Title</a:t>
            </a:r>
            <a:endParaRPr b="0" lang="en-US" sz="5000" spc="-1" strike="noStrike">
              <a:solidFill>
                <a:srgbClr val="444d26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325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d3a02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d3a02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d3a02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5:46:0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39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