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57D-01E0-4D3D-B688-0233568F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72A-3421-46FA-BDA8-94EBAFE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09DFF-E74E-497A-B251-9B3D0915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7FFF-6368-4269-8573-433E375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693C6-0E67-4C79-ACF9-0AE1235F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342B-1851-4D67-98C5-8FE329F0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941BD-1B8A-4860-AE61-AB94C47F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95D58-FAB8-444E-AA3C-522FC40B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41B4-3E81-4C99-AE1A-809FD07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68685-4C60-4B1E-AF44-FE637C9F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99E52-C6A7-4F2F-9BB9-8CC49BDA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B75F1-8DBF-4327-80A8-93D8F31E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8A4-7458-48B9-B52E-0951F46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BDBCC-0520-47B6-9910-2492F2E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86CB0-1B90-4047-ABF1-0FD085E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9A15-C13B-4EEA-A2A2-E2DFEFC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57AC1-9ABC-41CA-91F9-C5D6ABB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03A76-02EA-4602-B9EC-B12F712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09D3C-F49E-4D81-A083-CAF863B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D0897-0CE7-4877-99AD-ED017CA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88A1F-A35E-4900-ABE7-5E96B55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C997-9BF6-4EA6-BDCF-C51F15B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4B368-D36F-424A-BAB2-18710D9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154-AEBB-4F88-95D6-306C2EB7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01D9C-D00A-4691-8FF0-1B9CEB0C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1DC1-15BB-4A79-9E15-D7B5724A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91BA-75D7-44D3-8B2D-2C632620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76E12-1F94-4EA7-9FBC-C33B930A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25B1-18C9-4EB0-9A75-738DE47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029CA-70AA-43CE-93DE-5A651F4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214A4-DAA8-4ABB-80C3-1C471072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A3C1-CF38-4808-9BE9-CA51B3D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C8C59-2561-443A-981A-9BFD352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68E13-AE09-4CB6-A037-572CF26E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2948-0143-49F9-845B-54982B3F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FF10-63DC-4A13-96FE-DC648621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14C5-2E05-4CBF-AA2E-542DCCAE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A9E97-8BAF-46E7-87FC-7E1E47D3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39EC2-8BEC-4704-A7AB-EC71815F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2F3D1-208E-4F49-990E-FAC14E6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D0E1-A5C7-49BB-B58B-3EC2218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BBFA5-EC5E-42D3-A94C-22ED536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C0091-BB82-4E89-B999-4185622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61D57-CC23-4E66-AEFA-A6AB291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9D24-4F45-472B-86B2-F0A62A2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B45-93ED-4741-9F2D-F90D30B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BB8E0-8F9D-44D2-A008-49F32F3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CB2A5-D5CE-428C-A078-1EED4EF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A567C-B526-46D3-BBEE-DFD3EDDC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39643-4026-451E-9B1D-79D0333E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9275-863B-4B9B-BA99-D0C10EA9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A8F8B-DE9D-4A93-9E50-AD4CCE3E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72EAD-75BF-4A4F-967F-867EA794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DC444-9E81-4202-8355-112F9AC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EAABB-7E91-4A77-BD16-11BA0DC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615EE-889D-4B5C-8352-05D17DA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A6FC-569F-4138-9DC7-6793247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ED1D3-8519-47D8-A514-92E9775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F937E-2ED8-4716-B2C2-E91E05E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073F9-697E-4550-AE66-D6BD72D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F339E-070A-4492-AE9B-DAF3DB6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2DDA2-4445-497F-9281-AD0C9C32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4FDEA-2B47-416B-965D-78B8BB63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2618D-43A0-4C4B-AF43-8F0C432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5963-A2EF-4397-8198-B101D58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DF8-3F82-4279-B5EE-EC1952D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8E2C-1D69-4981-836B-937CD043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DC0-F8C4-4C6F-B9EA-88544FF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B4F-8EEF-4296-9107-31B84E33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5A07-79D8-4150-8E7F-823E0F3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DA0-0FB3-4CDD-8C2A-EAC8637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44F3-F358-430F-A12D-9FE6C02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3A4-8EE4-4130-BC83-E52D93F2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D05D-AB4E-4BEF-8C97-4EE49708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1383-5972-4038-B604-2366AE60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F150-0696-4CBF-8236-2CDC0FE8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45B9-F597-4918-B5DD-69A2F64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7189-CB2C-4167-ADE1-65E04D7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F8B0-FD3B-4E73-B7A0-F0449730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93D-89B4-495D-A375-1F22960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BB81-7964-4470-BF63-D8B86C2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0D55-E5E4-48DF-9825-2F52E9C9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4E4C-293C-460E-8B98-1286680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20E9-8189-4791-AAA8-734DFA8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DA2A-B694-4BBD-9F53-0CA856D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83F0-4046-4821-B5A1-2C0F745A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7C1C-8932-4F86-A8ED-6F420D40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2BE5-A285-4538-A3FA-D7042382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F1DC-2CF0-41BD-9F5F-67105952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E1D7-38B8-4026-81D5-E01BAB1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5D7-49CA-448F-9409-FAC703A8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05C0-D0D2-4549-A6F6-D527747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9F49-75DE-4CCA-A3BC-92FA08FF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115C-24C6-40D4-863C-8240CF9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FFB0-7A5F-4A72-A67E-046B7AA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060E-9F9C-419B-AC0A-745B709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D311-3F82-4087-AFCB-71DBE28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E22B-E97A-49E2-AD3A-F20D117B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2E59-1DC1-4399-94E5-EB9CC2CD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1571-5A7A-456B-A7A7-57D7C23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949B-E2CA-4001-A15E-3328B2E3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42B-0555-4B70-9C9F-8D90806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47FC-4F5C-47FF-9256-FFF77A8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3187-B804-4FDA-9D70-AB4539F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5473-E798-41C1-8D34-D6C9076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9515-ABE9-4223-9F84-954A40B8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8B63-3755-4BF1-8EBF-A49802E8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0FE1-B7A9-4545-9CE0-804F0D0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AF1E-EDD1-4A3C-B01A-735E7A7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3511-95B5-45DE-BC07-45AFA265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AA82-4CEB-4ECE-A2FC-495FC41A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4DA8-B98B-428E-8F3A-C3E0C283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6C9-3160-43C6-AE78-14680CD8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51EF-3F05-4513-A152-5461009B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CA68-535D-4A1B-AC55-6899FEF9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C3AF3-C9A0-489D-9BFA-7A772D4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2E83-65CA-4414-A0A7-8148486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EAE3-6C9D-4B84-B2D9-ED58315B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86F4-3A0B-4EC0-8D56-F913C635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7B4A-E72A-4F6D-AB6D-5D42DC84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06C98-95EC-4CCB-B7C8-73C2835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9668-EAE7-46B5-A1D1-AEE9BED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91FF-E555-425C-8119-5486400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353-FAB4-4EB0-8500-87C9549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BCBB-A8EB-4A7F-BF25-67B16A7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32C14-6DE9-4D68-BCE0-E9A551A1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4F3CB-E7CB-49A1-8424-FDC2B3D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D12E9-B366-430A-93E8-3EF2A015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64F5-7C70-482F-86E7-374F45D8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3556-E833-453A-A965-29278D4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2E41-2231-46E0-A415-05237A3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FAE9-B673-43D3-B27E-31A32A2A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AE734-40EC-4920-AEA2-5C0FDE51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C756-E69F-4791-8C16-4F2D8B2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56C-0154-4E6C-9257-16B9730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7C5E-518C-414F-918A-AD752B4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5E20-D89A-470C-8495-DC708FD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9A63-AA26-4211-A078-93632781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E675-24EE-43CF-8B40-E73B0E3A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3891-6D21-4C54-9A64-312CA742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71C9-29B4-4ECD-8CC2-3ACEA34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2DD5C-77A9-46BB-9B23-BA4EED8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2FBB-F381-4C39-89D3-1C35CBB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0D4A6-31EB-42A3-AFD4-BA6EBAF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C9BE-FD5E-47C4-B2D6-6BF70D0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D77-D512-4582-A3CB-94D3F0E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AA494-E265-4644-B514-C732025B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DF19-D8B8-42D4-B51D-F96CBE2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B713-35D8-4431-BE50-2B75A71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0AE7B-D301-443F-B6D7-4DF708C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9A4C-7A59-4103-B377-6D4DA21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BA87-DABE-4C64-A86C-3F626527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17C7-9952-4190-A2D9-E09B1D3D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AE98D-398F-408C-9B94-1EA86CDF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483E3-A7DD-4E84-A626-AD80F34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9664-459D-4440-8E29-C1422E3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428-73F6-4B00-A99A-F425AF5B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5E7-0691-4A22-9C7D-9312ECFD2F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277-E232-4A4C-89F4-A4927BCEE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014-3461-4DA5-ADB7-EE45C7BF63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B94-6823-446D-A730-DF60C85D23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034-D956-44D0-A70C-EC37BAAAF7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Z:\newtek\_backgrounds_1.02\Art\power_point\17-\hanuka_happiness\star_of_david.png"/>
          <p:cNvPicPr/>
          <p:nvPr/>
        </p:nvPicPr>
        <p:blipFill>
          <a:blip r:embed="rId3"/>
          <a:stretch/>
        </p:blipFill>
        <p:spPr>
          <a:xfrm>
            <a:off x="2133720" y="304920"/>
            <a:ext cx="5029200" cy="461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4A5F-CE17-4CC1-94F2-0B18AD604C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188-6DEC-4A8A-A50C-BF661AC8C5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B3DB-24CD-498E-AFDA-D34D26496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293C-F31E-4E94-BF10-E1EE383ACA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9DFE-DA25-419D-A76A-7C45C5239A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24A-BFDD-4F20-864C-FD06052BC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BE2-6C5B-4676-A60B-447E606993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A48-D0CA-4ED7-BBB1-5DBE26E01E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411444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bedff"/>
                </a:solidFill>
                <a:latin typeface="Arial"/>
                <a:ea typeface="宋体"/>
              </a:rPr>
              <a:t>Hanukkah Happiness</a:t>
            </a:r>
            <a:endParaRPr b="1" i="1" lang="en-US" sz="5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dff"/>
                </a:solidFill>
                <a:latin typeface="Arial"/>
                <a:ea typeface="宋体"/>
              </a:rPr>
              <a:t>A Presentation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14340"/>
          <p:cNvSpPr/>
          <p:nvPr/>
        </p:nvSpPr>
        <p:spPr>
          <a:xfrm>
            <a:off x="1348560" y="404640"/>
            <a:ext cx="54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光明节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  <a:ea typeface="宋体"/>
              </a:rPr>
              <a:t>Your Title Here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 Her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itle Here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 Her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17412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019920" cy="1981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Transition </a:t>
            </a:r>
            <a:br>
              <a:rPr sz="6000"/>
            </a:b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Page</a:t>
            </a:r>
            <a:endParaRPr b="1" i="1" lang="en-US" sz="60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5221440" y="55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1890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14" descr="jewish_boy_holding_menorah_hg_clr.gif"/>
          <p:cNvPicPr/>
          <p:nvPr/>
        </p:nvPicPr>
        <p:blipFill>
          <a:blip r:embed="rId2"/>
          <a:stretch/>
        </p:blipFill>
        <p:spPr>
          <a:xfrm>
            <a:off x="6172200" y="1104840"/>
            <a:ext cx="2400480" cy="4000680"/>
          </a:xfrm>
          <a:prstGeom prst="rect">
            <a:avLst/>
          </a:prstGeom>
          <a:ln w="0">
            <a:noFill/>
          </a:ln>
        </p:spPr>
      </p:pic>
      <p:sp>
        <p:nvSpPr>
          <p:cNvPr id="5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6F35-9A01-4B0A-A07C-97EAC3FA72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5638680"/>
            <a:ext cx="6019920" cy="10670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Elements Page</a:t>
            </a:r>
            <a:endParaRPr b="1" i="1" lang="en-US" sz="60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5221440" y="55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jewish_boy_girl_dreidel_hg_clr.gif"/>
          <p:cNvPicPr/>
          <p:nvPr/>
        </p:nvPicPr>
        <p:blipFill>
          <a:blip r:embed="rId1"/>
          <a:stretch/>
        </p:blipFill>
        <p:spPr>
          <a:xfrm>
            <a:off x="6772320" y="228600"/>
            <a:ext cx="2371680" cy="2705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jewish_boy_holding_menorah_hg_clr.gif"/>
          <p:cNvPicPr/>
          <p:nvPr/>
        </p:nvPicPr>
        <p:blipFill>
          <a:blip r:embed="rId2"/>
          <a:stretch/>
        </p:blipFill>
        <p:spPr>
          <a:xfrm>
            <a:off x="6858000" y="3200400"/>
            <a:ext cx="2035080" cy="3390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Z:\newtek\_backgrounds_1.02\Art\power_point\17-\hanuka_happiness\star_of_david.png"/>
          <p:cNvPicPr/>
          <p:nvPr/>
        </p:nvPicPr>
        <p:blipFill>
          <a:blip r:embed="rId3"/>
          <a:stretch/>
        </p:blipFill>
        <p:spPr>
          <a:xfrm>
            <a:off x="-228600" y="0"/>
            <a:ext cx="4191120" cy="3841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Z:\newtek\_backgrounds_1.02\Art\power_point\17-\hanuka_happiness\hanukkah_hapiness_trs.jpg"/>
          <p:cNvPicPr/>
          <p:nvPr/>
        </p:nvPicPr>
        <p:blipFill>
          <a:blip r:embed="rId4"/>
          <a:stretch/>
        </p:blipFill>
        <p:spPr>
          <a:xfrm>
            <a:off x="4114800" y="3657600"/>
            <a:ext cx="2590920" cy="2071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Z:\newtek\_backgrounds_1.02\Art\power_point\17-\hanuka_happiness\hanukkah_hapiness_prt.jpg"/>
          <p:cNvPicPr/>
          <p:nvPr/>
        </p:nvPicPr>
        <p:blipFill>
          <a:blip r:embed="rId5"/>
          <a:stretch/>
        </p:blipFill>
        <p:spPr>
          <a:xfrm>
            <a:off x="1371600" y="365760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Z:\newtek\_backgrounds_1.02\Art\power_point\17-\hanuka_happiness\hanukkah_hapiness_sld.jpg"/>
          <p:cNvPicPr/>
          <p:nvPr/>
        </p:nvPicPr>
        <p:blipFill>
          <a:blip r:embed="rId6"/>
          <a:stretch/>
        </p:blipFill>
        <p:spPr>
          <a:xfrm>
            <a:off x="4114800" y="1447920"/>
            <a:ext cx="2590920" cy="2073240"/>
          </a:xfrm>
          <a:prstGeom prst="rect">
            <a:avLst/>
          </a:prstGeom>
          <a:ln w="0">
            <a:noFill/>
          </a:ln>
        </p:spPr>
      </p:pic>
      <p:sp>
        <p:nvSpPr>
          <p:cNvPr id="562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23:45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