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76C-ED56-476E-B5B8-60F5799A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472-1454-479A-8E01-67FD13F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BE8-1A73-40A0-A066-BCB6878B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2F2-B4B6-4F2B-B534-F4F24CC4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E29-D1A5-40AC-9C36-45C19C69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5EEB-F713-4F5E-A4EE-9CEFABA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F287-9F29-4904-965D-A843AE6C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C0A5-71A7-4E6D-A8B2-F3C808D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A0A-A1DA-42CD-A915-8F1FC1D9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465E-3CE9-45C0-A98A-4D5FC25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560-3A3D-4A08-B233-47C9A04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C55-708F-4783-86A5-D14FF54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A203-384E-4D5E-A5FB-D5DF8255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FA9-D5A3-42B4-8B38-0C07D7F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44DC-0D3D-4FAB-A93F-D50AB1BE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98BF-4CB6-4BC0-9143-4A1E9E82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5D2-C4FC-4D1A-8A0B-7863508B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E35E-BA7E-458F-ADCE-35C86F98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5FE8-BAB3-45F2-A972-C3EBF78E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9013-35D7-40FD-9981-8B6AEF22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7A13-A094-4E30-9A54-FB13F4D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9F08-1CB5-49D4-AAC0-35DCAB6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0DC-7C64-4CCB-AAA3-6E61A17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7E80-C316-403B-99A7-7A0BFC73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2846-8809-4F44-A0F9-4DEE432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3FFA-35B3-40FE-B9A5-6A9CA3A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F494-43D2-4F2C-94A6-FF1E8C2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2ED6-F141-47B9-A843-AF0EBD4A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E00B-2605-4932-86E9-E47975EF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7E7F-70A9-442A-B5E9-1138A28A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264-DEAF-4E97-A6D1-1D44AD51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55D-43FB-4C2E-A888-82708D34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942-568A-44C7-91A9-121942AC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427-8E25-400F-9082-C9BFFEC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559-323E-4D04-A003-B9681D98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5FE-2A5F-42AD-9D26-BAC7948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BB97-5301-4236-A9A4-04601989574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964-2914-41BC-98D8-9981167F90D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FBC9-F3E2-4C99-9AE1-B0C579A88D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F0AD-6261-42D9-8FDA-3579D0BED9E2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国外黑色主题</a:t>
            </a: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Impact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7920" y="14479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65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520" y="762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97"/>
          <p:cNvSpPr/>
          <p:nvPr/>
        </p:nvSpPr>
        <p:spPr>
          <a:xfrm>
            <a:off x="838080" y="9144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2917-8C15-4175-A5F0-1C46B148A1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0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3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