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0C20-424D-49F9-BF32-CE90C1FF2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C1C3-C9A7-40CC-A75B-2C5E51479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89D9-9607-4F63-B80B-3F79181B7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90A7-461F-4ED5-95BC-605D1B190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9941A-C13F-4B44-A710-9E53F6CB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A54A6-1DFF-4552-ADFA-133770FF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93C76-B49E-41C9-8472-B510F3FE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3947A-4EEB-4BE2-B6AF-ECF9C773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7F0AA-3FB8-401C-8910-9D7D724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693B3-82F4-4FBD-A8BD-DC70ACF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CC3B9-EDA9-4C9A-ACB7-BB3297F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949C-82AD-44AF-9B3F-8889DCFE8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87EBC-97BF-4040-BE25-534909E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7A348-8336-4DD8-BDAB-D350DC32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6AA62-F503-4AED-BD03-8BCFE335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E71AE-1DC3-4CE7-8AAA-3BCB181F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66393-C896-40FA-A192-4A871A28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0C6ED-0EC5-49A9-853E-39B45DDB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A8F41-7A7C-429E-B7EB-CCE291DA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27F15-A1F0-4A3B-B82B-9E93E821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38A1B-ADE4-49BF-82E3-5EA39831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EBCCF-9F81-478C-BCA9-563AE1F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A1F9-4053-49E8-B865-81F33F31D1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40978-270B-4C1E-A0C9-DA82A12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C4B3F-0F60-4D62-8059-CED1898E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B8171-3155-455D-B5E8-536E3BFB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93C20-C00B-4654-A5CD-4E8AC8C7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677BE-819D-4375-A4C2-BE8E719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90531-4754-4038-B4F1-5DB1785C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806AF-82B5-4E27-8C2A-799E9730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96EB-DBDF-4357-B40D-56A48328C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137C-79A3-4A95-A6AC-CD299117A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A714-DF89-4071-8F6A-AE11EAD5C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78FE-8252-4EFD-8434-CD725B503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77A9-A58E-420B-827C-543A70445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EB4D-166C-4C74-8067-967658222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248160" y="657828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399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8DE6-150A-42FB-A5BC-E0BD714B2744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12336"/>
          <p:cNvSpPr/>
          <p:nvPr/>
        </p:nvSpPr>
        <p:spPr>
          <a:xfrm>
            <a:off x="4635360" y="0"/>
            <a:ext cx="4508640" cy="2717640"/>
          </a:xfrm>
          <a:prstGeom prst="rect">
            <a:avLst/>
          </a:prstGeom>
          <a:gradFill rotWithShape="0">
            <a:gsLst>
              <a:gs pos="0">
                <a:srgbClr val="5399ff"/>
              </a:gs>
              <a:gs pos="100000">
                <a:srgbClr val="0053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矩形 12324"/>
          <p:cNvSpPr/>
          <p:nvPr/>
        </p:nvSpPr>
        <p:spPr>
          <a:xfrm flipH="1" flipV="1">
            <a:off x="11520" y="1840680"/>
            <a:ext cx="9131400" cy="50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任意多边形 12323"/>
          <p:cNvSpPr/>
          <p:nvPr/>
        </p:nvSpPr>
        <p:spPr>
          <a:xfrm>
            <a:off x="0" y="888840"/>
            <a:ext cx="9158400" cy="2171880"/>
          </a:xfrm>
          <a:custGeom>
            <a:avLst/>
            <a:gdLst/>
            <a:ahLst/>
            <a:rect l="l" t="t" r="r" b="b"/>
            <a:pathLst>
              <a:path fill="none" w="17899" h="21600">
                <a:moveTo>
                  <a:pt x="0" y="0"/>
                </a:moveTo>
                <a:cubicBezTo>
                  <a:pt x="7449" y="0"/>
                  <a:pt x="14017" y="3771"/>
                  <a:pt x="17900" y="9507"/>
                </a:cubicBezTo>
              </a:path>
              <a:path stroke="0" w="17899" h="21600">
                <a:moveTo>
                  <a:pt x="17899" y="9509"/>
                </a:moveTo>
                <a:cubicBezTo>
                  <a:pt x="16291" y="5739"/>
                  <a:pt x="15321" y="848"/>
                  <a:pt x="15321" y="-4495"/>
                </a:cubicBezTo>
                <a:cubicBezTo>
                  <a:pt x="15321" y="-16424"/>
                  <a:pt x="20156" y="-26095"/>
                  <a:pt x="26121" y="-26095"/>
                </a:cubicBezTo>
                <a:cubicBezTo>
                  <a:pt x="32086" y="-26095"/>
                  <a:pt x="36921" y="-16424"/>
                  <a:pt x="36921" y="-4495"/>
                </a:cubicBezTo>
                <a:cubicBezTo>
                  <a:pt x="36921" y="-2104"/>
                  <a:pt x="36727" y="195"/>
                  <a:pt x="36369" y="234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" name="组合 12334"/>
          <p:cNvGrpSpPr/>
          <p:nvPr/>
        </p:nvGrpSpPr>
        <p:grpSpPr>
          <a:xfrm>
            <a:off x="8379000" y="1403280"/>
            <a:ext cx="765000" cy="765360"/>
            <a:chOff x="8379000" y="1403280"/>
            <a:chExt cx="765000" cy="765360"/>
          </a:xfrm>
        </p:grpSpPr>
        <p:sp>
          <p:nvSpPr>
            <p:cNvPr id="6" name="椭圆 12327"/>
            <p:cNvSpPr/>
            <p:nvPr/>
          </p:nvSpPr>
          <p:spPr>
            <a:xfrm>
              <a:off x="8379000" y="1403280"/>
              <a:ext cx="765000" cy="765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7" name="椭圆 12328"/>
            <p:cNvSpPr/>
            <p:nvPr/>
          </p:nvSpPr>
          <p:spPr>
            <a:xfrm>
              <a:off x="8589240" y="1649880"/>
              <a:ext cx="423720" cy="42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8" name="椭圆 12329"/>
            <p:cNvSpPr/>
            <p:nvPr/>
          </p:nvSpPr>
          <p:spPr>
            <a:xfrm rot="19033200">
              <a:off x="8442000" y="1520640"/>
              <a:ext cx="322200" cy="177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9" name="组合 12330"/>
          <p:cNvGrpSpPr/>
          <p:nvPr/>
        </p:nvGrpSpPr>
        <p:grpSpPr>
          <a:xfrm>
            <a:off x="7265880" y="907920"/>
            <a:ext cx="1035000" cy="1035360"/>
            <a:chOff x="7265880" y="907920"/>
            <a:chExt cx="1035000" cy="1035360"/>
          </a:xfrm>
        </p:grpSpPr>
        <p:sp>
          <p:nvSpPr>
            <p:cNvPr id="10" name="椭圆 12331"/>
            <p:cNvSpPr/>
            <p:nvPr/>
          </p:nvSpPr>
          <p:spPr>
            <a:xfrm>
              <a:off x="7265880" y="907920"/>
              <a:ext cx="1035000" cy="1035360"/>
            </a:xfrm>
            <a:prstGeom prst="ellipse">
              <a:avLst/>
            </a:prstGeom>
            <a:solidFill>
              <a:srgbClr val="5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" name="椭圆 12332"/>
            <p:cNvSpPr/>
            <p:nvPr/>
          </p:nvSpPr>
          <p:spPr>
            <a:xfrm>
              <a:off x="7551000" y="1241280"/>
              <a:ext cx="572760" cy="573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99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" name="椭圆 12333"/>
            <p:cNvSpPr/>
            <p:nvPr/>
          </p:nvSpPr>
          <p:spPr>
            <a:xfrm rot="19033200">
              <a:off x="7351920" y="1067760"/>
              <a:ext cx="435600" cy="24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ADC4-FACF-456E-9B84-94ED6061E68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A8F6-F0B3-4BF6-BABB-D14EEA3175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13484"/>
          <p:cNvGrpSpPr/>
          <p:nvPr/>
        </p:nvGrpSpPr>
        <p:grpSpPr>
          <a:xfrm>
            <a:off x="0" y="0"/>
            <a:ext cx="9158400" cy="6527520"/>
            <a:chOff x="0" y="0"/>
            <a:chExt cx="9158400" cy="6527520"/>
          </a:xfrm>
        </p:grpSpPr>
        <p:sp>
          <p:nvSpPr>
            <p:cNvPr id="91" name="任意多边形 13475"/>
            <p:cNvSpPr/>
            <p:nvPr/>
          </p:nvSpPr>
          <p:spPr>
            <a:xfrm flipV="1">
              <a:off x="0" y="2881800"/>
              <a:ext cx="9158400" cy="3645000"/>
            </a:xfrm>
            <a:custGeom>
              <a:avLst/>
              <a:gdLst/>
              <a:ahLst/>
              <a:rect l="l" t="t" r="r" b="b"/>
              <a:pathLst>
                <a:path fill="none" w="17899" h="21600">
                  <a:moveTo>
                    <a:pt x="0" y="0"/>
                  </a:moveTo>
                  <a:cubicBezTo>
                    <a:pt x="7449" y="0"/>
                    <a:pt x="14017" y="3771"/>
                    <a:pt x="17900" y="9507"/>
                  </a:cubicBezTo>
                </a:path>
                <a:path stroke="0" w="17899" h="21600">
                  <a:moveTo>
                    <a:pt x="17899" y="9509"/>
                  </a:moveTo>
                  <a:cubicBezTo>
                    <a:pt x="16291" y="5739"/>
                    <a:pt x="15321" y="848"/>
                    <a:pt x="15321" y="-4495"/>
                  </a:cubicBezTo>
                  <a:cubicBezTo>
                    <a:pt x="15321" y="-16424"/>
                    <a:pt x="20156" y="-26095"/>
                    <a:pt x="26121" y="-26095"/>
                  </a:cubicBezTo>
                  <a:cubicBezTo>
                    <a:pt x="32086" y="-26095"/>
                    <a:pt x="36921" y="-16424"/>
                    <a:pt x="36921" y="-4495"/>
                  </a:cubicBezTo>
                  <a:cubicBezTo>
                    <a:pt x="36921" y="-2104"/>
                    <a:pt x="36727" y="195"/>
                    <a:pt x="36369" y="234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2" name="矩形 13476"/>
            <p:cNvSpPr/>
            <p:nvPr/>
          </p:nvSpPr>
          <p:spPr>
            <a:xfrm>
              <a:off x="0" y="0"/>
              <a:ext cx="9144000" cy="494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pic>
        <p:nvPicPr>
          <p:cNvPr id="93" name="图片 13502" descr="wave3"/>
          <p:cNvPicPr/>
          <p:nvPr/>
        </p:nvPicPr>
        <p:blipFill>
          <a:blip r:embed="rId2"/>
          <a:stretch/>
        </p:blipFill>
        <p:spPr>
          <a:xfrm>
            <a:off x="0" y="1114560"/>
            <a:ext cx="9144000" cy="3119400"/>
          </a:xfrm>
          <a:prstGeom prst="rect">
            <a:avLst/>
          </a:prstGeom>
          <a:ln w="0">
            <a:noFill/>
          </a:ln>
        </p:spPr>
      </p:pic>
      <p:sp>
        <p:nvSpPr>
          <p:cNvPr id="94" name="任意多边形 13417"/>
          <p:cNvSpPr/>
          <p:nvPr/>
        </p:nvSpPr>
        <p:spPr>
          <a:xfrm rot="1791600">
            <a:off x="3473280" y="2927520"/>
            <a:ext cx="1662120" cy="233280"/>
          </a:xfrm>
          <a:custGeom>
            <a:avLst/>
            <a:gdLst/>
            <a:ahLst/>
            <a:rect l="l" t="t" r="r" b="b"/>
            <a:pathLst>
              <a:path w="1047" h="596">
                <a:moveTo>
                  <a:pt x="987" y="557"/>
                </a:moveTo>
                <a:cubicBezTo>
                  <a:pt x="927" y="518"/>
                  <a:pt x="707" y="294"/>
                  <a:pt x="547" y="205"/>
                </a:cubicBezTo>
                <a:cubicBezTo>
                  <a:pt x="387" y="116"/>
                  <a:pt x="54" y="42"/>
                  <a:pt x="27" y="21"/>
                </a:cubicBezTo>
                <a:cubicBezTo>
                  <a:pt x="0" y="0"/>
                  <a:pt x="279" y="48"/>
                  <a:pt x="387" y="77"/>
                </a:cubicBezTo>
                <a:cubicBezTo>
                  <a:pt x="495" y="106"/>
                  <a:pt x="588" y="137"/>
                  <a:pt x="675" y="197"/>
                </a:cubicBezTo>
                <a:cubicBezTo>
                  <a:pt x="762" y="257"/>
                  <a:pt x="855" y="376"/>
                  <a:pt x="907" y="437"/>
                </a:cubicBezTo>
                <a:cubicBezTo>
                  <a:pt x="959" y="498"/>
                  <a:pt x="1047" y="596"/>
                  <a:pt x="987" y="557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5" name="文本框 13340"/>
          <p:cNvSpPr/>
          <p:nvPr/>
        </p:nvSpPr>
        <p:spPr>
          <a:xfrm>
            <a:off x="7851960" y="597708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96" name="组合 13479"/>
          <p:cNvGrpSpPr/>
          <p:nvPr/>
        </p:nvGrpSpPr>
        <p:grpSpPr>
          <a:xfrm>
            <a:off x="1830240" y="2495520"/>
            <a:ext cx="1009800" cy="1009440"/>
            <a:chOff x="1830240" y="2495520"/>
            <a:chExt cx="1009800" cy="1009440"/>
          </a:xfrm>
        </p:grpSpPr>
        <p:sp>
          <p:nvSpPr>
            <p:cNvPr id="97" name="椭圆 13368"/>
            <p:cNvSpPr/>
            <p:nvPr/>
          </p:nvSpPr>
          <p:spPr>
            <a:xfrm>
              <a:off x="1830240" y="2495520"/>
              <a:ext cx="1009800" cy="10094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" name="椭圆 13369"/>
            <p:cNvSpPr/>
            <p:nvPr/>
          </p:nvSpPr>
          <p:spPr>
            <a:xfrm>
              <a:off x="2108160" y="2820960"/>
              <a:ext cx="558720" cy="55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9" name="椭圆 13370"/>
            <p:cNvSpPr/>
            <p:nvPr/>
          </p:nvSpPr>
          <p:spPr>
            <a:xfrm rot="19033200">
              <a:off x="1914480" y="2650680"/>
              <a:ext cx="425520" cy="23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0" name="矩形 13372"/>
          <p:cNvSpPr/>
          <p:nvPr/>
        </p:nvSpPr>
        <p:spPr>
          <a:xfrm>
            <a:off x="6296040" y="6350040"/>
            <a:ext cx="27176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YOUR SITE HERE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1" name="组合 13478"/>
          <p:cNvGrpSpPr/>
          <p:nvPr/>
        </p:nvGrpSpPr>
        <p:grpSpPr>
          <a:xfrm>
            <a:off x="293760" y="2444760"/>
            <a:ext cx="1365120" cy="1365120"/>
            <a:chOff x="293760" y="2444760"/>
            <a:chExt cx="1365120" cy="1365120"/>
          </a:xfrm>
        </p:grpSpPr>
        <p:sp>
          <p:nvSpPr>
            <p:cNvPr id="102" name="椭圆 13364"/>
            <p:cNvSpPr/>
            <p:nvPr/>
          </p:nvSpPr>
          <p:spPr>
            <a:xfrm>
              <a:off x="293760" y="2444760"/>
              <a:ext cx="1365120" cy="1365120"/>
            </a:xfrm>
            <a:prstGeom prst="ellipse">
              <a:avLst/>
            </a:prstGeom>
            <a:solidFill>
              <a:srgbClr val="5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3" name="椭圆 13365"/>
            <p:cNvSpPr/>
            <p:nvPr/>
          </p:nvSpPr>
          <p:spPr>
            <a:xfrm>
              <a:off x="669960" y="2884320"/>
              <a:ext cx="755640" cy="75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99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椭圆 13366"/>
            <p:cNvSpPr/>
            <p:nvPr/>
          </p:nvSpPr>
          <p:spPr>
            <a:xfrm rot="19033200">
              <a:off x="407880" y="2655360"/>
              <a:ext cx="574920" cy="317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05" name="任意多边形 13430"/>
          <p:cNvSpPr/>
          <p:nvPr/>
        </p:nvSpPr>
        <p:spPr>
          <a:xfrm rot="785400">
            <a:off x="3750840" y="2460240"/>
            <a:ext cx="1060560" cy="139680"/>
          </a:xfrm>
          <a:custGeom>
            <a:avLst/>
            <a:gdLst/>
            <a:ahLst/>
            <a:rect l="l" t="t" r="r" b="b"/>
            <a:pathLst>
              <a:path w="1065" h="513">
                <a:moveTo>
                  <a:pt x="1009" y="497"/>
                </a:moveTo>
                <a:cubicBezTo>
                  <a:pt x="898" y="408"/>
                  <a:pt x="788" y="320"/>
                  <a:pt x="625" y="241"/>
                </a:cubicBezTo>
                <a:cubicBezTo>
                  <a:pt x="462" y="162"/>
                  <a:pt x="66" y="50"/>
                  <a:pt x="33" y="25"/>
                </a:cubicBezTo>
                <a:cubicBezTo>
                  <a:pt x="0" y="0"/>
                  <a:pt x="296" y="49"/>
                  <a:pt x="425" y="89"/>
                </a:cubicBezTo>
                <a:cubicBezTo>
                  <a:pt x="554" y="129"/>
                  <a:pt x="702" y="194"/>
                  <a:pt x="809" y="265"/>
                </a:cubicBezTo>
                <a:cubicBezTo>
                  <a:pt x="916" y="336"/>
                  <a:pt x="1005" y="457"/>
                  <a:pt x="1065" y="513"/>
                </a:cubicBez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06" name="组合 13497"/>
          <p:cNvGrpSpPr/>
          <p:nvPr/>
        </p:nvGrpSpPr>
        <p:grpSpPr>
          <a:xfrm>
            <a:off x="4292640" y="266760"/>
            <a:ext cx="3746520" cy="3746520"/>
            <a:chOff x="4292640" y="266760"/>
            <a:chExt cx="3746520" cy="3746520"/>
          </a:xfrm>
        </p:grpSpPr>
        <p:sp>
          <p:nvSpPr>
            <p:cNvPr id="107" name="椭圆 13492"/>
            <p:cNvSpPr/>
            <p:nvPr/>
          </p:nvSpPr>
          <p:spPr>
            <a:xfrm>
              <a:off x="4292640" y="266760"/>
              <a:ext cx="3746520" cy="3746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08" name="图片 13496" descr="globe_blue"/>
            <p:cNvPicPr/>
            <p:nvPr/>
          </p:nvPicPr>
          <p:blipFill>
            <a:blip r:embed="rId3"/>
            <a:stretch/>
          </p:blipFill>
          <p:spPr>
            <a:xfrm>
              <a:off x="4373640" y="306360"/>
              <a:ext cx="359712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b166e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533-C2B5-4192-840F-1BBE1DAC2ECC}" type="slidenum">
              <a:rPr b="0" lang="ko-KR" sz="1400" spc="-1" strike="noStrike">
                <a:solidFill>
                  <a:srgbClr val="2b166e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166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53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2b166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080" y="4336560"/>
            <a:ext cx="8115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166e"/>
                </a:solidFill>
                <a:latin typeface="Arial"/>
                <a:ea typeface="굴림"/>
              </a:rPr>
              <a:t>国外精美商务</a:t>
            </a:r>
            <a:r>
              <a:rPr b="0" lang="en-US" sz="4000" spc="-1" strike="noStrike">
                <a:solidFill>
                  <a:srgbClr val="2b166e"/>
                </a:solidFill>
                <a:latin typeface="Arial"/>
                <a:ea typeface="굴림"/>
              </a:rPr>
              <a:t>PPT</a:t>
            </a:r>
            <a:r>
              <a:rPr b="0" lang="en-US" sz="4000" spc="-1" strike="noStrike">
                <a:solidFill>
                  <a:srgbClr val="2b166e"/>
                </a:solidFill>
                <a:latin typeface="Arial"/>
                <a:ea typeface="굴림"/>
              </a:rPr>
              <a:t>模板</a:t>
            </a:r>
            <a:r>
              <a:rPr b="0" lang="zh-CN" sz="4000" spc="-1" strike="noStrike">
                <a:solidFill>
                  <a:srgbClr val="2b166e"/>
                </a:solidFill>
                <a:latin typeface="Arial"/>
                <a:ea typeface="굴림"/>
              </a:rPr>
              <a:t>免费下载</a:t>
            </a:r>
            <a:endParaRPr b="1" lang="en-US" sz="4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1" name="矩形 25657"/>
          <p:cNvSpPr/>
          <p:nvPr/>
        </p:nvSpPr>
        <p:spPr>
          <a:xfrm>
            <a:off x="635040" y="5079960"/>
            <a:ext cx="6477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  <a:ea typeface="굴림"/>
              </a:rPr>
              <a:t>Add Your Company Slogan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2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166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b166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B6BB-9F61-495E-8D1A-F02542A93815}" type="slidenum">
              <a:rPr b="0" lang="zh-CN" sz="1400" spc="-1" strike="noStrike">
                <a:solidFill>
                  <a:srgbClr val="2b166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101520" y="4457880"/>
            <a:ext cx="81151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b166e"/>
                </a:solidFill>
                <a:latin typeface="Arial"/>
                <a:ea typeface="굴림"/>
              </a:rPr>
              <a:t>    </a:t>
            </a:r>
            <a:r>
              <a:rPr b="1" lang="en-US" sz="4400" spc="-1" strike="noStrike">
                <a:solidFill>
                  <a:srgbClr val="2b166e"/>
                </a:solidFill>
                <a:latin typeface="Arial"/>
                <a:ea typeface="굴림"/>
              </a:rPr>
              <a:t>Thank You!</a:t>
            </a:r>
            <a:endParaRPr b="1" lang="en-US" sz="4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9" name="矩形 55331"/>
          <p:cNvSpPr/>
          <p:nvPr/>
        </p:nvSpPr>
        <p:spPr>
          <a:xfrm>
            <a:off x="635040" y="5079960"/>
            <a:ext cx="6477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  <a:ea typeface="굴림"/>
              </a:rPr>
              <a:t>Add Your Company Slogan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0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2b166e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166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166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Arial"/>
                <a:ea typeface="굴림"/>
              </a:rPr>
              <a:t>Strengths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굴림"/>
              </a:rPr>
              <a:t> 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2b166e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2b166e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6" name="页脚占位符 1"/>
          <p:cNvSpPr/>
          <p:nvPr/>
        </p:nvSpPr>
        <p:spPr>
          <a:xfrm>
            <a:off x="6248520" y="657864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8" name="圆角矩形 38917"/>
          <p:cNvSpPr/>
          <p:nvPr/>
        </p:nvSpPr>
        <p:spPr>
          <a:xfrm>
            <a:off x="1193760" y="4724280"/>
            <a:ext cx="4889520" cy="711360"/>
          </a:xfrm>
          <a:prstGeom prst="roundRect">
            <a:avLst>
              <a:gd name="adj" fmla="val 25389"/>
            </a:avLst>
          </a:prstGeom>
          <a:gradFill rotWithShape="0">
            <a:gsLst>
              <a:gs pos="0">
                <a:srgbClr val="264776"/>
              </a:gs>
              <a:gs pos="50000">
                <a:srgbClr val="5399ff"/>
              </a:gs>
              <a:gs pos="100000">
                <a:srgbClr val="264776"/>
              </a:gs>
            </a:gsLst>
            <a:lin ang="27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59" name="圆角矩形 38921"/>
          <p:cNvSpPr/>
          <p:nvPr/>
        </p:nvSpPr>
        <p:spPr>
          <a:xfrm>
            <a:off x="1181160" y="3784680"/>
            <a:ext cx="4889520" cy="711000"/>
          </a:xfrm>
          <a:prstGeom prst="roundRect">
            <a:avLst>
              <a:gd name="adj" fmla="val 25389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0" name="圆角矩形 38925"/>
          <p:cNvSpPr/>
          <p:nvPr/>
        </p:nvSpPr>
        <p:spPr>
          <a:xfrm>
            <a:off x="1168560" y="2857680"/>
            <a:ext cx="4889520" cy="711000"/>
          </a:xfrm>
          <a:prstGeom prst="roundRect">
            <a:avLst>
              <a:gd name="adj" fmla="val 25389"/>
            </a:avLst>
          </a:prstGeom>
          <a:gradFill rotWithShape="0">
            <a:gsLst>
              <a:gs pos="0">
                <a:srgbClr val="264776"/>
              </a:gs>
              <a:gs pos="50000">
                <a:srgbClr val="5399ff"/>
              </a:gs>
              <a:gs pos="100000">
                <a:srgbClr val="264776"/>
              </a:gs>
            </a:gsLst>
            <a:lin ang="27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1" name="圆角矩形 38929"/>
          <p:cNvSpPr/>
          <p:nvPr/>
        </p:nvSpPr>
        <p:spPr>
          <a:xfrm>
            <a:off x="1155600" y="1905120"/>
            <a:ext cx="4889520" cy="711000"/>
          </a:xfrm>
          <a:prstGeom prst="roundRect">
            <a:avLst>
              <a:gd name="adj" fmla="val 25389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2" name="矩形 38932"/>
          <p:cNvSpPr/>
          <p:nvPr/>
        </p:nvSpPr>
        <p:spPr>
          <a:xfrm>
            <a:off x="1397160" y="2019240"/>
            <a:ext cx="4114800" cy="57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1. Introduction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3" name="矩形 38933"/>
          <p:cNvSpPr/>
          <p:nvPr/>
        </p:nvSpPr>
        <p:spPr>
          <a:xfrm>
            <a:off x="1397160" y="2959200"/>
            <a:ext cx="41148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2. Strategy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4" name="矩形 38934"/>
          <p:cNvSpPr/>
          <p:nvPr/>
        </p:nvSpPr>
        <p:spPr>
          <a:xfrm>
            <a:off x="1397160" y="3898800"/>
            <a:ext cx="4572000" cy="57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3. Challengers Forward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5" name="矩形 38935"/>
          <p:cNvSpPr/>
          <p:nvPr/>
        </p:nvSpPr>
        <p:spPr>
          <a:xfrm>
            <a:off x="1397160" y="4838760"/>
            <a:ext cx="41148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4. Conclusion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6" name="页脚占位符 1"/>
          <p:cNvSpPr/>
          <p:nvPr/>
        </p:nvSpPr>
        <p:spPr>
          <a:xfrm>
            <a:off x="6248520" y="657864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8" name="圆角矩形 44037"/>
          <p:cNvSpPr/>
          <p:nvPr/>
        </p:nvSpPr>
        <p:spPr>
          <a:xfrm>
            <a:off x="2502000" y="1955880"/>
            <a:ext cx="4101840" cy="622080"/>
          </a:xfrm>
          <a:prstGeom prst="roundRect">
            <a:avLst>
              <a:gd name="adj" fmla="val 25389"/>
            </a:avLst>
          </a:prstGeom>
          <a:gradFill rotWithShape="0">
            <a:gsLst>
              <a:gs pos="0">
                <a:srgbClr val="264776"/>
              </a:gs>
              <a:gs pos="50000">
                <a:srgbClr val="5399ff"/>
              </a:gs>
              <a:gs pos="100000">
                <a:srgbClr val="2647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9" name="立方体 44040"/>
          <p:cNvSpPr/>
          <p:nvPr/>
        </p:nvSpPr>
        <p:spPr>
          <a:xfrm rot="5400000">
            <a:off x="480600" y="3173400"/>
            <a:ext cx="2603520" cy="2425680"/>
          </a:xfrm>
          <a:prstGeom prst="cube">
            <a:avLst>
              <a:gd name="adj" fmla="val 6194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0" name="立方体 44041"/>
          <p:cNvSpPr/>
          <p:nvPr/>
        </p:nvSpPr>
        <p:spPr>
          <a:xfrm rot="5400000">
            <a:off x="3262320" y="3173400"/>
            <a:ext cx="2603520" cy="2425680"/>
          </a:xfrm>
          <a:prstGeom prst="cube">
            <a:avLst>
              <a:gd name="adj" fmla="val 5634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1" name="立方体 44042"/>
          <p:cNvSpPr/>
          <p:nvPr/>
        </p:nvSpPr>
        <p:spPr>
          <a:xfrm rot="5400000">
            <a:off x="6056280" y="3173400"/>
            <a:ext cx="2603520" cy="2425680"/>
          </a:xfrm>
          <a:prstGeom prst="cube">
            <a:avLst>
              <a:gd name="adj" fmla="val 5634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2" name="上箭头 44043"/>
          <p:cNvSpPr/>
          <p:nvPr/>
        </p:nvSpPr>
        <p:spPr>
          <a:xfrm flipV="1" rot="16200000">
            <a:off x="2774160" y="4075920"/>
            <a:ext cx="660240" cy="512640"/>
          </a:xfrm>
          <a:prstGeom prst="upArrow">
            <a:avLst>
              <a:gd name="adj1" fmla="val 60102"/>
              <a:gd name="adj2" fmla="val 450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3" name="上箭头 44044"/>
          <p:cNvSpPr/>
          <p:nvPr/>
        </p:nvSpPr>
        <p:spPr>
          <a:xfrm flipV="1" rot="16200000">
            <a:off x="5561280" y="4082040"/>
            <a:ext cx="660240" cy="500040"/>
          </a:xfrm>
          <a:prstGeom prst="upArrow">
            <a:avLst>
              <a:gd name="adj1" fmla="val 60102"/>
              <a:gd name="adj2" fmla="val 450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4" name="矩形 44045"/>
          <p:cNvSpPr/>
          <p:nvPr/>
        </p:nvSpPr>
        <p:spPr>
          <a:xfrm>
            <a:off x="1066680" y="3611520"/>
            <a:ext cx="10796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5" name="矩形 44046"/>
          <p:cNvSpPr/>
          <p:nvPr/>
        </p:nvSpPr>
        <p:spPr>
          <a:xfrm>
            <a:off x="3936960" y="3611520"/>
            <a:ext cx="10796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6" name="矩形 44047"/>
          <p:cNvSpPr/>
          <p:nvPr/>
        </p:nvSpPr>
        <p:spPr>
          <a:xfrm>
            <a:off x="6743880" y="3611520"/>
            <a:ext cx="10792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7" name="矩形 44048"/>
          <p:cNvSpPr/>
          <p:nvPr/>
        </p:nvSpPr>
        <p:spPr>
          <a:xfrm>
            <a:off x="2882880" y="2095560"/>
            <a:ext cx="280656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1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ext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78" name="页脚占位符 1"/>
          <p:cNvSpPr/>
          <p:nvPr/>
        </p:nvSpPr>
        <p:spPr>
          <a:xfrm>
            <a:off x="6248520" y="657864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0" name="立方体 45060"/>
          <p:cNvSpPr/>
          <p:nvPr/>
        </p:nvSpPr>
        <p:spPr>
          <a:xfrm rot="5400000">
            <a:off x="3428640" y="-355680"/>
            <a:ext cx="809640" cy="5131080"/>
          </a:xfrm>
          <a:prstGeom prst="cube">
            <a:avLst>
              <a:gd name="adj" fmla="val 1595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1" name="立方体 45061"/>
          <p:cNvSpPr/>
          <p:nvPr/>
        </p:nvSpPr>
        <p:spPr>
          <a:xfrm rot="5400000">
            <a:off x="3426840" y="734760"/>
            <a:ext cx="812880" cy="5131080"/>
          </a:xfrm>
          <a:prstGeom prst="cube">
            <a:avLst>
              <a:gd name="adj" fmla="val 15958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2" name="立方体 45062"/>
          <p:cNvSpPr/>
          <p:nvPr/>
        </p:nvSpPr>
        <p:spPr>
          <a:xfrm rot="5400000">
            <a:off x="3426840" y="1827000"/>
            <a:ext cx="812880" cy="5131080"/>
          </a:xfrm>
          <a:prstGeom prst="cube">
            <a:avLst>
              <a:gd name="adj" fmla="val 1595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3" name="立方体 45063"/>
          <p:cNvSpPr/>
          <p:nvPr/>
        </p:nvSpPr>
        <p:spPr>
          <a:xfrm rot="5400000">
            <a:off x="3427200" y="2918880"/>
            <a:ext cx="812520" cy="5131080"/>
          </a:xfrm>
          <a:prstGeom prst="cube">
            <a:avLst>
              <a:gd name="adj" fmla="val 15958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4" name="上箭头 45064"/>
          <p:cNvSpPr/>
          <p:nvPr/>
        </p:nvSpPr>
        <p:spPr>
          <a:xfrm flipV="1">
            <a:off x="3498840" y="2474280"/>
            <a:ext cx="660240" cy="398520"/>
          </a:xfrm>
          <a:prstGeom prst="upArrow">
            <a:avLst>
              <a:gd name="adj1" fmla="val 56731"/>
              <a:gd name="adj2" fmla="val 5334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5" name="上箭头 45065"/>
          <p:cNvSpPr/>
          <p:nvPr/>
        </p:nvSpPr>
        <p:spPr>
          <a:xfrm flipV="1">
            <a:off x="3498840" y="3567240"/>
            <a:ext cx="660240" cy="398160"/>
          </a:xfrm>
          <a:prstGeom prst="upArrow">
            <a:avLst>
              <a:gd name="adj1" fmla="val 56731"/>
              <a:gd name="adj2" fmla="val 53347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6" name="上箭头 45066"/>
          <p:cNvSpPr/>
          <p:nvPr/>
        </p:nvSpPr>
        <p:spPr>
          <a:xfrm flipV="1">
            <a:off x="3498840" y="4659480"/>
            <a:ext cx="660240" cy="398160"/>
          </a:xfrm>
          <a:prstGeom prst="upArrow">
            <a:avLst>
              <a:gd name="adj1" fmla="val 56731"/>
              <a:gd name="adj2" fmla="val 53347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7" name="矩形 45067"/>
          <p:cNvSpPr/>
          <p:nvPr/>
        </p:nvSpPr>
        <p:spPr>
          <a:xfrm>
            <a:off x="1930320" y="1973160"/>
            <a:ext cx="372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Your Text Her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8" name="矩形 45068"/>
          <p:cNvSpPr/>
          <p:nvPr/>
        </p:nvSpPr>
        <p:spPr>
          <a:xfrm>
            <a:off x="1930320" y="306540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Your Text Her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9" name="矩形 45069"/>
          <p:cNvSpPr/>
          <p:nvPr/>
        </p:nvSpPr>
        <p:spPr>
          <a:xfrm>
            <a:off x="1930320" y="415764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Your Text Her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0" name="矩形 45070"/>
          <p:cNvSpPr/>
          <p:nvPr/>
        </p:nvSpPr>
        <p:spPr>
          <a:xfrm>
            <a:off x="1930320" y="527544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Your Text Her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1" name="页脚占位符 1"/>
          <p:cNvSpPr/>
          <p:nvPr/>
        </p:nvSpPr>
        <p:spPr>
          <a:xfrm>
            <a:off x="6248520" y="657864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3" name="左右箭头 46084"/>
          <p:cNvSpPr/>
          <p:nvPr/>
        </p:nvSpPr>
        <p:spPr>
          <a:xfrm flipH="1" rot="8100000">
            <a:off x="2191320" y="2880720"/>
            <a:ext cx="1235160" cy="98280"/>
          </a:xfrm>
          <a:prstGeom prst="leftRightArrow">
            <a:avLst>
              <a:gd name="adj1" fmla="val 19759"/>
              <a:gd name="adj2" fmla="val 177112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000" bIns="-27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4" name="矩形 46085"/>
          <p:cNvSpPr/>
          <p:nvPr/>
        </p:nvSpPr>
        <p:spPr>
          <a:xfrm>
            <a:off x="2540160" y="3995640"/>
            <a:ext cx="36702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5" name="左右箭头 46086"/>
          <p:cNvSpPr/>
          <p:nvPr/>
        </p:nvSpPr>
        <p:spPr>
          <a:xfrm rot="13500000">
            <a:off x="5252760" y="2881080"/>
            <a:ext cx="1235160" cy="98640"/>
          </a:xfrm>
          <a:prstGeom prst="leftRightArrow">
            <a:avLst>
              <a:gd name="adj1" fmla="val 19759"/>
              <a:gd name="adj2" fmla="val 176466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6" name="左右箭头 46087"/>
          <p:cNvSpPr/>
          <p:nvPr/>
        </p:nvSpPr>
        <p:spPr>
          <a:xfrm flipH="1" flipV="1" rot="13500000">
            <a:off x="2305440" y="5038920"/>
            <a:ext cx="1235160" cy="98280"/>
          </a:xfrm>
          <a:prstGeom prst="leftRightArrow">
            <a:avLst>
              <a:gd name="adj1" fmla="val 19759"/>
              <a:gd name="adj2" fmla="val 177112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000" bIns="-27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7" name="左右箭头 46088"/>
          <p:cNvSpPr/>
          <p:nvPr/>
        </p:nvSpPr>
        <p:spPr>
          <a:xfrm flipV="1" rot="8100000">
            <a:off x="5240160" y="5040000"/>
            <a:ext cx="1235160" cy="98640"/>
          </a:xfrm>
          <a:prstGeom prst="leftRightArrow">
            <a:avLst>
              <a:gd name="adj1" fmla="val 19759"/>
              <a:gd name="adj2" fmla="val 176466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8" name="立方体 46089"/>
          <p:cNvSpPr/>
          <p:nvPr/>
        </p:nvSpPr>
        <p:spPr>
          <a:xfrm rot="5400000">
            <a:off x="6567120" y="3106440"/>
            <a:ext cx="1073160" cy="179100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9" name="立方体 46090"/>
          <p:cNvSpPr/>
          <p:nvPr/>
        </p:nvSpPr>
        <p:spPr>
          <a:xfrm rot="5400000">
            <a:off x="1106280" y="3106440"/>
            <a:ext cx="1073160" cy="179064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0" name="矩形 46091"/>
          <p:cNvSpPr/>
          <p:nvPr/>
        </p:nvSpPr>
        <p:spPr>
          <a:xfrm rot="5400000">
            <a:off x="2576520" y="3996360"/>
            <a:ext cx="36705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1" name="立方体 46092"/>
          <p:cNvSpPr/>
          <p:nvPr/>
        </p:nvSpPr>
        <p:spPr>
          <a:xfrm rot="5400000">
            <a:off x="3862080" y="1303200"/>
            <a:ext cx="1073160" cy="179064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2" name="立方体 46093"/>
          <p:cNvSpPr/>
          <p:nvPr/>
        </p:nvSpPr>
        <p:spPr>
          <a:xfrm rot="5400000">
            <a:off x="3862080" y="3068640"/>
            <a:ext cx="1073160" cy="179064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3" name="立方体 46094"/>
          <p:cNvSpPr/>
          <p:nvPr/>
        </p:nvSpPr>
        <p:spPr>
          <a:xfrm rot="5400000">
            <a:off x="3875040" y="4910040"/>
            <a:ext cx="1073160" cy="179064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4" name="矩形 46095"/>
          <p:cNvSpPr/>
          <p:nvPr/>
        </p:nvSpPr>
        <p:spPr>
          <a:xfrm>
            <a:off x="927000" y="3751200"/>
            <a:ext cx="134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Text 2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5" name="矩形 46096"/>
          <p:cNvSpPr/>
          <p:nvPr/>
        </p:nvSpPr>
        <p:spPr>
          <a:xfrm>
            <a:off x="3683160" y="3751200"/>
            <a:ext cx="1346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Text 5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6" name="矩形 46097"/>
          <p:cNvSpPr/>
          <p:nvPr/>
        </p:nvSpPr>
        <p:spPr>
          <a:xfrm>
            <a:off x="6413400" y="3751200"/>
            <a:ext cx="1346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Text 4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7" name="矩形 46098"/>
          <p:cNvSpPr/>
          <p:nvPr/>
        </p:nvSpPr>
        <p:spPr>
          <a:xfrm>
            <a:off x="3683160" y="1935000"/>
            <a:ext cx="1346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8" name="矩形 46099"/>
          <p:cNvSpPr/>
          <p:nvPr/>
        </p:nvSpPr>
        <p:spPr>
          <a:xfrm>
            <a:off x="3683160" y="5592600"/>
            <a:ext cx="1346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Text 3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9" name="页脚占位符 1"/>
          <p:cNvSpPr/>
          <p:nvPr/>
        </p:nvSpPr>
        <p:spPr>
          <a:xfrm>
            <a:off x="6248520" y="657864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47107"/>
          <p:cNvSpPr/>
          <p:nvPr/>
        </p:nvSpPr>
        <p:spPr>
          <a:xfrm>
            <a:off x="2193840" y="2382840"/>
            <a:ext cx="1528920" cy="393840"/>
          </a:xfrm>
          <a:prstGeom prst="rect">
            <a:avLst/>
          </a:prstGeom>
          <a:gradFill rotWithShape="0">
            <a:gsLst>
              <a:gs pos="0">
                <a:srgbClr val="5399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1" name="矩形 47108"/>
          <p:cNvSpPr/>
          <p:nvPr/>
        </p:nvSpPr>
        <p:spPr>
          <a:xfrm>
            <a:off x="2193840" y="2776680"/>
            <a:ext cx="1528920" cy="741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2" name="矩形 47109"/>
          <p:cNvSpPr/>
          <p:nvPr/>
        </p:nvSpPr>
        <p:spPr>
          <a:xfrm>
            <a:off x="2193840" y="3517920"/>
            <a:ext cx="1528920" cy="739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3" name="矩形 47110"/>
          <p:cNvSpPr/>
          <p:nvPr/>
        </p:nvSpPr>
        <p:spPr>
          <a:xfrm>
            <a:off x="2193840" y="4257720"/>
            <a:ext cx="1528920" cy="741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4" name="矩形 47111"/>
          <p:cNvSpPr/>
          <p:nvPr/>
        </p:nvSpPr>
        <p:spPr>
          <a:xfrm>
            <a:off x="2193840" y="4998960"/>
            <a:ext cx="1528920" cy="74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5" name="矩形 47112"/>
          <p:cNvSpPr/>
          <p:nvPr/>
        </p:nvSpPr>
        <p:spPr>
          <a:xfrm>
            <a:off x="3722760" y="2382840"/>
            <a:ext cx="1527120" cy="393840"/>
          </a:xfrm>
          <a:prstGeom prst="rect">
            <a:avLst/>
          </a:prstGeom>
          <a:gradFill rotWithShape="0">
            <a:gsLst>
              <a:gs pos="0">
                <a:srgbClr val="5399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6" name="矩形 47113"/>
          <p:cNvSpPr/>
          <p:nvPr/>
        </p:nvSpPr>
        <p:spPr>
          <a:xfrm>
            <a:off x="3722760" y="2776680"/>
            <a:ext cx="1527120" cy="741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7" name="矩形 47114"/>
          <p:cNvSpPr/>
          <p:nvPr/>
        </p:nvSpPr>
        <p:spPr>
          <a:xfrm>
            <a:off x="3722760" y="3517920"/>
            <a:ext cx="1527120" cy="739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8" name="矩形 47115"/>
          <p:cNvSpPr/>
          <p:nvPr/>
        </p:nvSpPr>
        <p:spPr>
          <a:xfrm>
            <a:off x="3722760" y="4257720"/>
            <a:ext cx="1527120" cy="741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9" name="矩形 47116"/>
          <p:cNvSpPr/>
          <p:nvPr/>
        </p:nvSpPr>
        <p:spPr>
          <a:xfrm>
            <a:off x="3722760" y="4998960"/>
            <a:ext cx="1527120" cy="74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0" name="矩形 47117"/>
          <p:cNvSpPr/>
          <p:nvPr/>
        </p:nvSpPr>
        <p:spPr>
          <a:xfrm>
            <a:off x="5249880" y="2382840"/>
            <a:ext cx="1528920" cy="393840"/>
          </a:xfrm>
          <a:prstGeom prst="rect">
            <a:avLst/>
          </a:prstGeom>
          <a:gradFill rotWithShape="0">
            <a:gsLst>
              <a:gs pos="0">
                <a:srgbClr val="5399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1" name="矩形 47118"/>
          <p:cNvSpPr/>
          <p:nvPr/>
        </p:nvSpPr>
        <p:spPr>
          <a:xfrm>
            <a:off x="5249880" y="2776680"/>
            <a:ext cx="1528920" cy="741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2" name="矩形 47119"/>
          <p:cNvSpPr/>
          <p:nvPr/>
        </p:nvSpPr>
        <p:spPr>
          <a:xfrm>
            <a:off x="5249880" y="3517920"/>
            <a:ext cx="1528920" cy="739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3" name="矩形 47120"/>
          <p:cNvSpPr/>
          <p:nvPr/>
        </p:nvSpPr>
        <p:spPr>
          <a:xfrm>
            <a:off x="5249880" y="4257720"/>
            <a:ext cx="1528920" cy="741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4" name="矩形 47121"/>
          <p:cNvSpPr/>
          <p:nvPr/>
        </p:nvSpPr>
        <p:spPr>
          <a:xfrm>
            <a:off x="5249880" y="4998960"/>
            <a:ext cx="1528920" cy="74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5" name="矩形 47122"/>
          <p:cNvSpPr/>
          <p:nvPr/>
        </p:nvSpPr>
        <p:spPr>
          <a:xfrm>
            <a:off x="6778800" y="2382840"/>
            <a:ext cx="1528560" cy="393840"/>
          </a:xfrm>
          <a:prstGeom prst="rect">
            <a:avLst/>
          </a:prstGeom>
          <a:gradFill rotWithShape="0">
            <a:gsLst>
              <a:gs pos="0">
                <a:srgbClr val="5399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6" name="矩形 47123"/>
          <p:cNvSpPr/>
          <p:nvPr/>
        </p:nvSpPr>
        <p:spPr>
          <a:xfrm>
            <a:off x="6778800" y="2776680"/>
            <a:ext cx="1528560" cy="741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7" name="矩形 47124"/>
          <p:cNvSpPr/>
          <p:nvPr/>
        </p:nvSpPr>
        <p:spPr>
          <a:xfrm>
            <a:off x="6778800" y="3517920"/>
            <a:ext cx="1528560" cy="739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8" name="矩形 47125"/>
          <p:cNvSpPr/>
          <p:nvPr/>
        </p:nvSpPr>
        <p:spPr>
          <a:xfrm>
            <a:off x="6778800" y="4257720"/>
            <a:ext cx="1528560" cy="741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9" name="矩形 47126"/>
          <p:cNvSpPr/>
          <p:nvPr/>
        </p:nvSpPr>
        <p:spPr>
          <a:xfrm>
            <a:off x="6778800" y="4998960"/>
            <a:ext cx="1528560" cy="741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0" name="矩形 47127"/>
          <p:cNvSpPr/>
          <p:nvPr/>
        </p:nvSpPr>
        <p:spPr>
          <a:xfrm>
            <a:off x="652320" y="2382840"/>
            <a:ext cx="1541520" cy="393840"/>
          </a:xfrm>
          <a:prstGeom prst="rect">
            <a:avLst/>
          </a:prstGeom>
          <a:gradFill rotWithShape="0">
            <a:gsLst>
              <a:gs pos="0">
                <a:srgbClr val="5399ff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1" name="矩形 47128"/>
          <p:cNvSpPr/>
          <p:nvPr/>
        </p:nvSpPr>
        <p:spPr>
          <a:xfrm>
            <a:off x="652320" y="2776680"/>
            <a:ext cx="1541520" cy="741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A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2" name="矩形 47129"/>
          <p:cNvSpPr/>
          <p:nvPr/>
        </p:nvSpPr>
        <p:spPr>
          <a:xfrm>
            <a:off x="652320" y="3517920"/>
            <a:ext cx="1541520" cy="7398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B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3" name="矩形 47130"/>
          <p:cNvSpPr/>
          <p:nvPr/>
        </p:nvSpPr>
        <p:spPr>
          <a:xfrm>
            <a:off x="652320" y="4257720"/>
            <a:ext cx="1541520" cy="741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C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4" name="矩形 47131"/>
          <p:cNvSpPr/>
          <p:nvPr/>
        </p:nvSpPr>
        <p:spPr>
          <a:xfrm>
            <a:off x="652320" y="4998960"/>
            <a:ext cx="1541520" cy="741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Verdana"/>
                <a:ea typeface="굴림"/>
              </a:rPr>
              <a:t>D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6" name="页脚占位符 1"/>
          <p:cNvSpPr/>
          <p:nvPr/>
        </p:nvSpPr>
        <p:spPr>
          <a:xfrm>
            <a:off x="6248520" y="657864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48131"/>
          <p:cNvSpPr/>
          <p:nvPr/>
        </p:nvSpPr>
        <p:spPr>
          <a:xfrm>
            <a:off x="26676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238" name="内容占位符 48132" descr=""/>
          <p:cNvPicPr/>
          <p:nvPr/>
        </p:nvPicPr>
        <p:blipFill>
          <a:blip r:embed="rId1"/>
          <a:stretch/>
        </p:blipFill>
        <p:spPr>
          <a:xfrm>
            <a:off x="893880" y="1576440"/>
            <a:ext cx="7153200" cy="5229000"/>
          </a:xfrm>
          <a:prstGeom prst="rect">
            <a:avLst/>
          </a:prstGeom>
          <a:ln w="0">
            <a:noFill/>
          </a:ln>
        </p:spPr>
      </p:pic>
      <p:sp>
        <p:nvSpPr>
          <p:cNvPr id="239" name="页脚占位符 1"/>
          <p:cNvSpPr/>
          <p:nvPr/>
        </p:nvSpPr>
        <p:spPr>
          <a:xfrm>
            <a:off x="6248520" y="657864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0" name="文本框 8197"/>
          <p:cNvSpPr/>
          <p:nvPr/>
        </p:nvSpPr>
        <p:spPr>
          <a:xfrm>
            <a:off x="684360" y="1459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166e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49155"/>
          <p:cNvSpPr/>
          <p:nvPr/>
        </p:nvSpPr>
        <p:spPr>
          <a:xfrm>
            <a:off x="26676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0" lang="en-US" sz="36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242" name="内容占位符 49159" descr=""/>
          <p:cNvPicPr/>
          <p:nvPr/>
        </p:nvPicPr>
        <p:blipFill>
          <a:blip r:embed="rId1"/>
          <a:stretch/>
        </p:blipFill>
        <p:spPr>
          <a:xfrm>
            <a:off x="541440" y="1278000"/>
            <a:ext cx="8049960" cy="5432400"/>
          </a:xfrm>
          <a:prstGeom prst="rect">
            <a:avLst/>
          </a:prstGeom>
          <a:ln w="0">
            <a:noFill/>
          </a:ln>
        </p:spPr>
      </p:pic>
      <p:sp>
        <p:nvSpPr>
          <p:cNvPr id="243" name="页脚占位符 1"/>
          <p:cNvSpPr/>
          <p:nvPr/>
        </p:nvSpPr>
        <p:spPr>
          <a:xfrm>
            <a:off x="6248520" y="657864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399ff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08Z</dcterms:modified>
  <cp:revision>19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