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9AF-17AD-488B-868E-96449DE3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90560" y="420696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2AD-765C-474A-94E8-36DAB658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9056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4864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CB9-5145-498C-BFBE-9D6C069B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06360" y="20574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2160" y="20574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90560" y="42069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06360" y="42069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22160" y="42069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829-CE3E-4F31-860A-23DD601B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734E-64CF-4481-9824-43670B5D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9056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FF6E-2D3A-434A-98F4-5FA9E4AF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96AC-9400-4450-A8DF-25C59852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14B1-DCBE-478C-8D31-9BDDB88B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764E-4B84-44C8-B7E5-086C8038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C86D-0148-45EF-BB62-8A71C686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9056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A8A0-A4A3-4BB6-9D00-847EAC29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9056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D60-6239-42AF-BAF6-20636D69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4864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0AF4-7737-4468-9AC7-E8FC121B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90560" y="420696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B805-4C44-4319-9AF8-43F339FE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90560" y="420696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A2CB-0082-46CC-89B8-04F31DC9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9056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4864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4425-6565-4DB7-951D-7E02B447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06360" y="20574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22160" y="20574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90560" y="42069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06360" y="42069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22160" y="42069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D43E-CE37-47C3-B397-B212C8CE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5EAE7-21D3-4F43-9161-EC617329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9056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6BFA3-61D8-425C-B0CD-DE759045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79C7D-F3F0-4415-934D-66A50750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671D0-186A-47ED-A957-0D712EDF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74CF-7DA9-4772-9044-3BB43515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C3C-2301-4B06-8BEE-C4F10172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89634-A29D-4F77-8F88-B9648C43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9056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2D913-F3C1-48C8-BADF-49086DCB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864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EEBA2-0F5D-4D74-A613-BB55DA76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90560" y="420696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D2960-FD39-4C8C-B6B3-8064BC8B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90560" y="420696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0C886-ED88-478E-8887-467A26C5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9056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4864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93030-9EC8-430C-B22A-684AD22A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06360" y="20574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022160" y="20574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90560" y="42069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06360" y="42069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022160" y="42069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00441-3CB4-434C-9240-69EDA92B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81E-6C12-45C2-9A45-635611E9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858-E539-4FBB-A8A3-7BD2215B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59BE-28AF-4543-8D1C-A11A046D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9056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79B-2A2F-4600-B6A8-C32DA3A7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48640" y="42069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AC7-9F3C-449C-A77C-99605ED8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8640" y="20574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90560" y="420696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52D1-1E2F-411D-92C7-3D76343D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9056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4805-9FC1-4EA0-A529-8E607E04D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9493-B86A-45F2-9A8A-02454EA774F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5982-5303-45EE-A995-EE066CAAC2C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59056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F9EB-18EE-4BB8-8098-6459B99F5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国外家庭活动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95280" y="2057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Sub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itle Goes He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5123"/>
          <p:cNvSpPr/>
          <p:nvPr/>
        </p:nvSpPr>
        <p:spPr>
          <a:xfrm>
            <a:off x="1781280" y="329400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35E0-B9E5-4C0C-8143-F75238551F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17:53:4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43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