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6E7-3DBA-4CE6-9852-D9A19200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8CF-4704-4EFF-A909-6E952E33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55B19-3A11-453C-B66B-82CC7F29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C59AC-53E1-4637-B4A9-1598138E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9A831-7977-4E00-9407-0154135F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42DDF-449C-4F8B-8EFD-E7C8A93A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AC374-2390-4F0A-8A3F-3C5419F6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8BBBC-AA18-493B-AC7F-FDC24F5B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1AB05-EBFE-4E33-9201-863E1E1E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778DD-7442-43BF-AB9B-C4D8B41D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52633-13F4-46CD-8EC7-CEA10B62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ECB46-E35C-4ECC-BFE4-C9F3A71E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841-FBC9-4585-97A8-A7DA027D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ECBEC-8903-4512-B8F1-FCA30B53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801D9-46AA-4921-8A82-06494CB9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FBBAB-85FA-4562-AD63-30B35726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5BE47-2640-4C58-B356-11DEEE9F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EBEF8-11C6-4CF3-992E-D45D4456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34F1A-62B9-4C82-A9F4-F7607BA0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A49B2-51D1-4779-B650-EDB3A229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C5B5D-9DCB-4BDA-BDEE-4BF3794A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0F51D-4FAC-4130-A41E-E0ADD858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8187B-15A1-4A16-B3DB-3503C866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2E9-F8F7-44A8-8887-7391968B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BEA9E-56D2-4912-B5B6-023313BD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D41DF-9760-4797-BF8F-16AF15FB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8B854-3574-44A3-A787-2F60BE76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3CA8A-77DD-4E71-B56E-B9998A54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F1F8A-4174-4AB8-AC1D-C071F4B7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34334-8D2E-4EB5-83B3-A09844F4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76B1E-6129-4D4A-BE8A-06524012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1DE4D-8FA7-4C4B-B331-B29C90FD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CBDB7-C2E3-4045-9C66-BDDCDFD5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4C55B-3E44-4009-B2CD-FD2A2ADF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4331-8458-41DC-AD88-8BE0AEFF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CB9DA-918B-4147-9427-67BB5A7F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327CD-8D10-4FEA-B434-2F261A4C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F736A-B68D-415E-8CAE-A4C766EB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2F71B-ADA6-4729-AF24-59FC182C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15471-23E0-4F4B-89F4-16C36105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7A2EB-76E9-4709-8AF0-13BEDA6A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0ACD2-D39F-4CE4-8851-E055B9EC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45707-A444-4882-B5C8-4A2D226B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AA929-FDF5-4AEB-A08A-4E03BBC5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53B12-265F-4BD8-9F4E-7B81FF51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C09D-7C1F-4D88-BAC6-2E714B15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B799A-08A2-40C3-A490-181C2AA1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64670-3253-4B94-B8F3-12A107C1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53AA0-5C2E-4F0E-85B1-AEE7BA44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A406A-4D0F-4D0F-B94A-63A08771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3A026-ABCC-452F-8F1A-F802552A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E45E6-F909-4D78-A48D-9D7A80CA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9E061-D1E5-475B-A219-8B18C4C9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EBC21-A01C-4BE2-8D1F-DFE74418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F0524-12CA-4691-960E-F15BD931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A6C42-D37E-4626-AD5B-CD3E5019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D3EF-10EC-41DE-BDF3-EC4170A0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386C1-6129-45BC-AB0C-AE64E94B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A9735-8729-473D-AF83-BFCC3D08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52472-6C62-42DB-900C-C885E91D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E1D24-1016-47D2-94AC-6CAAE8B5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80FA9-3394-498F-93DB-61574C44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4ED83-4222-45C3-B184-0932A268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A40E2-93F5-4DD5-9516-9B1E2663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B791-BA8A-4960-9E17-D6BDED40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A375-6753-4C84-9F62-904AE265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63D5-680F-4A09-9317-566ECB10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F879-14AF-4380-9C99-73431E4A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AF2-AB71-4301-9A42-75FFF553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0824-59AB-48AF-8A04-2127A569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EE22-2BC2-4358-8999-9F3BF22B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9122-E5B5-4B9F-B373-26718D24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024C-A185-479E-BD7C-7E45BBC0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D6A3-FDB7-4149-BD41-8976FECA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CB579-B2B9-4A8E-B2A6-2DAEB0DD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070AE-5769-49CC-BA6B-59824751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76A44-389E-452C-8F60-B9144998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B8AA-B1AF-4455-A250-C43F48B4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29EF-4428-4235-8D74-4E9C5F73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4A3-1F18-45FB-B985-52A315EB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BDB45-1AD2-438A-A1E5-694753A8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DB5EC-4CBB-4181-963E-45BD0A99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519CB-CA1C-4977-AD0F-A8D0FB6E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BF3D3-2CFD-476C-B667-4BFCD97A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58E4-0CDD-4F7C-9C6D-667503B8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0FBD2-7E73-4954-88A3-E9E06BC1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493FA-6601-4418-B253-ED25BC23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2141-E245-471E-A7E9-64616B9B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62710-9321-47B7-AE68-FBCE338B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01466-4034-4189-8B0C-9BCC977F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C87-0528-4719-83B5-73A6A838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2489E-C723-4F33-9A3E-BDEF87DD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7E02D-D907-492F-AFFF-AD649420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08F91-CDFC-404D-8B29-A57AB939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5C044-8030-4F37-A497-4A019A04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64771-2F00-42FF-9522-A0086C51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7C82F-2B74-425E-8687-E65381EF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52EEB-C9A9-4468-AC26-A1549693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4BC48-408D-4844-A44A-A4D31F41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4E470-DB1E-4B33-8E87-1A506AC1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32169-7DC5-42E9-A981-C6525947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FEA-612D-4F92-BE6C-E500B561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A9330-90CF-4A51-BD4F-C24B0ACF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4868D-FD49-4F37-84FD-A0DD37FC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FF6F8-0F36-41A9-AE82-9B0BDAEE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D712E-B4FA-4BE8-90EC-644CCE27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1EF61-7568-47B2-971F-920DB2BB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FEEB2-BBBA-4FA4-8221-E3FD7F1B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0019D-9F75-45F1-937A-800B6C77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702D9-B2A4-45C9-BC22-73B87195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A6196-DA23-49BF-A7FC-E23340DB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49CF0-4A69-4838-956B-0457F77F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67E-2E83-4B7C-971E-DF5C33A3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4CE8D-374E-471B-B34E-7D7D3DAE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7D2EB-DC8E-4187-8577-6B25B962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3DB3D-93BE-4F09-A914-1410150C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A19FB-B879-4F80-9F45-F60ED637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B0860-33D5-4470-8FE1-311E4BDB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42428-A6F8-47A9-A05F-0C10B6B3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18928-5D0A-434E-A7C8-4ACFBC9D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C4074-BAC3-4FDC-BB8E-2877D2D4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11C91-4B6A-4B91-8EE0-03EEF97D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36D45-2F11-4099-84F5-62E2C119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47E-3307-4C2C-9EC6-A0158275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E776D-0B2D-4383-843B-7662098C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E732C-31D7-4350-AC2B-6EE3BFCB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24B90-787B-49E3-A60A-D7E1E6A3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F0981-1744-4F53-9E57-9377E1E5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82EB6-C8FF-4332-AC24-10EAE4B8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0E585-2726-4734-8381-F5236FCA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57A6C-F51B-402C-B4E1-4CEBF056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4618F-05AD-4CAA-AD31-A5F979F8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22004-894D-4A74-8AEF-FD9C18EE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5B7AB-7ED0-4B3F-9FCD-9295EF8F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B45-6EBB-4412-B28C-36125829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6FF32-CEF8-4C27-8BD6-E7B3C12B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1C0AB-C33E-403D-9E0E-8D0072F3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B8DEB-A400-4653-8E91-78BDC666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C1792-29FE-4447-849E-F81C267A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9A50F-9197-48FF-BDAF-1B04D5C4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3D766-9B86-4548-9B09-C97A4ACD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EF889-CB27-4153-8D1D-1261EB61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1D84C-2BAA-4DEE-9356-D3DECBB9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92E3E-761F-4D0B-94D5-7FAE3AF7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C7E4B-0872-4412-BC84-E635CCF8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BF6-8ACA-4D62-8294-E3D082F5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336BB-1DD4-48F9-A5D8-7CFB4E50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ADCA8-5BD9-40A2-B5A5-2382E4AA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F7380-6B17-45C9-93B7-58EF247B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0B016-A5EF-477F-A4AE-78C78100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8485A-53FD-4DE7-A841-6DC4AC53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DE3E7-C857-413F-B48C-E611B333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A1841-46BD-4131-A987-7CC1C701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1E2C4-E44D-460D-96C9-C4EFEEFF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C6A8B-85C8-4D78-B22C-B28E694C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C1F38-7932-4FB9-AF22-23471EF6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9BCD-72BF-4812-B9D1-DF5343D85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804D-A440-4CB3-9D58-99C16F291C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6D06-9CB9-4A6E-A90A-6F987F4870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6B62-BFBF-4999-A50A-FC243ED1D6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86FD-00C5-4535-8F0A-78A6575836E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9B1F-6EB4-4132-8398-2A44828451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CB8F-608F-4095-B82D-7A0ED62A95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1C91-BCDA-45EA-8573-13842BA84E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668A-AEF6-4C23-AD6C-725831367E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126D-AF10-4D28-B8BD-0DC20DB545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C869-180E-4717-A6B5-872070EAB4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7074-30F6-4B57-A91C-154658752B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4310-D21E-4CE5-A60F-A413BCDFFC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DB8D-E561-4B28-8039-0847D80917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960" y="2285640"/>
            <a:ext cx="3886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fbdd"/>
                </a:solidFill>
                <a:latin typeface="Arial"/>
                <a:ea typeface="宋体"/>
              </a:rPr>
              <a:t>Eyes of a Child</a:t>
            </a:r>
            <a:endParaRPr b="0" lang="en-US" sz="40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75960" y="396252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433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340"/>
          <p:cNvSpPr/>
          <p:nvPr/>
        </p:nvSpPr>
        <p:spPr>
          <a:xfrm>
            <a:off x="2317680" y="13716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家庭教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6388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DBB4-8CD1-4CE1-8F31-07DAC0F5A6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4876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ransitio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age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20:35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41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