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E2A4-213B-4A67-9276-DA09DF15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353124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754C-2CB1-49AA-9BFC-5A1EE18F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3360" y="11430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5312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3360" y="35312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53AB-E745-41BE-9F2E-1553F196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1080" y="11430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26880" y="11430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35312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1080" y="35312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26880" y="35312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DF17-00A6-4E2D-8471-D3D5D840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D465-8651-4661-AB51-24987161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11430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FE66-7CCC-4A68-A44D-3A2E31A0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99E5-463B-4D58-99DB-7881029F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3360" y="11430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36CC-C27C-40E0-8DF8-07EA3940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63CC-E267-451D-93F1-D875DB6B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5280" y="76320"/>
            <a:ext cx="6553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821F-C9E6-4C62-8689-81BEC324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3360" y="11430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5280" y="35312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2E0B-C0A5-4AB4-B35D-384D667A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11430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0B42-656D-40AC-A5FB-86599757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3360" y="11430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3360" y="35312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DB42-F4B1-4492-9DC8-C386D6B6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3360" y="11430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353124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AA09-E061-45C5-868F-4618A07C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5280" y="353124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C2B0-C954-484F-818F-D520B367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3360" y="11430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5280" y="35312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3360" y="35312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1375-9ABE-471F-89FC-7A3F7626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1080" y="11430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26880" y="11430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5280" y="35312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1080" y="35312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26880" y="35312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4BCD-4737-4F7F-A736-243D427C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7FA46-F873-46E3-8DC2-8140703C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11430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9E3C3-620E-4D5D-9961-C86F1DA2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290AC-DCC1-412B-9516-81505098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3360" y="11430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89B0B-0A4A-4FAF-953F-62A1DAC0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75DF1-A517-487E-9A40-0CF51BD0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06D5-0733-4192-A756-5FB3B08F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295280" y="76320"/>
            <a:ext cx="6553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01275-2A5C-49E2-9689-2D6E8137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3360" y="11430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95280" y="35312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4919A-7AB8-4AD3-AB98-091DDB93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3360" y="11430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3360" y="35312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D5C7B-3C8B-4A09-BE25-37ADE8B4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3360" y="11430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95280" y="353124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9A189-4C5F-43CE-B58C-2264F33F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95280" y="353124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9BA72-CF0F-4AAF-9779-C0F79346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3360" y="11430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95280" y="35312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3360" y="35312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895A2-F034-4108-B00A-F7A68E81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11080" y="11430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26880" y="11430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95280" y="35312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11080" y="35312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26880" y="35312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5E4B5-DB5C-4A4F-BB5E-2B345A2A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3360" y="11430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D1E8-2F8E-4A26-AC0D-7128CD90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5CD8-32B1-4CE9-A7A1-E861FBEE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5280" y="76320"/>
            <a:ext cx="6553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B539-F765-481B-A11B-CB3C6748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360" y="11430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35312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95F0-D434-450F-A19F-BA4351C5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360" y="11430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3360" y="35312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1CEE-E18A-470B-A711-64A54B61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3360" y="11430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353124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2F24-E2D0-4202-AEFA-E8A218E8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1430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4362-A02E-42A6-BD32-5E0F0000A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08A4-0EC3-4AE7-94BC-5C389C44B1F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94A5-7F3C-4FF7-ABCD-BCB4717C9E5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95280" y="11430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5AA6-009D-4613-98BF-A7ECE1CCD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animationfactory.com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3657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Kitchen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ounter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209680" y="5028840"/>
            <a:ext cx="3657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R SUBTITLE GOES HERE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4100"/>
          <p:cNvSpPr/>
          <p:nvPr/>
        </p:nvSpPr>
        <p:spPr>
          <a:xfrm>
            <a:off x="2723760" y="2286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国外家庭生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Your Topic Goes Her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Your subtopics Go Her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文本框 6147"/>
          <p:cNvSpPr/>
          <p:nvPr/>
        </p:nvSpPr>
        <p:spPr>
          <a:xfrm>
            <a:off x="755640" y="249408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76560" y="2437920"/>
            <a:ext cx="2971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nsition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C5DC-4D9E-4353-B274-0B80E179BC3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8193" descr="af_logo"/>
          <p:cNvPicPr/>
          <p:nvPr/>
        </p:nvPicPr>
        <p:blipFill>
          <a:blip r:embed="rId1"/>
          <a:stretch/>
        </p:blipFill>
        <p:spPr>
          <a:xfrm>
            <a:off x="685800" y="228600"/>
            <a:ext cx="2286000" cy="57312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457200" y="6477120"/>
            <a:ext cx="8153280" cy="360"/>
            <a:chOff x="457200" y="6477120"/>
            <a:chExt cx="8153280" cy="360"/>
          </a:xfrm>
        </p:grpSpPr>
        <p:sp>
          <p:nvSpPr>
            <p:cNvPr id="139" name="直接连接符 8194"/>
            <p:cNvSpPr/>
            <p:nvPr/>
          </p:nvSpPr>
          <p:spPr>
            <a:xfrm>
              <a:off x="457200" y="6477120"/>
              <a:ext cx="815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457200" y="6477120"/>
              <a:ext cx="815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57200" y="1600200"/>
            <a:ext cx="8153280" cy="360"/>
            <a:chOff x="457200" y="1600200"/>
            <a:chExt cx="8153280" cy="360"/>
          </a:xfrm>
        </p:grpSpPr>
        <p:sp>
          <p:nvSpPr>
            <p:cNvPr id="142" name="直接连接符 8195"/>
            <p:cNvSpPr/>
            <p:nvPr/>
          </p:nvSpPr>
          <p:spPr>
            <a:xfrm>
              <a:off x="457200" y="1600200"/>
              <a:ext cx="815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457200" y="1600200"/>
              <a:ext cx="815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文本框 8196"/>
          <p:cNvSpPr/>
          <p:nvPr/>
        </p:nvSpPr>
        <p:spPr>
          <a:xfrm>
            <a:off x="4038480" y="22860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Arial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8197">
            <a:hlinkClick r:id="rId2"/>
          </p:cNvPr>
          <p:cNvSpPr/>
          <p:nvPr/>
        </p:nvSpPr>
        <p:spPr>
          <a:xfrm>
            <a:off x="1448640" y="76212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" y="4038480"/>
            <a:ext cx="8153280" cy="360"/>
            <a:chOff x="457200" y="4038480"/>
            <a:chExt cx="8153280" cy="360"/>
          </a:xfrm>
        </p:grpSpPr>
        <p:sp>
          <p:nvSpPr>
            <p:cNvPr id="147" name="直接连接符 8198"/>
            <p:cNvSpPr/>
            <p:nvPr/>
          </p:nvSpPr>
          <p:spPr>
            <a:xfrm>
              <a:off x="457200" y="4038480"/>
              <a:ext cx="815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457200" y="4038480"/>
              <a:ext cx="815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图片 8199" descr="kitchen_counter_qx"/>
          <p:cNvPicPr/>
          <p:nvPr/>
        </p:nvPicPr>
        <p:blipFill>
          <a:blip r:embed="rId3"/>
          <a:stretch/>
        </p:blipFill>
        <p:spPr>
          <a:xfrm>
            <a:off x="457200" y="16765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8200" descr="kitchen_counter_trs"/>
          <p:cNvPicPr/>
          <p:nvPr/>
        </p:nvPicPr>
        <p:blipFill>
          <a:blip r:embed="rId4"/>
          <a:stretch/>
        </p:blipFill>
        <p:spPr>
          <a:xfrm>
            <a:off x="4038480" y="16765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8201" descr="kitchen_counter_sld"/>
          <p:cNvPicPr/>
          <p:nvPr/>
        </p:nvPicPr>
        <p:blipFill>
          <a:blip r:embed="rId5"/>
          <a:stretch/>
        </p:blipFill>
        <p:spPr>
          <a:xfrm>
            <a:off x="457200" y="41148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8202" descr="kitchen_counter_prt"/>
          <p:cNvPicPr/>
          <p:nvPr/>
        </p:nvPicPr>
        <p:blipFill>
          <a:blip r:embed="rId6"/>
          <a:stretch/>
        </p:blipFill>
        <p:spPr>
          <a:xfrm>
            <a:off x="4038480" y="41148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03:59:0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44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