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2DFF4-72F6-47E0-82D8-0E1ADD8EE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4920" y="249840"/>
            <a:ext cx="76197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838080"/>
            <a:ext cx="76197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3465000"/>
            <a:ext cx="76197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E2E95-E683-4E12-A43F-B6CDD0774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920" y="249840"/>
            <a:ext cx="76197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838080"/>
            <a:ext cx="3718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209120" y="838080"/>
            <a:ext cx="3718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3465000"/>
            <a:ext cx="3718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209120" y="3465000"/>
            <a:ext cx="3718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DDE83-DE1E-4296-B451-66A13F94E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920" y="249840"/>
            <a:ext cx="76197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838080"/>
            <a:ext cx="2453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881440" y="838080"/>
            <a:ext cx="2453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457960" y="838080"/>
            <a:ext cx="2453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3465000"/>
            <a:ext cx="2453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881440" y="3465000"/>
            <a:ext cx="2453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457960" y="3465000"/>
            <a:ext cx="2453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6CAF1-529C-48F1-9D0A-1488C491D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29255-4BE9-49DE-A1B0-DA7AD8F05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249840"/>
            <a:ext cx="76197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4920" y="838080"/>
            <a:ext cx="761976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0BE45-A56B-4442-A3A7-55D436978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249840"/>
            <a:ext cx="76197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920" y="838080"/>
            <a:ext cx="76197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CAA57-3DA9-469B-A2B0-909178BDA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249840"/>
            <a:ext cx="76197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838080"/>
            <a:ext cx="3718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209120" y="838080"/>
            <a:ext cx="3718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43277-E2F8-49A9-92B3-2FED19E13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249840"/>
            <a:ext cx="76197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4FCAD-0C7D-407B-928E-A493AB201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4920" y="304560"/>
            <a:ext cx="7619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A3ABA-34EC-4C4C-8997-E0D9034C4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249840"/>
            <a:ext cx="76197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838080"/>
            <a:ext cx="3718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209120" y="838080"/>
            <a:ext cx="3718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4920" y="3465000"/>
            <a:ext cx="3718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360DC-BBE4-4010-A1C7-789A6BE29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249840"/>
            <a:ext cx="76197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838080"/>
            <a:ext cx="761976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9615B-D8B8-4644-8670-4E8EC4B4B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249840"/>
            <a:ext cx="76197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838080"/>
            <a:ext cx="3718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09120" y="838080"/>
            <a:ext cx="3718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209120" y="3465000"/>
            <a:ext cx="3718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9ECD4-FC4C-42E9-ADBF-FD63C16A2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249840"/>
            <a:ext cx="76197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838080"/>
            <a:ext cx="3718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09120" y="838080"/>
            <a:ext cx="3718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4920" y="3465000"/>
            <a:ext cx="76197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070D8-25B0-4416-9357-7CEFB2811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249840"/>
            <a:ext cx="76197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838080"/>
            <a:ext cx="76197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4920" y="3465000"/>
            <a:ext cx="76197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C65A3-A8A2-4589-9F36-0BC2908E7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249840"/>
            <a:ext cx="76197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838080"/>
            <a:ext cx="3718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209120" y="838080"/>
            <a:ext cx="3718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4920" y="3465000"/>
            <a:ext cx="3718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209120" y="3465000"/>
            <a:ext cx="3718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3C34F-8F59-4789-9D25-ACDB018ED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249840"/>
            <a:ext cx="76197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838080"/>
            <a:ext cx="2453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881440" y="838080"/>
            <a:ext cx="2453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457960" y="838080"/>
            <a:ext cx="2453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4920" y="3465000"/>
            <a:ext cx="2453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881440" y="3465000"/>
            <a:ext cx="2453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457960" y="3465000"/>
            <a:ext cx="2453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0F9AE-CB66-4E9B-9F25-A5FF7A436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8B60A3-451E-4ED5-B515-D9AAE6E24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249840"/>
            <a:ext cx="76197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04920" y="838080"/>
            <a:ext cx="761976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E14CAB-F97F-4943-B1DA-B0B4E6794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4920" y="249840"/>
            <a:ext cx="76197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838080"/>
            <a:ext cx="76197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FF956F-8E20-45DC-9A95-6E7586B7F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920" y="249840"/>
            <a:ext cx="76197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838080"/>
            <a:ext cx="3718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209120" y="838080"/>
            <a:ext cx="3718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BB91F6-414A-4E98-B750-6F207C739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4920" y="249840"/>
            <a:ext cx="76197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D53E94-8533-4C08-8BF9-5210C93F7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249840"/>
            <a:ext cx="76197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838080"/>
            <a:ext cx="76197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E867B-9C63-471E-B92D-FB54E33A2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304920" y="304560"/>
            <a:ext cx="7619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5104C2-99D1-4F2D-9DE4-B530F4569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249840"/>
            <a:ext cx="76197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838080"/>
            <a:ext cx="3718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209120" y="838080"/>
            <a:ext cx="3718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304920" y="3465000"/>
            <a:ext cx="3718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6706EE-31AF-443E-9BB7-B8D2F6F49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920" y="249840"/>
            <a:ext cx="76197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4920" y="838080"/>
            <a:ext cx="3718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209120" y="838080"/>
            <a:ext cx="3718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209120" y="3465000"/>
            <a:ext cx="3718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9BCCAD-7EFC-4C6B-9A9D-43A1E3F46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4920" y="249840"/>
            <a:ext cx="76197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4920" y="838080"/>
            <a:ext cx="3718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209120" y="838080"/>
            <a:ext cx="3718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304920" y="3465000"/>
            <a:ext cx="76197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DE7EC6-D9D8-46E8-87EE-6FF2BF695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249840"/>
            <a:ext cx="76197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838080"/>
            <a:ext cx="76197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04920" y="3465000"/>
            <a:ext cx="76197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A95755-B971-4ACB-86E0-DC71EEDE0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4920" y="249840"/>
            <a:ext cx="76197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920" y="838080"/>
            <a:ext cx="3718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209120" y="838080"/>
            <a:ext cx="3718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04920" y="3465000"/>
            <a:ext cx="3718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209120" y="3465000"/>
            <a:ext cx="3718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FD2833-084C-4842-8944-7F82F3CE4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4920" y="249840"/>
            <a:ext cx="76197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838080"/>
            <a:ext cx="2453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2881440" y="838080"/>
            <a:ext cx="2453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457960" y="838080"/>
            <a:ext cx="2453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304920" y="3465000"/>
            <a:ext cx="2453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2881440" y="3465000"/>
            <a:ext cx="2453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457960" y="3465000"/>
            <a:ext cx="2453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D13C6E-5F33-4D9D-A3EB-083A8A572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249840"/>
            <a:ext cx="76197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838080"/>
            <a:ext cx="3718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209120" y="838080"/>
            <a:ext cx="3718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92966-AE14-4494-AE54-DFA714276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920" y="249840"/>
            <a:ext cx="76197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1F5BE-541F-49C7-AAD1-2389DDE16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4920" y="304560"/>
            <a:ext cx="7619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40909-BBB7-43E0-99C0-30D93D186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249840"/>
            <a:ext cx="76197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838080"/>
            <a:ext cx="3718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209120" y="838080"/>
            <a:ext cx="3718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3465000"/>
            <a:ext cx="3718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DD5E8-D2C1-4D39-BBCC-02C963D43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249840"/>
            <a:ext cx="76197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838080"/>
            <a:ext cx="3718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209120" y="838080"/>
            <a:ext cx="3718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209120" y="3465000"/>
            <a:ext cx="3718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4E5C2-FCE1-4895-81EB-4C612D024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249840"/>
            <a:ext cx="76197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838080"/>
            <a:ext cx="3718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209120" y="838080"/>
            <a:ext cx="3718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3465000"/>
            <a:ext cx="76197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72DDD-02F4-4EBF-8BB6-3571592ED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76197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838080"/>
            <a:ext cx="76197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4572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-4572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-9144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-914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-914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705360"/>
            <a:ext cx="190512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705360"/>
            <a:ext cx="289584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705360"/>
            <a:ext cx="190512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333333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4F9DB-8918-4843-A509-F3BA62A81218}" type="slidenum">
              <a:rPr b="1" lang="en-US" sz="1000" spc="-1" strike="noStrike">
                <a:solidFill>
                  <a:srgbClr val="333333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93281-BDB7-46C6-8BAA-815631AA070C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8A2E4-A3F9-4780-B1FB-5555939E1F79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76197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04920" y="838080"/>
            <a:ext cx="76197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4572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-4572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-9144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-914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-914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0" y="6705360"/>
            <a:ext cx="190512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705360"/>
            <a:ext cx="289584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7238880" y="6705360"/>
            <a:ext cx="190512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9B938-496F-4C12-9C18-1C40E9130E70}" type="slidenum"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hyperlink" Target="http://www.eeppt.com/moban/jiaoyu/" TargetMode="External"/><Relationship Id="rId22" Type="http://schemas.openxmlformats.org/officeDocument/2006/relationships/hyperlink" Target="http://www.eeppt.com/moban/keji/" TargetMode="External"/><Relationship Id="rId23" Type="http://schemas.openxmlformats.org/officeDocument/2006/relationships/hyperlink" Target="http://www.eeppt.com/moban/lunwen/" TargetMode="External"/><Relationship Id="rId24" Type="http://schemas.openxmlformats.org/officeDocument/2006/relationships/hyperlink" Target="http://www.eeppt.com/moban/tongyong/" TargetMode="External"/><Relationship Id="rId25" Type="http://schemas.openxmlformats.org/officeDocument/2006/relationships/hyperlink" Target="http://www.eeppt.com/moban/yiliao/" TargetMode="External"/><Relationship Id="rId26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297144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Impact"/>
              </a:rPr>
              <a:t>国外</a:t>
            </a:r>
            <a:r>
              <a:rPr b="0" lang="en-US" sz="4000" spc="-1" strike="noStrike">
                <a:solidFill>
                  <a:srgbClr val="ffffff"/>
                </a:solidFill>
                <a:latin typeface="Impact"/>
              </a:rPr>
              <a:t>简约</a:t>
            </a:r>
            <a:r>
              <a:rPr b="0" lang="en-US" sz="4000" spc="-1" strike="noStrike">
                <a:solidFill>
                  <a:srgbClr val="ffffff"/>
                </a:solidFill>
                <a:latin typeface="Impact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Impact"/>
              </a:rPr>
              <a:t>模板打包下载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0" y="3505320"/>
            <a:ext cx="9144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subtitle goes he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76197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Your Topic Goes Her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838080"/>
            <a:ext cx="76197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subtopic goes he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文本框 8197"/>
          <p:cNvSpPr/>
          <p:nvPr/>
        </p:nvSpPr>
        <p:spPr>
          <a:xfrm>
            <a:off x="755640" y="2854440"/>
            <a:ext cx="58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模板打包下载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Arial"/>
                <a:ea typeface="宋体"/>
                <a:hlinkClick r:id="rId1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297144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Transitional Pag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0" y="3474720"/>
            <a:ext cx="9144000" cy="30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A6E56-25EF-4B31-9052-87DFB6C4AB3D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76197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80"/>
                </a:solidFill>
                <a:latin typeface="Arial"/>
              </a:rPr>
              <a:t>Your Topic Goes Her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4920" y="838080"/>
            <a:ext cx="76197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Your subtopic goes he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13:45:14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1-13T04:32:58Z</dcterms:modified>
  <cp:revision>7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46</vt:lpwstr>
  </property>
</Properties>
</file>