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gif" ContentType="image/gif"/>
  <Override PartName="/ppt/media/image6.jpeg" ContentType="image/jpe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2E25E-5757-4F96-A592-F26406564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960" y="457200"/>
            <a:ext cx="8305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960" y="1950840"/>
            <a:ext cx="74674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960" y="4155480"/>
            <a:ext cx="74674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EABA8-7BF3-4075-9FE4-67E3CA5F2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960" y="457200"/>
            <a:ext cx="8305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960" y="195084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902400" y="195084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960" y="415548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902400" y="415548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286BB-93AB-4614-82A7-E12436E43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960" y="457200"/>
            <a:ext cx="8305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960" y="195084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01000" y="195084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126040" y="195084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960" y="415548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01000" y="415548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126040" y="415548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B52A6-F513-4642-8AE3-C19AE9903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07208-4902-4050-A75C-125C2F4FD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5960" y="457200"/>
            <a:ext cx="8305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75960" y="1950840"/>
            <a:ext cx="7467480" cy="422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E1E1C-6466-4E3D-AFC8-17048E518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960" y="457200"/>
            <a:ext cx="8305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5960" y="1950840"/>
            <a:ext cx="746748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CD2E6-541A-4D10-A862-8F37248D7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5960" y="457200"/>
            <a:ext cx="8305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5960" y="1950840"/>
            <a:ext cx="364392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902400" y="1950840"/>
            <a:ext cx="364392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CD527-9104-4C75-9105-E98E31E24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5960" y="457200"/>
            <a:ext cx="8305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99FBE-5AEB-452D-81B8-6BFBF692B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75960" y="457200"/>
            <a:ext cx="83055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95F45-A5F1-4A28-BBED-F142994D5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5960" y="457200"/>
            <a:ext cx="8305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5960" y="195084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902400" y="1950840"/>
            <a:ext cx="364392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75960" y="415548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0D2DB-C64B-4747-8814-D8A86CFFD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960" y="457200"/>
            <a:ext cx="8305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960" y="1950840"/>
            <a:ext cx="7467480" cy="422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98952-1C0F-482D-B280-3EDC45592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960" y="457200"/>
            <a:ext cx="8305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960" y="1950840"/>
            <a:ext cx="364392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902400" y="195084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902400" y="415548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C07C2-F2F1-4F29-957A-A658F386E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5960" y="457200"/>
            <a:ext cx="8305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960" y="195084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902400" y="195084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5960" y="4155480"/>
            <a:ext cx="74674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06005-363A-46F4-8F16-529246216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5960" y="457200"/>
            <a:ext cx="8305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960" y="1950840"/>
            <a:ext cx="74674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5960" y="4155480"/>
            <a:ext cx="74674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9F3FA-B466-4340-8062-3851E493A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5960" y="457200"/>
            <a:ext cx="8305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5960" y="195084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902400" y="195084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5960" y="415548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3902400" y="415548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F826D-4996-4B6E-817C-746AF9021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5960" y="457200"/>
            <a:ext cx="8305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5960" y="195084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601000" y="195084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26040" y="195084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75960" y="415548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601000" y="415548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126040" y="415548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911F9-DE05-4E18-B147-DC59355E8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8B7E5B-A8FA-4F85-8E80-C2895B191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5960" y="457200"/>
            <a:ext cx="8305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75960" y="1950840"/>
            <a:ext cx="7467480" cy="422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4068A7-E29B-4F94-853A-2C7660870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5960" y="457200"/>
            <a:ext cx="8305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960" y="1950840"/>
            <a:ext cx="746748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166203-6B22-40F4-B62A-83DA6A61E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5960" y="457200"/>
            <a:ext cx="8305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960" y="1950840"/>
            <a:ext cx="364392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902400" y="1950840"/>
            <a:ext cx="364392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77769E-B2A1-4C0C-86DF-A1615BA0F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5960" y="457200"/>
            <a:ext cx="8305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C06DA7-D233-4BD0-87F1-6108F35AD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960" y="457200"/>
            <a:ext cx="8305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960" y="1950840"/>
            <a:ext cx="746748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3F8E9-B6EF-434C-A8D6-74B694616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75960" y="457200"/>
            <a:ext cx="83055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676DC7-0605-4127-95CD-EC9FE46DA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5960" y="457200"/>
            <a:ext cx="8305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5960" y="195084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902400" y="1950840"/>
            <a:ext cx="364392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75960" y="415548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ABFC48-58E3-40DE-B9FE-E8A57AB40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5960" y="457200"/>
            <a:ext cx="8305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960" y="1950840"/>
            <a:ext cx="364392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902400" y="195084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3902400" y="415548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25F5B8-7C72-4498-9EF3-C1042A020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960" y="457200"/>
            <a:ext cx="8305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5960" y="195084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902400" y="195084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75960" y="4155480"/>
            <a:ext cx="74674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81B6A7-3E27-4C3C-9B5C-6EDEBEA9B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5960" y="457200"/>
            <a:ext cx="8305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5960" y="1950840"/>
            <a:ext cx="74674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75960" y="4155480"/>
            <a:ext cx="74674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EABEF1-AF8B-4338-B7CC-610939240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5960" y="457200"/>
            <a:ext cx="8305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5960" y="195084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902400" y="195084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75960" y="415548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3902400" y="415548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3A2EEE-8789-4322-B0C9-A07EB96BA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5960" y="457200"/>
            <a:ext cx="8305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5960" y="195084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2601000" y="195084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126040" y="195084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75960" y="415548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2601000" y="415548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126040" y="415548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75453F-EB7D-4B25-A880-6E4E61D62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960" y="457200"/>
            <a:ext cx="8305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960" y="1950840"/>
            <a:ext cx="364392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902400" y="1950840"/>
            <a:ext cx="364392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CE846-69D1-4792-B981-946950EDE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960" y="457200"/>
            <a:ext cx="8305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29F9E-1EA8-4EBE-9C17-FA86DC8A3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960" y="457200"/>
            <a:ext cx="83055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BC6EA-CC9E-4F6D-914A-D4E8E295E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960" y="457200"/>
            <a:ext cx="8305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960" y="195084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902400" y="1950840"/>
            <a:ext cx="364392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960" y="415548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BEE07-7DC4-4351-B5DB-AA2FCF740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960" y="457200"/>
            <a:ext cx="8305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960" y="1950840"/>
            <a:ext cx="364392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902400" y="195084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902400" y="415548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4E544-77AF-4D8F-BD0D-00D90E08B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960" y="457200"/>
            <a:ext cx="8305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960" y="195084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902400" y="195084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960" y="4155480"/>
            <a:ext cx="74674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F2EDD-DF80-4D97-9B78-500918DA3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960" y="457200"/>
            <a:ext cx="8305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960" y="1950840"/>
            <a:ext cx="746748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02FDD-1E08-438B-8555-DFF5B2377E5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76E4D-2BB5-4468-BD99-6E376E61DF3A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6FE8A-48DF-4E05-A514-B899AF0CECF1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5960" y="457200"/>
            <a:ext cx="8305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75960" y="1950840"/>
            <a:ext cx="746748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42038-30EA-4F0C-9AB5-D74AC8F385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hyperlink" Target="http://www.eeppt.com/moban/" TargetMode="Externa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hyperlink" Target="http://www.eeppt.com/moban/jiaoyu/" TargetMode="External"/><Relationship Id="rId22" Type="http://schemas.openxmlformats.org/officeDocument/2006/relationships/hyperlink" Target="http://www.eeppt.com/moban/keji/" TargetMode="External"/><Relationship Id="rId23" Type="http://schemas.openxmlformats.org/officeDocument/2006/relationships/hyperlink" Target="http://www.eeppt.com/moban/lunwen/" TargetMode="External"/><Relationship Id="rId24" Type="http://schemas.openxmlformats.org/officeDocument/2006/relationships/hyperlink" Target="http://www.eeppt.com/moban/tongyong/" TargetMode="External"/><Relationship Id="rId25" Type="http://schemas.openxmlformats.org/officeDocument/2006/relationships/hyperlink" Target="http://www.eeppt.com/moban/yiliao/" TargetMode="External"/><Relationship Id="rId26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600" spc="-1" strike="noStrike">
                <a:solidFill>
                  <a:srgbClr val="000099"/>
                </a:solidFill>
                <a:latin typeface="Arial Black"/>
              </a:rPr>
              <a:t>FAMILY TREE</a:t>
            </a:r>
            <a:endParaRPr b="0" i="1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5486400" y="6172200"/>
            <a:ext cx="3657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Your Subtitle Goes 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文本框 4099"/>
          <p:cNvSpPr/>
          <p:nvPr/>
        </p:nvSpPr>
        <p:spPr>
          <a:xfrm>
            <a:off x="76320" y="624852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文本框 4100"/>
          <p:cNvSpPr/>
          <p:nvPr/>
        </p:nvSpPr>
        <p:spPr>
          <a:xfrm>
            <a:off x="2617560" y="1219320"/>
            <a:ext cx="4600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Arial"/>
              </a:rPr>
              <a:t>国外卡通家庭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幻灯片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5960" y="457200"/>
            <a:ext cx="8305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Arial"/>
              </a:rPr>
              <a:t>YOUR TOPIC GOES HERE</a:t>
            </a:r>
            <a:endParaRPr b="0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75960" y="1950840"/>
            <a:ext cx="746748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our Subtopics Go 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5960" y="457200"/>
            <a:ext cx="8305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Arial"/>
              </a:rPr>
              <a:t>YOUR TOPIC GOES HERE</a:t>
            </a:r>
            <a:endParaRPr b="0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75960" y="1950840"/>
            <a:ext cx="746748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r Subtopics Go 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图片 6147" descr="guy_peeking_"/>
          <p:cNvPicPr/>
          <p:nvPr/>
        </p:nvPicPr>
        <p:blipFill>
          <a:blip r:embed="rId2"/>
          <a:stretch/>
        </p:blipFill>
        <p:spPr>
          <a:xfrm>
            <a:off x="6781680" y="5229360"/>
            <a:ext cx="1362240" cy="1247760"/>
          </a:xfrm>
          <a:prstGeom prst="rect">
            <a:avLst/>
          </a:prstGeom>
          <a:ln w="0">
            <a:noFill/>
          </a:ln>
        </p:spPr>
      </p:pic>
      <p:sp>
        <p:nvSpPr>
          <p:cNvPr id="132" name="文本框 6148"/>
          <p:cNvSpPr/>
          <p:nvPr/>
        </p:nvSpPr>
        <p:spPr>
          <a:xfrm>
            <a:off x="755640" y="2494080"/>
            <a:ext cx="585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3"/>
              </a:rPr>
              <a:t>ppt模板下载 免费完整版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Arial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1B15E-489A-4B86-B70D-E7D773843CCE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ffffff"/>
                </a:solidFill>
                <a:latin typeface="Arial Black"/>
              </a:rPr>
              <a:t>TRANSITIONAL PAGE</a:t>
            </a:r>
            <a:endParaRPr b="0" i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0T03:34:49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1-13T04:32:34Z</dcterms:modified>
  <cp:revision>2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46</vt:lpwstr>
  </property>
</Properties>
</file>