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CBBE-3210-44EE-9646-099E021AB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1D16-1AE6-400B-9148-0D06117B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50CE5-268A-48B6-B261-C030ECBB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DE1C2-7454-43DA-A512-80F54376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2437920" y="99036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FD52F-5EA4-4E59-B092-4BDB47AB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B8D79C-B6FB-497C-8E1B-AE616714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F69845-A15F-494D-89AC-84AB91DC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B19F0-0A4E-464A-AA0A-0609BE9C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C89F4-75D6-4633-A428-9C1FD03D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3C312-3DEA-402C-9C50-CACA5B3D5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5040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6324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243792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55040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66324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F131A-366A-44E9-868C-405EB4E83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D25EA-FEA1-4B40-95C8-DAB5096E7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8A5C-EA81-4BED-8B49-0F14F6202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31BA1-9DD0-4AF0-81E0-6D8E1245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91A19D-9287-4380-A733-5C03C2F3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742849-A252-4956-8A57-8F79F9E6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1E30A-4F2A-47C1-8835-C373B840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2437920" y="99036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DB89FA-426D-48ED-B3BE-39DA572E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96A334-DEE8-4C5D-90B8-45345C58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A1DC22-C2DB-4CCB-9A59-A145B8C9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C4BF9E-5770-458F-B374-49A8BD58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5AA671-7A57-4138-AE8A-7AA654A3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55EB94-A7C0-4AA3-99D1-A67C3B37F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5040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6324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792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5040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6324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59A9-E806-4F88-BDF0-7522391D7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5040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66324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243792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55040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66324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7D5F5-A4F4-46E8-874A-32011F422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1FD4C-E469-437A-9D58-E8B51D013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7616A-2815-484A-B297-8E618D7A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B8A4F-D2D2-4398-AE93-5E0BB87B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19123-4088-41FD-BF62-BD7A1B09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0412D-F5F6-48B2-9104-1441AEFB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2437920" y="99036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F50B7-FB25-4D09-888B-9B5A8721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9B514-875C-4151-B64C-48F748E8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353F9-4019-4226-9D90-219F90C5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F1805-3F64-48AC-A0E8-98EE051C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B21E-579E-46F4-8BFB-EBE634C0F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9A394-70F0-488F-A7FF-10AD55F9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2116F-5650-4D10-A8F9-5DEC68D86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5040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6324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243792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55040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66324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FFAC1-E366-457C-9237-760CA53CE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0BEBD4-A2D1-41D4-9EF9-8286CE42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1A15F0-0C97-42B2-BDFE-DCD9DC48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E8AD00-0E0E-442A-BF4A-80E70280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44957-E7D7-48CE-AFE9-DA61CD2B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43A2E7-60DB-4C5D-A832-66E83374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2437920" y="99036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BCB50C-66C2-478E-A719-28AF6C0B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700429-1589-40DD-9C9B-145FDCFF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1DE7-5951-4AD1-8D58-1A8032CE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FDA3AF-E235-4079-9619-B9815E69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5F3FDA-3C03-424E-9288-FD1FBD22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7BD869-308A-4557-9FF7-FF7FEA11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D88FE5-CA33-4D9A-8DDD-2A3D2FE1D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5040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66324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243792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55040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66324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F697AE-1336-470B-9E1B-C5EB7DC9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BB652B-8CBA-4969-B1B8-3DAF484B9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0E40F8-F0AE-4BA0-9A13-831C737C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90BA97-796F-45B0-B573-FCA5E454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8069C5-6E1E-48B9-9550-CB1CC7B5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419E26-29A3-46DA-B5DE-02E3FA31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0EEB-6277-48AD-8A22-5FFF5329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2437920" y="99036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C9E78F-E3DC-4177-B5BC-FF498E9A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0ABDF8-514B-4B88-8326-6D01381F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0B3156-71F0-4D7C-8481-A3EDC2A9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B09D3A-E7B8-4810-8227-7ECE619B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9D9225-7B03-4CF5-809D-BA5ECE47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CF19EA-8947-43C1-AE44-4F84627CC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5040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66324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243792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55040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66324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D2E843-2581-48EF-A973-B8A200BB9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7E64-838B-4E41-A763-47FA9DA5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9930-1941-49AC-92FE-F8B70CDB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37920" y="99036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036E-EE43-4275-94A5-7859DC1E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AB3C-EAE4-4A5F-86AC-690FBD2C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FB3E-1FA0-4A55-96F4-EE4C39AC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61E6-222A-4A75-9DD5-FF4B5364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E856-924E-4693-A75C-A4127C2F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F2FD-03B6-4E00-B9E2-BDD045F4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DF46-94C6-423B-80F9-2168103C1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040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6324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3792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5040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6324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C432-F5A0-4045-BA45-90FF6D484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5329C-2D7C-4D88-AF7B-BEA3528AF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9682C-AA0D-489F-AEDA-F9AE3580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80129-C5CC-492C-84F4-CF301178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97FE6-8DE5-424C-8C95-B4E2B300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D3673-2729-48C1-AB7E-EF8B1833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DD30-7459-432F-A118-28724662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37920" y="99036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96579-865F-4E61-81C3-04B304E4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609BB-DAFD-407F-980E-40A46E93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D4AA2-5E3F-4CD7-A69C-02833010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68F59-DC16-4BE1-951D-A83717EF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28D05-C6C6-43AB-8393-9880E8B8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CF229-F691-45D6-B798-F25197F8C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5040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6324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3792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55040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6324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B23B8-F6A2-49B0-9760-1EEB53A98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C8082-81F6-4BB7-B6E8-7FB267065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F3355-2B18-4772-9BC5-7C207AD3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5D5E4-6D4B-4A65-B53E-1BA18DEF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8037-CDF9-4643-B39B-CDD19059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D4294-C251-4418-BD1E-213D6EAE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21D78-F3EC-4071-8591-FEB63CB0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37920" y="99036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92A5A-7F9B-44F7-96EE-FA2424FB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0E53D-9FFB-45D0-8C51-D15143F7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9E12E-58EB-457E-968B-9058CF8A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13284-ED81-45C8-87E9-15E7576D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EF1E7-FAC8-4B9B-92A3-FE415DFA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AFDF1-B188-4B1F-A341-0DFD08724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5040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6324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3792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55040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6324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8E048-68C7-497D-BAD7-8F761A51E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7F5CE-2601-47AC-BBC4-9C73F41AF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A650-1F49-4595-B160-E671A0E2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C2B43-71B6-46A3-9E31-6E2C2E56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3F742-ACAF-4D1D-B370-BD28D051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00EF9-094D-4E3F-965B-8D62AB61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C0F03-271E-44C4-9636-FFF7DFC7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437920" y="99036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C8079-4458-4F1B-9873-C7A24F4F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7E50F-960A-4299-B82A-F2496734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298B2-8E29-4CC7-9E87-01C60084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F938A-FCAB-419A-A525-6AD8CDC8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077C3-A480-463B-A7EE-35924AF8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0D436-D1C5-42B4-A563-7A8730C83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7920" y="99036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77DB-910A-484A-AF34-D01FF005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040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6324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243792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55040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6324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20E44-9B0D-4671-97CE-4FDA0A693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7D79B-CF03-4D3A-B34C-D0FBB018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BBA27-8581-474B-87D4-5864AD83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DC284-34CA-443A-911C-E9E2B192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7AC39-2711-4E27-AAE3-6CB0D8A2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27695-2CFA-47F6-8AD9-26DF13E0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2437920" y="99036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EC6A4-F57E-4BE5-B3C3-DFCC6A08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B88C8-237B-412D-95D0-5ED91B00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2BE5A-489F-4E15-89ED-928CF5FF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A32A6-F63B-4DFA-8062-76CED2AE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93C7-AF70-4CD2-A329-D93624EF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EED66-FD50-4887-9C3F-E710D5E4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62192-E0CA-42F0-9C3E-745DB151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5040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6324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243792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55040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66324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BE602-0586-4B9E-8DA2-F1EC210E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C6F6D-705D-4B23-BF2D-E53EC7ACB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1BDAA-46AA-489B-B5CB-6BE03A21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91EE7-59AE-4B45-8570-ECC72472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F7B70-D584-418A-B079-5E7B8AE6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DAE0E-BDD0-4B95-BE35-A2628559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437920" y="99036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56287-5700-422D-94D8-EE44AB16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22AAF-B786-4B57-B83C-D374A284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EE64-9C09-4B56-89E0-38862A5E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10E96-782A-4461-842E-3656F268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323B2-6565-47BF-8566-F91831F2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97469-E80B-4AC9-92A0-1FC9E5F4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AF06A-FACC-488F-898F-23B30738E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5040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6324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243792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55040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66324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49B88-2C31-467A-9ABF-CB3D52BB2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C95DB-D2F3-475E-BE12-9091247A0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E006D-5EAB-4D82-8915-EBE18190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708CC-589C-4BFF-BC7A-DDF38D3B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A9E78-E616-451D-88B7-0FD5213E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D8922-DC5B-46C1-B4B8-F501D47E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61CA-00FF-4658-A765-6073E93C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437920" y="99036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7A49B-3360-4048-926B-43DDD734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29A5D-9FD4-4F41-B0E4-C8191555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D2D1A-7D02-41EB-9ECD-A2EB1717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BAC87-7FB0-446E-B050-DF7290E8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B567A-0B27-413A-B512-5EB5950A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DE424-491C-472B-935F-32C2CAAD0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5040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6324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243792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55040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66324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DA187-44AD-47AD-B05A-0E483E542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2C8C0F-3751-4061-A762-F4E7DD41F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8DA40-A3FC-48A6-8833-8765CFD0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FABC00-01F7-486E-BF8C-B8DA8983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902880" indent="-18036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3" marL="1263960" indent="-18036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4" marL="1625040" indent="-180360">
              <a:spcBef>
                <a:spcPts val="700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5" marL="162504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6" marL="162504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http://www.sc115.com--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9C48-EBFA-4D32-8C45-841FE4E64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902880" indent="-18036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3" marL="1263960" indent="-18036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4" marL="1625040" indent="-180360">
              <a:spcBef>
                <a:spcPts val="700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5" marL="162504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6" marL="162504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2D09-1698-4D67-A4BF-1DA2E92C3A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902880" indent="-18036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3" marL="1263960" indent="-18036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4" marL="1625040" indent="-180360">
              <a:spcBef>
                <a:spcPts val="700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5" marL="162504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6" marL="162504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AA51-9E0C-4A5E-824E-0DA8C9C2C7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902880" indent="-18036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3" marL="1263960" indent="-18036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4" marL="1625040" indent="-180360">
              <a:spcBef>
                <a:spcPts val="700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5" marL="162504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6" marL="162504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BEF4-6492-4C09-A363-E18F0721F48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E684-A375-47FE-B7BE-B85771D8334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B806-ABCA-4E4E-BF1C-52765132D9D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902880" indent="-18036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3" marL="1263960" indent="-18036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4" marL="1625040" indent="-180360">
              <a:spcBef>
                <a:spcPts val="700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5" marL="162504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6" marL="162504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http://www.sc115.com--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022E-B015-4CE8-935A-D382FD99FC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902880" indent="-18036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3" marL="1263960" indent="-18036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4" marL="1625040" indent="-180360">
              <a:spcBef>
                <a:spcPts val="700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5" marL="162504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6" marL="162504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7FAC-C347-4284-BE12-A53DB237CE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902880" indent="-18036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3" marL="1263960" indent="-18036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4" marL="1625040" indent="-180360">
              <a:spcBef>
                <a:spcPts val="700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5" marL="162504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6" marL="162504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766A-B7EB-4651-9213-D47309F2758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902880" indent="-18036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3" marL="1263960" indent="-18036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4" marL="1625040" indent="-180360">
              <a:spcBef>
                <a:spcPts val="700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5" marL="162504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6" marL="162504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7430-76FE-4C95-98BB-D7BF0CAE13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902880" indent="-18036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3" marL="1263960" indent="-18036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4" marL="1625040" indent="-180360">
              <a:spcBef>
                <a:spcPts val="700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5" marL="162504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6" marL="162504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F6E4-47CE-478E-8F94-22ABBD46A9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902880" indent="-18036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3" marL="1263960" indent="-18036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4" marL="1625040" indent="-180360">
              <a:spcBef>
                <a:spcPts val="700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5" marL="162504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6" marL="162504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2C67-5F1B-49DA-820E-ABE1605184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902880" indent="-18036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3" marL="1263960" indent="-18036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4" marL="1625040" indent="-180360">
              <a:spcBef>
                <a:spcPts val="700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5" marL="162504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6" marL="162504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3D8C-D360-4BA4-8B3C-3B105154AB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902880" indent="-18036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3" marL="1263960" indent="-18036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4" marL="1625040" indent="-180360">
              <a:spcBef>
                <a:spcPts val="700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5" marL="162504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6" marL="162504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80FE-7E61-40A6-B0CB-96D4965994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361960" y="2130120"/>
            <a:ext cx="6095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宋体"/>
              </a:rPr>
              <a:t>Baby Boy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2362320" y="3886200"/>
            <a:ext cx="5410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dd your sub text goes her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5" name="文本框 1433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4340"/>
          <p:cNvSpPr/>
          <p:nvPr/>
        </p:nvSpPr>
        <p:spPr>
          <a:xfrm>
            <a:off x="1631880" y="144792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国外卡通家庭人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3333cc"/>
              </a:solidFill>
              <a:latin typeface="Arial"/>
              <a:ea typeface="宋体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3333cc"/>
              </a:solidFill>
              <a:latin typeface="Arial"/>
              <a:ea typeface="宋体"/>
            </a:endParaRPr>
          </a:p>
        </p:txBody>
      </p:sp>
      <p:sp>
        <p:nvSpPr>
          <p:cNvPr id="539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  <a:ea typeface="宋体"/>
              </a:rPr>
              <a:t>Your print page is here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dd topics her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2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16388"/>
          <p:cNvSpPr/>
          <p:nvPr/>
        </p:nvSpPr>
        <p:spPr>
          <a:xfrm>
            <a:off x="1295280" y="38862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6C6F-4223-4D3C-AC52-E846C4A53EE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19320" y="990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  <a:ea typeface="宋体"/>
              </a:rPr>
              <a:t>Transitional Page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4:19:4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2:33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