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8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379-9036-4FF9-AA57-85B05A71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94A-4EC0-42B4-846F-788BA884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B494A-D11C-4CB6-B92B-F7E9F39B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A07A8-092F-43F9-B90D-BA20BAC8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18843-8053-4A7B-B4AD-3FAEB87A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77272-38A5-4418-9A02-71BE4E49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D314E-1202-48BC-8608-79F1F164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9E6CC-9723-4EBA-806B-7EB7216F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7C600-6F7D-4D69-AAC9-7FB48EE3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87521-D8FA-4A54-86C0-27BC4AD0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1F77C-6274-4958-B84F-ED3D0BE4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BAB85-A911-456B-A0B6-C8C27F32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44C-B7D2-4D63-9FC8-8462057D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5272A-4F9B-4CB1-8B0E-E4A4FAFB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4FFBE-91CE-4453-8546-7305DB26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4BD1E-CBE0-41E4-A09C-24D93CCB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97331-B8CE-4AEA-A484-7AF65159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710E1-EBA4-401E-8201-3878B051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6AAD7-595E-4F33-8A02-91247237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A9B9D-35C9-430A-A55D-FB873E69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70353-E7C9-4681-9F51-FED73B4E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62EF3-215E-4BC4-A907-4C26DA2D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FF6CA-A3EC-4395-9EAB-4B7C1CCE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CC4-D55E-4ED4-992E-35E4031D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5F353-9108-4B74-ABFE-804DBCE3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5C243-E7BD-4451-B856-17F74413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B87E6-CBF5-442C-A52A-F3861C12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3D8CB-6936-45B6-BA67-843B4BBB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5540A-914F-469E-BE94-FDDBF6F5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8F3FA-BE31-4B34-8F1E-1FE17A2F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CDA1C-59C5-49D5-A234-797745CD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52A51-CDD4-4478-BD8F-41BDCD63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9B98B-2F5A-4BE4-902A-FF17BC4F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9CFCD-3899-4EF6-AD9A-2FE79B8A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7563-781C-49B9-A2BB-1F91F6CF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96D93-F68A-4401-A2E4-2CC9710C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C9732-8073-4CE5-A1AD-06084BE4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50A49-66D5-4257-92AB-CE34DF38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6A79C-C9CE-4A33-A0C8-D5407A98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575DA-5D22-4D2F-BF92-6542CE24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F9D7D-0414-430B-8251-647E5F48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4BC0C-5141-427C-A8FA-E0E1DBA5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1E84F-2548-4278-9055-3C0DF7C4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5AD3C-3293-4CE3-9A4F-FA42449B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CF89E-B48F-4301-A7D0-AC6A30FA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B59D-D2C5-43FA-84FC-867202E4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01C2E-4E6D-4F1A-BE8B-9B925A92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9D938-7ED3-4299-AEF9-436FADBE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D0917-6439-4C92-ADF1-6BB66BCD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1F851-C969-4A50-83BF-59D29232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E0273-18CB-4E4D-86FE-B290FFF4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A4A2A-B1EC-466B-B5D3-E0A2322D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E8889-AEF4-448F-A339-98EEDB29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99E9F-560E-4F16-B949-38D1C7E1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875A1-F962-4501-8F3F-66C82AF6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FE0E3-E62F-491C-9299-9563B8BF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7A3E-B5A4-427D-9D8F-017BFB02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58679-D84E-4BB7-862B-610BE7CB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C7CFC-3B58-40CF-8D6F-8F078A0D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F1698-B5E5-42DC-A33B-34876799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90A23-B331-44AA-B9B9-B16C1A9F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3C879-508B-4E65-9A6A-512E2827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3CD5A-381C-45C1-8612-9F640EB3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12209-8889-4E7D-84ED-2465F89E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128D9-9FB8-4B0F-91FF-C06F3C53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DCD6A2-DA50-4EE6-8702-BE17921B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83563-E368-445B-9DF6-2D9BDF11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B108-42C4-49FC-85CA-0849E5DA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51479-618E-4158-BF39-7FE833C8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A79CE-4F69-41CC-A57E-A9FBD25F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3ACDD-CB12-40B1-B460-0E371694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62249-AC52-4F53-B2D2-D783F87C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3C0ED8-B81B-4330-9D96-CDBCC6F8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E456B-74C4-44A9-B554-8F613B06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15F8A-904F-4EE0-9368-D759F508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69E0E-4D0A-40E2-BD2E-A702A22E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9CA5F-BE63-42E2-B8A0-57CD405A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40F0-D992-4CA3-A141-65DBE1A5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4442-6234-4AC1-82D4-19A23294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E0F0-166E-4328-A12E-9C995152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CDE-2E20-41E8-8F83-2DED4282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A607-5F47-4F46-8575-D0575F48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0BC3-3DA5-4A22-8C07-4EE9BA8B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4644-93F5-4ADE-8DE5-87374155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315F-927B-4753-AC99-9F7B9FB6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D065-2755-4F6A-81FB-4777B3F3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4B8A-43D4-4E94-B808-BD2C7730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F63F4-D7B5-442B-AC1A-0832D837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C4612-37FA-4735-8707-50C10866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339E3-C6F1-4BB8-9861-95A37F18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2A53-CF8E-44B0-A824-6E9246F2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EE0-6586-4DAB-A5E1-3B8EA341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C38BF-4FC3-4327-83C6-E8AC293A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15F4-BC9B-4B11-992E-309B15BB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4B5E-37F9-4A73-8FC0-2776F934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7E753-8444-43F1-B6B2-2040E3E2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4029C-5827-4F99-BD3D-7FD4C724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9451-FDA6-4EC2-AE24-3FD5B20F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AE8A-F509-4D61-96F1-5F3B9DC5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2246E-0910-42EF-8C85-84C06EF0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2B758-1C16-484D-B824-A82D316F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54D4-2ED0-4192-8079-08E18325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725-37FF-4F2A-8887-8493142E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70520-DF16-4159-8534-1B5B1BDE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5E6F8-6418-40D0-B543-BD3D2F59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8B876-B717-4CFE-8AEF-4025CA14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7FE10-67EE-4BE8-960E-3F0D2B2F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E2D95-153D-4B6B-8724-F304BCE4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5B85D-56A7-4F33-9C3A-633875DA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CFC87-DBB9-4D69-8EF9-5C361BAF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E38BB-872C-4038-9A06-A2E14458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D55EF-763E-42F8-87EC-6807565B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9A26D-51F3-4B58-83BC-2A16380E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B5F-CC2A-4D38-A9DD-454D3F81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5F40C-509D-4826-938B-71E0269C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963DB-E712-42E0-BC3E-024FF0B7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28810-3016-473A-84AF-53A69390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DA7B1-DA2D-414D-BE24-D961C62C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DA944-1383-4CBB-ABFE-DF68B1E7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A47A5-8CC3-46DB-9E8E-BD82BFEC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F04D5-B404-439B-AAF3-115C7928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1FCA5-0940-4658-A8C1-C194CB1D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1CEFE-8A62-4455-B4E7-3D3DFBBA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F532D-D9CE-4AC1-892F-8217AA43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9C7-46CD-4375-B73F-C1A3309F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C7ED6-2523-4347-832F-7ADA0E29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175B5-7D5C-48F8-B7CF-84E619E0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AFF38-393E-4CBA-BF58-401746E8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6BAF9-5709-4E33-B3BD-1FA44FF0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4A948-A019-49A6-926A-F729382B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F1560-7598-4D7E-81A0-E0D7B3CD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02C96-72AC-4ECB-A7E1-E47C3FF3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BC856-052C-475F-AEDA-22C9149A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88B8D-7B77-4692-938F-BDD06691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B53AD-DCC5-4F83-9C10-F8AB0B38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2D8-39C1-4F8B-A722-0CEB77C4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86802-318D-40D5-A7C8-19B937C2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1C5B1-3011-43B5-8008-314AD65B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70365-020E-4BA4-8364-9A31AE70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2ECD6-26B5-43DD-B26D-00BC90B5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C201E-A6A9-4FBF-9A3A-736066FE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9A14F-F3C5-488C-A196-17701B10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85F64-2EC8-4E3B-A578-6179C8C7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573BC-5765-4205-AD0A-9A881163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A380A-4A6E-44CC-B063-C4525F75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AE3C0-E4DF-4A8F-8FF6-B612BA5B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449-8459-447C-A7D9-5157481C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F8606-259F-4858-BEAB-BC165D9F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86878-FAC9-485F-8D88-84D9A7D6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CABFE-7279-402D-8F06-E1CE0A06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F682D-3525-4CD8-BE98-C1BFC5DE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E9237-A6FD-4D89-969E-FE96D130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91624-E6C6-4FB2-9B6F-90805714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82A01-6B8C-4359-94B7-79E000D1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F927D-EC36-41D2-851E-E1F132B9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7BFE0-8AE3-4410-8BFB-69BE134A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A500C-8148-476C-891D-C4DD30C5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602-5285-484F-BC4C-AFEB1110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75960" y="38088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3761B-3169-4830-A10B-6E68234B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19A08-8C7C-4DAA-B464-6048A9FF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A43C0-0DEE-4FEE-A360-A97BB455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B6374-96E9-4FC4-9ED7-6B6DFD59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52280" y="378036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83450-155C-443E-9DE1-A7EBFAB4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900960" y="91440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5228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900960" y="378036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6BFDF-EC0A-419B-AB54-D06658B7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254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98680" y="91440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522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6254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098680" y="378036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40844-F4FC-4783-88F1-ADDE0ECD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F0EB2-1538-4BD1-8912-035B72F7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82340-D903-4AA1-9814-F62197D3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960" y="2577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5D185-B303-4F39-BC1E-5F8AB0C3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d00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d00cc"/>
                </a:solidFill>
                <a:latin typeface="Times New Roman"/>
                <a:ea typeface="宋体"/>
              </a:rPr>
              <a:t>素彩网</a:t>
            </a:r>
            <a:r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-http://www.sc115.com--PPT</a:t>
            </a:r>
            <a:r>
              <a:rPr b="0" lang="zh-CN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模板免费下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F1F5-E775-480F-87BE-4E6FB4BA1EC6}" type="slidenum">
              <a:rPr b="0" lang="en-US" sz="1000" spc="-1" strike="noStrike">
                <a:solidFill>
                  <a:srgbClr val="8d00cc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A46A-B295-4A7F-BFD2-FA17C43D1C7B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4D46-69E9-4D88-A06E-32F620A23591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C34E-4543-421D-874B-815BE8CD1740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24FD-8A4C-4701-92A2-B060D0A18EF3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3C4E-3D97-403E-96FA-75C7B62A2295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6228-E84D-4718-8EF2-73F59F9822E6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素彩网</a:t>
            </a:r>
            <a:r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-http://www.sc115.com--PPT</a:t>
            </a:r>
            <a:r>
              <a:rPr b="0" lang="zh-CN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模板免费下载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53C9-8A87-4E4D-8F3F-C6C04A855871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04AD-9164-442D-8524-04FA94EDBF4D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7618-70D3-47B7-8452-461CE438825F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052D-5D08-426B-82B0-72E1CD85095F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CC06-8C10-40C7-8A07-8ECB8341AC3B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96E2-C861-4A86-80EA-AD4F0C2640C1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18DA-3B42-42B0-BD21-06365AA4E97E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9" descr="tummytoo"/>
          <p:cNvPicPr/>
          <p:nvPr/>
        </p:nvPicPr>
        <p:blipFill>
          <a:blip r:embed="rId3"/>
          <a:stretch/>
        </p:blipFill>
        <p:spPr>
          <a:xfrm>
            <a:off x="6667560" y="304920"/>
            <a:ext cx="2476440" cy="65530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d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d00cc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00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d00cc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7C4F-82B7-4F75-8FBA-AA2E45D30705}" type="slidenum">
              <a:rPr b="0" lang="en-US" sz="1000" spc="-1" strike="noStrike">
                <a:solidFill>
                  <a:srgbClr val="8d00cc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d00cc"/>
                </a:solidFill>
                <a:latin typeface="Arial"/>
                <a:ea typeface="宋体"/>
              </a:rPr>
              <a:t>A New Life Too</a:t>
            </a:r>
            <a:endParaRPr b="0" lang="en-US" sz="48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0" y="556236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00cc"/>
                </a:solidFill>
                <a:latin typeface="Arial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8d00cc"/>
              </a:solidFill>
              <a:latin typeface="Arial"/>
            </a:endParaRPr>
          </a:p>
        </p:txBody>
      </p:sp>
      <p:pic>
        <p:nvPicPr>
          <p:cNvPr id="588" name="Picture 33" descr="baby_suck_on_pacifier_hg_clr"/>
          <p:cNvPicPr/>
          <p:nvPr/>
        </p:nvPicPr>
        <p:blipFill>
          <a:blip r:embed="rId1"/>
          <a:stretch/>
        </p:blipFill>
        <p:spPr>
          <a:xfrm>
            <a:off x="2438280" y="1600200"/>
            <a:ext cx="3867120" cy="331488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1536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15365"/>
          <p:cNvSpPr/>
          <p:nvPr/>
        </p:nvSpPr>
        <p:spPr>
          <a:xfrm>
            <a:off x="2617560" y="10666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卡通婴儿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00cc"/>
                </a:solidFill>
                <a:latin typeface="Arial"/>
                <a:ea typeface="宋体"/>
              </a:rPr>
              <a:t>Your Topic Goes Here</a:t>
            </a:r>
            <a:endParaRPr b="0" lang="en-US" sz="36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00cc"/>
                </a:solidFill>
                <a:latin typeface="Arial"/>
                <a:ea typeface="宋体"/>
              </a:rPr>
              <a:t>Your subtopic goes here</a:t>
            </a:r>
            <a:endParaRPr b="0" lang="en-US" sz="24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93" name="页脚占位符 3"/>
          <p:cNvSpPr/>
          <p:nvPr/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d00cc"/>
                </a:solidFill>
                <a:latin typeface="Arial"/>
                <a:ea typeface="宋体"/>
              </a:rPr>
              <a:t>Transitional Page</a:t>
            </a:r>
            <a:endParaRPr b="0" lang="en-US" sz="44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0" y="546336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8d00cc"/>
              </a:solidFill>
              <a:latin typeface="Arial"/>
              <a:ea typeface="宋体"/>
            </a:endParaRPr>
          </a:p>
        </p:txBody>
      </p:sp>
      <p:pic>
        <p:nvPicPr>
          <p:cNvPr id="596" name="Picture 7" descr="black_woman_rocking_baby_in_chair_hg_clr"/>
          <p:cNvPicPr/>
          <p:nvPr/>
        </p:nvPicPr>
        <p:blipFill>
          <a:blip r:embed="rId2"/>
          <a:stretch/>
        </p:blipFill>
        <p:spPr>
          <a:xfrm>
            <a:off x="3352680" y="1295280"/>
            <a:ext cx="262908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3B79-A239-47BC-9899-D5F2C33403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5960" y="3808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00cc"/>
                </a:solidFill>
                <a:latin typeface="Arial"/>
                <a:ea typeface="宋体"/>
              </a:rPr>
              <a:t>Your Topic Goes Here</a:t>
            </a:r>
            <a:endParaRPr b="0" lang="en-US" sz="36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00cc"/>
                </a:solidFill>
                <a:latin typeface="Arial"/>
                <a:ea typeface="宋体"/>
              </a:rPr>
              <a:t>Your subtopic goes here</a:t>
            </a:r>
            <a:endParaRPr b="0" lang="en-US" sz="2400" spc="-1" strike="noStrike">
              <a:solidFill>
                <a:srgbClr val="8d00cc"/>
              </a:solidFill>
              <a:latin typeface="Arial"/>
            </a:endParaRPr>
          </a:p>
        </p:txBody>
      </p:sp>
      <p:sp>
        <p:nvSpPr>
          <p:cNvPr id="603" name="页脚占位符 3"/>
          <p:cNvSpPr/>
          <p:nvPr/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1843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7:18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31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