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CC3-5A67-4F1D-BC46-088151FE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6D6-78DF-47BB-AEFF-CA58F1BA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129-BDE1-4239-B885-26EE92E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E94-520A-49B2-804C-0F7C426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198-5585-49CD-80F2-A802C82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3080" y="2854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1AD-17D5-4A82-A7B9-69A50634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9E4-B238-4DAD-869B-DB3540C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E41-855C-4636-AFFF-E0F1344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01D-543C-4837-BD7D-B036FD0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EF2-EB4F-4A04-A565-7E6BAE4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EE0-C203-494C-B13F-CCE29381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0284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57800"/>
            <a:ext cx="264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647-E732-454D-BF32-68FA7167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3080" y="2854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5780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3080" y="265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02840"/>
            <a:ext cx="40158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57800"/>
            <a:ext cx="8229600" cy="19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028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928800"/>
            <a:ext cx="6000840" cy="46080"/>
          </a:xfrm>
          <a:prstGeom prst="rect">
            <a:avLst/>
          </a:prstGeom>
          <a:solidFill>
            <a:srgbClr val="86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A805-50BF-4FFE-9E42-19721744E5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71F-AA2E-4235-BFEA-F3BE62CD05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3143160" y="2714760"/>
            <a:ext cx="6000840" cy="814320"/>
          </a:xfrm>
          <a:prstGeom prst="rect">
            <a:avLst/>
          </a:prstGeom>
          <a:solidFill>
            <a:srgbClr val="86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71840" y="2714760"/>
            <a:ext cx="65721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1f497d"/>
                </a:solidFill>
                <a:latin typeface="Arial Black"/>
                <a:ea typeface="宋体"/>
              </a:rPr>
              <a:t>World of History</a:t>
            </a:r>
            <a:endParaRPr b="1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718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4bd97"/>
                </a:solidFill>
                <a:latin typeface="Calibri"/>
                <a:ea typeface="宋体"/>
              </a:rPr>
              <a:t>- Dr.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8"/>
          <p:cNvSpPr/>
          <p:nvPr/>
        </p:nvSpPr>
        <p:spPr>
          <a:xfrm>
            <a:off x="1927080" y="378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历史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308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1f497d"/>
                </a:solidFill>
                <a:latin typeface="Arial"/>
              </a:rPr>
              <a:t>Overview </a:t>
            </a:r>
            <a:endParaRPr b="1" lang="en-US" sz="3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400" y="1285560"/>
            <a:ext cx="84294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Hi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look at art for students in world history. Includes a "Viewing art guide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to the Modern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ghtenment and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>
            <a:hlinkClick r:id="rId1"/>
          </p:cNvPr>
          <p:cNvSpPr/>
          <p:nvPr/>
        </p:nvSpPr>
        <p:spPr>
          <a:xfrm>
            <a:off x="1746360" y="6093000"/>
            <a:ext cx="56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100"/>
          <p:cNvSpPr/>
          <p:nvPr/>
        </p:nvSpPr>
        <p:spPr>
          <a:xfrm>
            <a:off x="971640" y="306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BD75-A89D-4A20-8C7E-7D007F22E6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/>
          <p:cNvSpPr/>
          <p:nvPr/>
        </p:nvSpPr>
        <p:spPr>
          <a:xfrm>
            <a:off x="3143160" y="2714760"/>
            <a:ext cx="6000840" cy="814320"/>
          </a:xfrm>
          <a:prstGeom prst="rect">
            <a:avLst/>
          </a:prstGeom>
          <a:solidFill>
            <a:srgbClr val="86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85720" y="2714760"/>
            <a:ext cx="5715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1f497d"/>
                </a:solidFill>
                <a:latin typeface="Arial Black"/>
                <a:ea typeface="宋体"/>
              </a:rPr>
              <a:t>Thank You !</a:t>
            </a:r>
            <a:endParaRPr b="1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2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