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gif" ContentType="image/gif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C55C-AFEF-4983-A1A6-FB59044C0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6858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81080" y="3822840"/>
            <a:ext cx="6858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7A2E-75CA-4BF7-96A7-E916BEB1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95400" y="83772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81080" y="382284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95400" y="382284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FB1C-7417-47E4-A59E-A7961C756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220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99840" y="837720"/>
            <a:ext cx="220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18240" y="837720"/>
            <a:ext cx="220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81080" y="3822840"/>
            <a:ext cx="220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299840" y="3822840"/>
            <a:ext cx="220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18240" y="3822840"/>
            <a:ext cx="220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3CD5-7B8B-4D5A-AB77-80D6D6885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76BA-ECDA-4028-B322-80E497358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981080" y="837720"/>
            <a:ext cx="6858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67F0-D0BD-4C34-861C-39866D30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6858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A6D4-3EAD-4D72-A99B-DB549AB3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334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495400" y="837720"/>
            <a:ext cx="334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C452-A928-4A8E-8CE9-9272D1FA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0946-6009-4928-AEC1-6E8E9D28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980720" y="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5395-8695-4E99-AB7A-A12718FF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495400" y="837720"/>
            <a:ext cx="334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81080" y="382284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7899-E33C-4A58-9215-4404C477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81080" y="837720"/>
            <a:ext cx="6858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3C04-F8AE-45DA-AF45-4C859B7A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334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95400" y="83772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495400" y="382284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1777-3ED4-4F4B-9647-FAD9A927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495400" y="83772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981080" y="3822840"/>
            <a:ext cx="6858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78CC-1118-44F2-AD03-947BAA12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6858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981080" y="3822840"/>
            <a:ext cx="6858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F29F-285A-40FB-AD52-4B8BD114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95400" y="83772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81080" y="382284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495400" y="382284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F3D3-9BFC-4B43-ABE2-0C9A26344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220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99840" y="837720"/>
            <a:ext cx="220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18240" y="837720"/>
            <a:ext cx="220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981080" y="3822840"/>
            <a:ext cx="220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299840" y="3822840"/>
            <a:ext cx="220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18240" y="3822840"/>
            <a:ext cx="220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CD01-92EA-4928-B24D-CA29D13F4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6DB1D-DE28-4400-9915-FBB87F05B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837720"/>
            <a:ext cx="6858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3CAC5-EC27-4D4C-B2E5-E8B29532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6858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B8F21-3BFF-4C58-A8FF-5C4A3443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334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495400" y="837720"/>
            <a:ext cx="334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641A3-0B63-4171-B522-EBCBDEF4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DEB40-36D4-49E6-AB4C-8F233EB9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6858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2CC6-8B78-4548-ABEB-3ED108DC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980720" y="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83473-2959-4B73-8495-CF9C0C91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495400" y="837720"/>
            <a:ext cx="334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981080" y="382284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DB167-0A6B-4036-8CD4-74F3C868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334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495400" y="83772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495400" y="382284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B5091-E75A-4D62-9181-28EB45DE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495400" y="83772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981080" y="3822840"/>
            <a:ext cx="6858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68FB4-F5ED-4955-8FB4-D75D5DB6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6858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981080" y="3822840"/>
            <a:ext cx="6858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5A944-9647-4FE9-AA1A-9764589D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95400" y="83772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981080" y="382284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495400" y="382284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F5B4E-8E37-483D-A097-32EC059B6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220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99840" y="837720"/>
            <a:ext cx="220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618240" y="837720"/>
            <a:ext cx="220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981080" y="3822840"/>
            <a:ext cx="220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299840" y="3822840"/>
            <a:ext cx="220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618240" y="3822840"/>
            <a:ext cx="22078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EE9FA-4E7C-4BFA-9FB3-6A4B7409E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334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95400" y="837720"/>
            <a:ext cx="334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BA06-864C-4BB6-95DF-3CB02D04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4723-A47D-4A05-9649-62422C3E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80720" y="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704A-03CA-4E8F-B1EA-FD03EB09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95400" y="837720"/>
            <a:ext cx="334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81080" y="382284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B4B1-A123-4F04-8AB1-E7C345C3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334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95400" y="83772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95400" y="382284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46D9-D87E-46AB-BBE8-69463CE1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95400" y="837720"/>
            <a:ext cx="334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81080" y="3822840"/>
            <a:ext cx="6858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3C1B-D8F3-4D9B-A391-6921F47C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1080" y="837720"/>
            <a:ext cx="6858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1A77-79B8-4C5B-83AA-3621FF75F2E1}" type="slidenum">
              <a:rPr b="0" lang="en-US" sz="1000" spc="-1" strike="noStrike">
                <a:solidFill>
                  <a:srgbClr val="ffffff"/>
                </a:solidFill>
                <a:latin typeface="Eras Bold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1030" descr="sick_stomach"/>
          <p:cNvPicPr/>
          <p:nvPr/>
        </p:nvPicPr>
        <p:blipFill>
          <a:blip r:embed="rId3"/>
          <a:stretch/>
        </p:blipFill>
        <p:spPr>
          <a:xfrm>
            <a:off x="-1701720" y="228600"/>
            <a:ext cx="4749840" cy="662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9D1B-FEED-44F5-9F2A-EC66221103CB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E49A-1F32-4460-8DA3-2FC7ADF012D2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981080" y="837720"/>
            <a:ext cx="6858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SzPct val="300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883F-37BE-4259-AFBE-3F37E0BA2346}" type="slidenum">
              <a:rPr b="0" lang="en-US" sz="900" spc="-1" strike="noStrike">
                <a:solidFill>
                  <a:srgbClr val="ffffff"/>
                </a:solidFill>
                <a:latin typeface="Eras Bold IT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Impact"/>
              </a:rPr>
              <a:t>Silly Stomach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0" y="60912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Eras Bold ITC"/>
              </a:rPr>
              <a:t>Your Subtitle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4099" descr="stomach_butterflies_flying_hg_clr"/>
          <p:cNvPicPr/>
          <p:nvPr/>
        </p:nvPicPr>
        <p:blipFill>
          <a:blip r:embed="rId1"/>
          <a:stretch/>
        </p:blipFill>
        <p:spPr>
          <a:xfrm>
            <a:off x="2209680" y="1219320"/>
            <a:ext cx="4953240" cy="495288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4100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4101"/>
          <p:cNvSpPr/>
          <p:nvPr/>
        </p:nvSpPr>
        <p:spPr>
          <a:xfrm>
            <a:off x="2196360" y="990720"/>
            <a:ext cx="368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国外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漫画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6858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subtopic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6145" descr="healthy_stomach"/>
          <p:cNvPicPr/>
          <p:nvPr/>
        </p:nvPicPr>
        <p:blipFill>
          <a:blip r:embed="rId2"/>
          <a:stretch/>
        </p:blipFill>
        <p:spPr>
          <a:xfrm>
            <a:off x="1752480" y="533520"/>
            <a:ext cx="5656320" cy="59436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Transitional P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437920" y="2666520"/>
            <a:ext cx="175284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34" name="文本框 6148"/>
          <p:cNvSpPr/>
          <p:nvPr/>
        </p:nvSpPr>
        <p:spPr>
          <a:xfrm>
            <a:off x="1752480" y="6324480"/>
            <a:ext cx="58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D540-365B-4DA6-9459-5436119180E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981080" y="837720"/>
            <a:ext cx="6858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subtopic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4T17:34:5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2:56Z</dcterms:modified>
  <cp:revision>4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