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5566-92C1-408E-AF1D-35D67ECE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EFC1-4968-4C23-8247-D067E9EF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F068-8F3E-4A2F-AF89-1E02A4DF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7F47-6CBB-44E1-B9C0-7F9CABEF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1D06-59C4-4939-8829-231041D6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C82D-715A-404F-8225-6D5B3952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6ACE-330B-4BF6-B46F-C54041FA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B2BF-A49F-42F9-BE1E-866023DA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3F7E-C7C6-49AA-B018-1DB6B1D9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1ED9-5B2B-4CC9-8EBD-D9094A4D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8A04-0747-4E1E-A499-624D2D74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A58D-8792-4ACC-AF77-CD383FCF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2A71-BD57-42D4-8296-56C1056E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F903-66E6-40D2-A8F3-38CD695A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BB3E-CE24-4D44-A857-E9D11DBA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2939-F673-440B-B530-B261D58C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C711-DBE2-4118-9C4D-8287C2D87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E3E5B-EDB2-452E-9572-2942EE3F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F6106-8208-4F75-89E2-61515527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AC256-8104-4BCA-8F7C-95C36C76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47ED3-1CA9-4408-9629-ADF54044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18488-6476-4032-9A04-D0417E70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EEC8-84FF-48AC-B51D-B1E0E016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BF5CD-4606-4E03-B267-3B400A1A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9DB5D-F9F5-423A-9C12-F6B672F5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67CA2-FCA6-4003-83FD-1A80D7B8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5244E-05E0-4CB0-997E-D6BE3249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F32CA-6C14-4D83-B157-28DBAAE7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824A2-1438-4DF7-A503-A97C733C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41912-247D-4A49-B7A5-5BB43355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58BA-92F8-497E-B9E1-2D50F658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F23E-8507-4244-BF7B-D8D4CF06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23F2-F1F0-40D5-B778-B1A48B66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A65D-88CE-4C82-95F9-E6EE292E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814B-D56F-40CD-8A5E-5F49D429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46FB-5C9B-43EF-B048-90C98E79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C21C-9E94-4CF6-A5BC-02F6FA57E844}" type="slidenum">
              <a:rPr b="1" lang="en-US" sz="8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FF53-9E55-48D7-9E68-4282A3F1D67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FC66-E549-4384-8405-5264932242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B384-57DC-4C4A-8CF3-2BB037E01B32}" type="slidenum">
              <a:rPr b="1" lang="en-US" sz="800" spc="-1" strike="noStrike">
                <a:solidFill>
                  <a:srgbClr val="ffffff"/>
                </a:solidFill>
                <a:latin typeface="Arial Black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ero"/>
              </a:rPr>
              <a:t>国外</a:t>
            </a:r>
            <a:r>
              <a:rPr b="1" lang="en-US" sz="4000" spc="-1" strike="noStrike">
                <a:solidFill>
                  <a:srgbClr val="003399"/>
                </a:solidFill>
                <a:latin typeface="Aero"/>
              </a:rPr>
              <a:t>庆祝生日</a:t>
            </a:r>
            <a:r>
              <a:rPr b="1" lang="en-US" sz="4000" spc="-1" strike="noStrike">
                <a:solidFill>
                  <a:srgbClr val="003399"/>
                </a:solidFill>
                <a:latin typeface="Aero"/>
              </a:rPr>
              <a:t>PPT</a:t>
            </a:r>
            <a:r>
              <a:rPr b="1" lang="en-US" sz="4000" spc="-1" strike="noStrike">
                <a:solidFill>
                  <a:srgbClr val="003399"/>
                </a:solidFill>
                <a:latin typeface="Aero"/>
              </a:rPr>
              <a:t>模板</a:t>
            </a:r>
            <a:r>
              <a:rPr b="1" lang="zh-CN" sz="4000" spc="-1" strike="noStrike">
                <a:solidFill>
                  <a:srgbClr val="003399"/>
                </a:solidFill>
                <a:latin typeface="Aero"/>
              </a:rPr>
              <a:t>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6629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ero"/>
              </a:rPr>
              <a:t>YOUR SUBTITLE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5943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ero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240" y="6858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ero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ero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8197"/>
          <p:cNvSpPr/>
          <p:nvPr/>
        </p:nvSpPr>
        <p:spPr>
          <a:xfrm>
            <a:off x="1447920" y="58672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5715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ero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ero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66A5-336C-49F4-A6E8-BAEC0437CEF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64515"/>
          <p:cNvSpPr/>
          <p:nvPr/>
        </p:nvSpPr>
        <p:spPr>
          <a:xfrm>
            <a:off x="152280" y="944640"/>
            <a:ext cx="2438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Arial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These are full sized backdrops, just double click them and size it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64516" descr="animfactory_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64517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438280" y="2286000"/>
            <a:ext cx="6477120" cy="360"/>
            <a:chOff x="2438280" y="2286000"/>
            <a:chExt cx="6477120" cy="360"/>
          </a:xfrm>
        </p:grpSpPr>
        <p:sp>
          <p:nvSpPr>
            <p:cNvPr id="139" name="直接连接符 64519"/>
            <p:cNvSpPr/>
            <p:nvPr/>
          </p:nvSpPr>
          <p:spPr>
            <a:xfrm>
              <a:off x="2438280" y="22860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2438280" y="2286000"/>
              <a:ext cx="6477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64567"/>
          <p:cNvSpPr/>
          <p:nvPr/>
        </p:nvSpPr>
        <p:spPr>
          <a:xfrm>
            <a:off x="228600" y="2209680"/>
            <a:ext cx="24382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Arial"/>
              </a:rPr>
              <a:t>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Most of these .gifs, .jpgs, and .png images can be scaled up to fit your nee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64568"/>
          <p:cNvSpPr/>
          <p:nvPr/>
        </p:nvSpPr>
        <p:spPr>
          <a:xfrm>
            <a:off x="2667600" y="6397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64569"/>
          <p:cNvSpPr/>
          <p:nvPr/>
        </p:nvSpPr>
        <p:spPr>
          <a:xfrm>
            <a:off x="4269240" y="6397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64570"/>
          <p:cNvSpPr/>
          <p:nvPr/>
        </p:nvSpPr>
        <p:spPr>
          <a:xfrm>
            <a:off x="5868000" y="639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64571"/>
          <p:cNvSpPr/>
          <p:nvPr/>
        </p:nvSpPr>
        <p:spPr>
          <a:xfrm>
            <a:off x="7198200" y="6397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内容占位符 64735" descr="happy_birthday_qx"/>
          <p:cNvPicPr/>
          <p:nvPr/>
        </p:nvPicPr>
        <p:blipFill>
          <a:blip r:embed="rId4"/>
          <a:stretch/>
        </p:blipFill>
        <p:spPr>
          <a:xfrm>
            <a:off x="25146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7" name="内容占位符 64736" descr="happy_birthday_sld"/>
          <p:cNvPicPr/>
          <p:nvPr/>
        </p:nvPicPr>
        <p:blipFill>
          <a:blip r:embed="rId5"/>
          <a:stretch/>
        </p:blipFill>
        <p:spPr>
          <a:xfrm>
            <a:off x="41148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8" name="内容占位符 64737" descr="happy_birthday_prt"/>
          <p:cNvPicPr/>
          <p:nvPr/>
        </p:nvPicPr>
        <p:blipFill>
          <a:blip r:embed="rId6"/>
          <a:stretch/>
        </p:blipFill>
        <p:spPr>
          <a:xfrm>
            <a:off x="57150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9" name="内容占位符 64738" descr="happy_birthday_trs"/>
          <p:cNvPicPr/>
          <p:nvPr/>
        </p:nvPicPr>
        <p:blipFill>
          <a:blip r:embed="rId7"/>
          <a:stretch/>
        </p:blipFill>
        <p:spPr>
          <a:xfrm>
            <a:off x="73152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20:13:3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45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