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71D-F50F-47A0-8FA2-AC09991F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B0E-51AF-4E4A-9BA0-97FCE024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157-70EA-4887-9408-3F8DFAF7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356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7492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9220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356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7492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E98-C16E-4CC1-88B3-CF2B0EFF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320" y="980640"/>
            <a:ext cx="7965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728-F63C-47DB-BC04-8C720DB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56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92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220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56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92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CC4-9662-4D96-9421-E5DF4924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8389-95ED-4576-BC2E-6D896D0A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32D3-E66E-4D45-9984-7A450718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A07F-EB86-4BF5-AA9B-0A4D67B1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A270-404C-4DE4-A422-58F1675B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702-0293-42A4-AD17-3453B1F8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71320" y="980640"/>
            <a:ext cx="7965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B41F-6FF8-4074-80B5-C518DA52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52BF-3ED9-4E1C-8116-DB4DE6F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2B46-7904-466B-B64E-348FC87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0275-66ED-4C15-A3F6-778DFD98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EA11-559B-41E9-A538-59AF89A8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EA29-3EEA-4057-9737-9B56AE05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8356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7492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9220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8356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7492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28B9-64CF-46EB-94FC-18D6FB44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FA7-ECD4-4C1D-8834-3EA1B3F0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BAC-EAB3-4771-A0F7-43967D0D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71320" y="980640"/>
            <a:ext cx="7965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882-D3AC-48AC-B743-7AAB0258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135-7115-4FAB-A6AE-76BCB945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0F1-7252-4F47-9FD6-A535108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317-B14C-46AA-B807-860E0B2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 rot="16200000">
            <a:off x="5485320" y="-912240"/>
            <a:ext cx="908280" cy="273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1" name="Picture 37" descr="hd_home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9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34992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0120" indent="-34236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35172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7880" indent="-35280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7880" indent="-3528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7880" indent="-3528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82120" y="6453360"/>
            <a:ext cx="180036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5D7E-2BF8-4B44-847E-655E6A43CED4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411280" y="6453360"/>
            <a:ext cx="43214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F 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732720" y="6453360"/>
            <a:ext cx="1800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D52-724A-406A-A69C-169C7080959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0" y="981000"/>
            <a:ext cx="9144000" cy="7923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6b8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 rot="16200000">
            <a:off x="5703840" y="-1131840"/>
            <a:ext cx="901800" cy="31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9" name="Picture 24" descr="KHS_Logo"/>
          <p:cNvPicPr/>
          <p:nvPr/>
        </p:nvPicPr>
        <p:blipFill>
          <a:blip r:embed="rId3"/>
          <a:srcRect l="0" t="0" r="7934" b="0"/>
          <a:stretch/>
        </p:blipFill>
        <p:spPr>
          <a:xfrm>
            <a:off x="28440" y="76320"/>
            <a:ext cx="1822680" cy="828720"/>
          </a:xfrm>
          <a:prstGeom prst="rect">
            <a:avLst/>
          </a:prstGeom>
          <a:ln w="0">
            <a:noFill/>
          </a:ln>
        </p:spPr>
      </p:pic>
      <p:sp>
        <p:nvSpPr>
          <p:cNvPr id="10" name="Text Box 25"/>
          <p:cNvSpPr/>
          <p:nvPr/>
        </p:nvSpPr>
        <p:spPr>
          <a:xfrm>
            <a:off x="17100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1,05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1" name="Text Box 26"/>
          <p:cNvSpPr/>
          <p:nvPr/>
        </p:nvSpPr>
        <p:spPr>
          <a:xfrm>
            <a:off x="88236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" name="Text Box 27"/>
          <p:cNvSpPr/>
          <p:nvPr/>
        </p:nvSpPr>
        <p:spPr>
          <a:xfrm>
            <a:off x="4491360" y="-244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0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" name="Text Box 29"/>
          <p:cNvSpPr/>
          <p:nvPr/>
        </p:nvSpPr>
        <p:spPr>
          <a:xfrm>
            <a:off x="846252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1,05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" name="Text Box 30"/>
          <p:cNvSpPr/>
          <p:nvPr/>
        </p:nvSpPr>
        <p:spPr>
          <a:xfrm>
            <a:off x="-434520" y="717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7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5" name="Text Box 31"/>
          <p:cNvSpPr/>
          <p:nvPr/>
        </p:nvSpPr>
        <p:spPr>
          <a:xfrm>
            <a:off x="-434520" y="9144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6,8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6" name="Text Box 32"/>
          <p:cNvSpPr/>
          <p:nvPr/>
        </p:nvSpPr>
        <p:spPr>
          <a:xfrm>
            <a:off x="-434520" y="12970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5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" name="Text Box 33"/>
          <p:cNvSpPr/>
          <p:nvPr/>
        </p:nvSpPr>
        <p:spPr>
          <a:xfrm>
            <a:off x="-434520" y="15858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4,6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" name="Text Box 34"/>
          <p:cNvSpPr/>
          <p:nvPr/>
        </p:nvSpPr>
        <p:spPr>
          <a:xfrm>
            <a:off x="-434520" y="20178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3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" name="Text Box 35"/>
          <p:cNvSpPr/>
          <p:nvPr/>
        </p:nvSpPr>
        <p:spPr>
          <a:xfrm>
            <a:off x="-434520" y="40831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2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" name="Text Box 36"/>
          <p:cNvSpPr/>
          <p:nvPr/>
        </p:nvSpPr>
        <p:spPr>
          <a:xfrm>
            <a:off x="-434520" y="62467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2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21" name="Picture 39" descr="_muster_96000 Kopie"/>
          <p:cNvPicPr/>
          <p:nvPr/>
        </p:nvPicPr>
        <p:blipFill>
          <a:blip r:embed="rId4"/>
          <a:stretch/>
        </p:blipFill>
        <p:spPr>
          <a:xfrm>
            <a:off x="2556000" y="0"/>
            <a:ext cx="6588000" cy="939960"/>
          </a:xfrm>
          <a:prstGeom prst="rect">
            <a:avLst/>
          </a:prstGeom>
          <a:ln w="0">
            <a:noFill/>
          </a:ln>
        </p:spPr>
      </p:pic>
      <p:grpSp>
        <p:nvGrpSpPr>
          <p:cNvPr id="22" name=""/>
          <p:cNvGrpSpPr/>
          <p:nvPr/>
        </p:nvGrpSpPr>
        <p:grpSpPr>
          <a:xfrm>
            <a:off x="0" y="932040"/>
            <a:ext cx="9144000" cy="360"/>
            <a:chOff x="0" y="932040"/>
            <a:chExt cx="9144000" cy="360"/>
          </a:xfrm>
        </p:grpSpPr>
        <p:sp>
          <p:nvSpPr>
            <p:cNvPr id="23" name="Line 38"/>
            <p:cNvSpPr/>
            <p:nvPr/>
          </p:nvSpPr>
          <p:spPr>
            <a:xfrm>
              <a:off x="0" y="932040"/>
              <a:ext cx="9144000" cy="0"/>
            </a:xfrm>
            <a:prstGeom prst="line">
              <a:avLst/>
            </a:prstGeom>
            <a:ln w="57240">
              <a:solidFill>
                <a:srgbClr val="7f9d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24" name=""/>
            <p:cNvSpPr txBox="1"/>
            <p:nvPr/>
          </p:nvSpPr>
          <p:spPr>
            <a:xfrm>
              <a:off x="0" y="932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4" descr="001"/>
          <p:cNvPicPr/>
          <p:nvPr/>
        </p:nvPicPr>
        <p:blipFill>
          <a:blip r:embed="rId2"/>
          <a:stretch/>
        </p:blipFill>
        <p:spPr>
          <a:xfrm>
            <a:off x="2268360" y="260280"/>
            <a:ext cx="6875640" cy="4176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2"/>
          <p:cNvSpPr/>
          <p:nvPr/>
        </p:nvSpPr>
        <p:spPr>
          <a:xfrm>
            <a:off x="1887480" y="260280"/>
            <a:ext cx="102888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7f9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5" name="Picture 52" descr="KHS_Logo"/>
          <p:cNvPicPr/>
          <p:nvPr/>
        </p:nvPicPr>
        <p:blipFill>
          <a:blip r:embed="rId3"/>
          <a:srcRect l="3045" t="0" r="8176" b="0"/>
          <a:stretch/>
        </p:blipFill>
        <p:spPr>
          <a:xfrm>
            <a:off x="152280" y="685800"/>
            <a:ext cx="2498760" cy="1177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3"/>
          <p:cNvSpPr/>
          <p:nvPr/>
        </p:nvSpPr>
        <p:spPr>
          <a:xfrm>
            <a:off x="17100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1,05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7" name="Text Box 54"/>
          <p:cNvSpPr/>
          <p:nvPr/>
        </p:nvSpPr>
        <p:spPr>
          <a:xfrm>
            <a:off x="88236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8" name="Text Box 55"/>
          <p:cNvSpPr/>
          <p:nvPr/>
        </p:nvSpPr>
        <p:spPr>
          <a:xfrm>
            <a:off x="4491360" y="-244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0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9" name="Text Box 56"/>
          <p:cNvSpPr/>
          <p:nvPr/>
        </p:nvSpPr>
        <p:spPr>
          <a:xfrm>
            <a:off x="846252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1,05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0" name="Text Box 57"/>
          <p:cNvSpPr/>
          <p:nvPr/>
        </p:nvSpPr>
        <p:spPr>
          <a:xfrm>
            <a:off x="-434520" y="717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7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1" name="Text Box 58"/>
          <p:cNvSpPr/>
          <p:nvPr/>
        </p:nvSpPr>
        <p:spPr>
          <a:xfrm>
            <a:off x="-434520" y="9144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6,8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-434520" y="12970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5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3" name="Text Box 60"/>
          <p:cNvSpPr/>
          <p:nvPr/>
        </p:nvSpPr>
        <p:spPr>
          <a:xfrm>
            <a:off x="-434520" y="15858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4,6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4" name="Text Box 61"/>
          <p:cNvSpPr/>
          <p:nvPr/>
        </p:nvSpPr>
        <p:spPr>
          <a:xfrm>
            <a:off x="-434520" y="20178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3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5" name="Text Box 62"/>
          <p:cNvSpPr/>
          <p:nvPr/>
        </p:nvSpPr>
        <p:spPr>
          <a:xfrm>
            <a:off x="-434520" y="40831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2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6" name="Text Box 63"/>
          <p:cNvSpPr/>
          <p:nvPr/>
        </p:nvSpPr>
        <p:spPr>
          <a:xfrm>
            <a:off x="-434520" y="62467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2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77" name="Picture 65" descr="Bild2_leiste Kopie"/>
          <p:cNvPicPr/>
          <p:nvPr/>
        </p:nvPicPr>
        <p:blipFill>
          <a:blip r:embed="rId4"/>
          <a:stretch/>
        </p:blipFill>
        <p:spPr>
          <a:xfrm>
            <a:off x="0" y="1908000"/>
            <a:ext cx="1889280" cy="4950000"/>
          </a:xfrm>
          <a:prstGeom prst="rect">
            <a:avLst/>
          </a:prstGeom>
          <a:ln w="0">
            <a:noFill/>
          </a:ln>
        </p:spPr>
      </p:pic>
      <p:pic>
        <p:nvPicPr>
          <p:cNvPr id="78" name="Object 66" descr=""/>
          <p:cNvPicPr/>
          <p:nvPr/>
        </p:nvPicPr>
        <p:blipFill>
          <a:blip r:embed="rId5"/>
          <a:stretch/>
        </p:blipFill>
        <p:spPr>
          <a:xfrm>
            <a:off x="0" y="5737320"/>
            <a:ext cx="1889280" cy="1117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7"/>
          <p:cNvSpPr/>
          <p:nvPr/>
        </p:nvSpPr>
        <p:spPr>
          <a:xfrm>
            <a:off x="-1440" y="1909800"/>
            <a:ext cx="1887480" cy="4941720"/>
          </a:xfrm>
          <a:prstGeom prst="rect">
            <a:avLst/>
          </a:prstGeom>
          <a:noFill/>
          <a:ln w="12600">
            <a:solidFill>
              <a:srgbClr val="7f9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3216240"/>
            <a:ext cx="1887480" cy="360"/>
            <a:chOff x="0" y="3216240"/>
            <a:chExt cx="1887480" cy="360"/>
          </a:xfrm>
        </p:grpSpPr>
        <p:sp>
          <p:nvSpPr>
            <p:cNvPr id="81" name="Line 68"/>
            <p:cNvSpPr/>
            <p:nvPr/>
          </p:nvSpPr>
          <p:spPr>
            <a:xfrm>
              <a:off x="0" y="3216240"/>
              <a:ext cx="1887480" cy="0"/>
            </a:xfrm>
            <a:prstGeom prst="line">
              <a:avLst/>
            </a:prstGeom>
            <a:ln w="12600">
              <a:solidFill>
                <a:srgbClr val="7f9d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0" y="3216240"/>
              <a:ext cx="188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-3240" y="4362480"/>
            <a:ext cx="1887480" cy="360"/>
            <a:chOff x="-3240" y="4362480"/>
            <a:chExt cx="1887480" cy="360"/>
          </a:xfrm>
        </p:grpSpPr>
        <p:sp>
          <p:nvSpPr>
            <p:cNvPr id="84" name="Line 69"/>
            <p:cNvSpPr/>
            <p:nvPr/>
          </p:nvSpPr>
          <p:spPr>
            <a:xfrm>
              <a:off x="-3240" y="4362480"/>
              <a:ext cx="1887480" cy="0"/>
            </a:xfrm>
            <a:prstGeom prst="line">
              <a:avLst/>
            </a:prstGeom>
            <a:ln w="12600">
              <a:solidFill>
                <a:srgbClr val="7f9d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-3240" y="4362480"/>
              <a:ext cx="188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-6480" y="5737320"/>
            <a:ext cx="1887840" cy="360"/>
            <a:chOff x="-6480" y="5737320"/>
            <a:chExt cx="1887840" cy="360"/>
          </a:xfrm>
        </p:grpSpPr>
        <p:sp>
          <p:nvSpPr>
            <p:cNvPr id="87" name="Line 70"/>
            <p:cNvSpPr/>
            <p:nvPr/>
          </p:nvSpPr>
          <p:spPr>
            <a:xfrm>
              <a:off x="-6480" y="5737320"/>
              <a:ext cx="1887840" cy="0"/>
            </a:xfrm>
            <a:prstGeom prst="line">
              <a:avLst/>
            </a:prstGeom>
            <a:ln w="12600">
              <a:solidFill>
                <a:srgbClr val="7f9d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-6480" y="5737320"/>
              <a:ext cx="1887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34992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0120" indent="-34236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35172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7880" indent="-35280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7880" indent="-3528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7880" indent="-3528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6b8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2C23-2D86-4E00-8B59-861A94FD6D8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3C57-A48C-45AA-B104-80E986220F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419640" y="5928840"/>
            <a:ext cx="4752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文本框 4098"/>
          <p:cNvSpPr/>
          <p:nvPr/>
        </p:nvSpPr>
        <p:spPr>
          <a:xfrm>
            <a:off x="255600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0" name="文本框 4099"/>
          <p:cNvSpPr/>
          <p:nvPr/>
        </p:nvSpPr>
        <p:spPr>
          <a:xfrm>
            <a:off x="3229560" y="2276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umnst777 BT"/>
                <a:ea typeface="Humnst777 BT"/>
              </a:rPr>
              <a:t>国外商务活动</a:t>
            </a:r>
            <a:r>
              <a:rPr b="0" lang="zh-CN" sz="4000" spc="-1" strike="noStrike">
                <a:solidFill>
                  <a:srgbClr val="000000"/>
                </a:solidFill>
                <a:latin typeface="Humnst777 BT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4d6b85"/>
              </a:solidFill>
              <a:latin typeface="Arial"/>
              <a:ea typeface="宋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75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123"/>
          <p:cNvSpPr/>
          <p:nvPr/>
        </p:nvSpPr>
        <p:spPr>
          <a:xfrm>
            <a:off x="1044720" y="28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950a0"/>
                </a:solidFill>
                <a:uFillTx/>
                <a:latin typeface="Humnst777 BT"/>
                <a:ea typeface="Humnst777 BT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Humnst777 BT"/>
                <a:ea typeface="Humnst777 BT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umnst777 BT"/>
                <a:ea typeface="Humnst777 BT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37D2-02F3-4A92-B1BD-5055844728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6"/>
          <p:cNvSpPr/>
          <p:nvPr/>
        </p:nvSpPr>
        <p:spPr>
          <a:xfrm>
            <a:off x="2489760" y="2895480"/>
            <a:ext cx="430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6b85"/>
                </a:solidFill>
                <a:latin typeface="Humnst777 BT"/>
                <a:ea typeface="宋体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Humnst777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umnst777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6b85"/>
                </a:solidFill>
                <a:latin typeface="Humnst777 BT"/>
                <a:ea typeface="宋体"/>
              </a:rPr>
              <a:t>for your attention</a:t>
            </a:r>
            <a:endParaRPr b="0" lang="en-US" sz="3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9:13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