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53CC-5BF2-459E-BB92-AA6DAA2B9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1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0769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3699000"/>
            <a:ext cx="80769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2AEB-491B-49DF-A313-9A1A96CB2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-1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412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080" y="1295280"/>
            <a:ext cx="39412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699000"/>
            <a:ext cx="39412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080" y="3699000"/>
            <a:ext cx="39412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90C9-4685-4014-8B69-B3E175992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-1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26006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4480" y="1295280"/>
            <a:ext cx="26006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5800" y="1295280"/>
            <a:ext cx="26006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3699000"/>
            <a:ext cx="26006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4480" y="3699000"/>
            <a:ext cx="26006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5800" y="3699000"/>
            <a:ext cx="26006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EA82-9866-4394-AF7C-26A8C980D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901D4-A8C4-4F8D-8A3A-638656A22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1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520" y="1295280"/>
            <a:ext cx="8076960" cy="46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355E0-DB50-4C13-8B80-BDD2866D2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1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0769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C98DB-3ADC-4E51-9586-82B6DBAC9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1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412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080" y="1295280"/>
            <a:ext cx="39412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7D3AE-10FA-4940-81F4-4AD54A53B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1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1AA00-4330-4554-920C-C3B102308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73F9A-6FAF-4187-BBDA-AB4538E72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1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412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080" y="1295280"/>
            <a:ext cx="39412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520" y="3699000"/>
            <a:ext cx="39412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1028A-E6DD-4B59-93DA-3C151C39F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-1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295280"/>
            <a:ext cx="8076960" cy="46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03A9-5E07-4CA9-ABCF-A4A1A9AEB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1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412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080" y="1295280"/>
            <a:ext cx="39412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2080" y="3699000"/>
            <a:ext cx="39412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84C54-0736-4BA6-A7BD-1F59C9A05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1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412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080" y="1295280"/>
            <a:ext cx="39412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699000"/>
            <a:ext cx="80769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AA6AF-C94C-41A4-B018-FB72C7BEC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1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0769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520" y="3699000"/>
            <a:ext cx="80769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99B33-9C20-4592-9619-A098BFDCE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1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412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080" y="1295280"/>
            <a:ext cx="39412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3699000"/>
            <a:ext cx="39412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2080" y="3699000"/>
            <a:ext cx="39412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342B6-C1AB-47BD-8B6C-7BE3D0889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1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26006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64480" y="1295280"/>
            <a:ext cx="26006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95800" y="1295280"/>
            <a:ext cx="26006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520" y="3699000"/>
            <a:ext cx="26006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64480" y="3699000"/>
            <a:ext cx="26006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95800" y="3699000"/>
            <a:ext cx="26006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EA46E-2FD6-4834-9CCA-DC5368DD7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D6CC8-82C4-4C97-A845-FF6A6ADE3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1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33520" y="1295280"/>
            <a:ext cx="8076960" cy="46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977DC-F0DA-4EE5-8102-A93B1CEC2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1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0769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3F619-45CA-4D7F-A33B-D8B8A0882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1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412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2080" y="1295280"/>
            <a:ext cx="39412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682D6-EB17-4942-A5C1-82872AB2B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1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42A1D-727F-4413-871A-313D87160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1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0769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3CA1-F62E-4BA5-94DE-30162F08D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86F77-4936-4BCD-9EBE-026FF782B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1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412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2080" y="1295280"/>
            <a:ext cx="39412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33520" y="3699000"/>
            <a:ext cx="39412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43158-9789-4D37-80B4-726160379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1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412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2080" y="1295280"/>
            <a:ext cx="39412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2080" y="3699000"/>
            <a:ext cx="39412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DA212-140E-4F6A-86F3-618F99456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1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412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2080" y="1295280"/>
            <a:ext cx="39412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33520" y="3699000"/>
            <a:ext cx="80769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1D56C-4A36-45B7-9E3A-EC9E531CA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1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0769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33520" y="3699000"/>
            <a:ext cx="80769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EE39C-1D8B-41EF-9F7D-C4D78424B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1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412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2080" y="1295280"/>
            <a:ext cx="39412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33520" y="3699000"/>
            <a:ext cx="39412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2080" y="3699000"/>
            <a:ext cx="39412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DC461-6445-4CFD-966E-BA60D7AF1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1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26006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64480" y="1295280"/>
            <a:ext cx="26006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95800" y="1295280"/>
            <a:ext cx="26006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33520" y="3699000"/>
            <a:ext cx="26006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64480" y="3699000"/>
            <a:ext cx="26006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95800" y="3699000"/>
            <a:ext cx="260064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B8F7A-7F41-4DC4-BD91-8477E8621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1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412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080" y="1295280"/>
            <a:ext cx="39412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D5B8-E389-4E80-907A-79AF37AB8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1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C7E7-0346-48C8-8DEC-EC6F46F7A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5002-C114-4AB8-8193-9719EE2B4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1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412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080" y="1295280"/>
            <a:ext cx="39412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3699000"/>
            <a:ext cx="39412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CEFD-4728-4D22-BDCF-670855DCD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1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412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080" y="1295280"/>
            <a:ext cx="39412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080" y="3699000"/>
            <a:ext cx="39412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EF5C-EB64-44D5-B728-93C6C928D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-1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412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080" y="1295280"/>
            <a:ext cx="394128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3699000"/>
            <a:ext cx="80769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76CD-07B6-498A-9646-12C5BFB4C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295280"/>
            <a:ext cx="80769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B7987-7E31-42DC-91B2-D321B98CF1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90318-9CE2-40FB-8B7C-D010D15B5C94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44B1D-9E0F-4ED0-AF4D-13905B8FBE9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33520" y="1295280"/>
            <a:ext cx="80769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49D33-84E1-45F6-AC10-23D066C3CD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504960" y="388584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1c1c1c"/>
                </a:solidFill>
                <a:latin typeface="Arial"/>
              </a:rPr>
              <a:t>SHUTT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3504960" y="4495680"/>
            <a:ext cx="563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SUBTITLE GOES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4099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4100"/>
          <p:cNvSpPr/>
          <p:nvPr/>
        </p:nvSpPr>
        <p:spPr>
          <a:xfrm>
            <a:off x="2520720" y="99072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国外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摄影爱好者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模板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our Topic Goes He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0769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Subtopics Go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our Topic Goes He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0769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Subtopics Go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6147"/>
          <p:cNvSpPr/>
          <p:nvPr/>
        </p:nvSpPr>
        <p:spPr>
          <a:xfrm>
            <a:off x="755640" y="2494080"/>
            <a:ext cx="585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F81EA-A65D-415D-B560-6E050ED0107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266652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1c1c1c"/>
                </a:solidFill>
                <a:latin typeface="Arial"/>
              </a:rPr>
              <a:t>TRANSITIONAL PAG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2:02:5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2:48Z</dcterms:modified>
  <cp:revision>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