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7D8-386C-48B6-992B-95F8E65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A39-67DC-4958-B303-91D222F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B64-D289-455C-B3EE-F3AB3746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FBE-1C0D-42F0-8DF1-DFFFC81A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A017-E2EE-4913-A847-B2B94D60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9323-A324-4A1D-8F68-5C1EB9CB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364-02E1-4FF2-8163-649AD92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C54-921B-4426-93DE-08FDC95E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FD4C-3D6E-4F54-9E16-B069021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07CA-D31C-4015-85DC-57A48F1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CE11-DF1B-4840-8354-CD1B53C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509-52BD-4DCC-9BCE-EE0EEF1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BDA-4D4F-4C85-B8FE-3F394B3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9679-6838-4D0B-89E5-87FCE6C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93B-873F-47CD-8348-441D4C8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33C5-5C07-4013-B8F0-96188997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B9D6-C32F-4FCD-A852-4B5CC045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5231-9530-442F-99C0-87E77E3A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3441-27AD-4F94-9981-20879E08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DDDD-3073-40F8-B0E8-A33E89A6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3923-740F-41CD-8E6C-6BF6CBD5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EC70-67FC-43BF-8B88-1697792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584-BBEC-40A8-952F-B0D87BB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F896-F3B1-40BA-A435-3CA6E7B2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4C82-77B6-49CC-A232-01E8973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DB83-0343-4E61-BC57-8406724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EB81-937C-4411-A259-7509AF9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B1C1-D83B-4824-A249-AAC9B6BA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F8BB-70C4-4E65-B78F-F8DD0357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596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8400" y="40777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F3C9-68C5-4573-9423-FE71B947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C1B-BEDA-43A3-8A7D-ED824C4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979-C774-469B-8024-34C3E0B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5B2-9A46-4894-9572-83E5B25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701-599F-46A5-94F9-0F38AB6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40777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FD5-B6AF-4E9B-923F-74C715A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97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777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D11-7718-46F2-B6F7-BB0A80D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6CF-7796-4E10-AA13-FD87067D432A}" type="slidenum">
              <a:rPr b="1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9F32-E1D1-414B-A34A-2CAE931596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9E5C-BD1E-4A50-8E8A-4880B09AE3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DB0C-BD1F-4B50-8A3C-7D291479C8A9}" type="slidenum">
              <a:rPr b="1" lang="en-US" sz="8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My Home T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453680" y="1295280"/>
            <a:ext cx="64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我的家乡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5E8D-6F3D-45D2-9583-75FEAF93D0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7171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6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