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ECF-9972-46FE-AA89-4180301D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F70-ECCA-44CA-B3B2-BA28328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32B-255F-4E63-891D-4C1829B3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0D0-0EDE-49B2-928C-2F9516EB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F2ED-03A0-49C4-867D-0145CADF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E51-A552-42EB-ADCD-0B45D3CB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E3E7-E178-474A-8FB5-7AFF5B82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B28-C5B5-47E7-B497-11021AA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7181-504A-4779-B1AF-259B2204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1B9C-1242-46B0-B786-5927955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1F5-A24C-4193-92A2-22DBF52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048-325B-4AD4-B3BC-D765AD1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A04-BADB-46EB-8081-2B15B96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27CD-A32D-4071-8D9A-48FECF2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DE0A-1706-41E0-9B09-942A70E9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B0A-20D5-4E37-82E6-D0FE916F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047A-8A52-4AA2-8269-BB16511B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1C82-BC5A-4055-BD91-F12F070E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8D1F-9610-43A2-A5BD-BAA1070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AF81-A9CD-4C50-ACD2-D41B9C2D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CCB1-9826-41D1-B6D2-55190081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5799-6047-4BB5-A873-98E6233C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6AB-5D0E-4040-BE70-F67A350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FB0D-6978-43DB-B90B-48BFF892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63C0-FA86-42B8-9D7B-7B88877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22BC-C26F-47F4-8C89-4D7F5AD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EA09-E928-4871-B268-8C41129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98A0-6A66-40E0-8D21-8D408FB2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3225-31DB-46A3-83CE-EDD69FAA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A52A-2F20-4044-A3A4-E773DAE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DF6-5E95-428E-A0E7-EABD082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39A-07FB-4D05-9AEE-E64E084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ECD-6ED8-44EE-A56C-72706A6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0EB-222C-4C7D-BB61-379FA06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E8D-09BC-4218-9678-FD31377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F62-E96F-4654-8B4E-15EAB9E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7E0-64D9-446A-A11C-1FCF39929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AC7-5CE4-4971-91E5-4317326528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9E5F-BBFE-4184-81EA-790DA03076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BCA-6772-4DC3-BC7A-07E5D355C4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未标题-1.png"/>
          <p:cNvPicPr/>
          <p:nvPr/>
        </p:nvPicPr>
        <p:blipFill>
          <a:blip r:embed="rId2"/>
          <a:stretch/>
        </p:blipFill>
        <p:spPr>
          <a:xfrm>
            <a:off x="1357200" y="0"/>
            <a:ext cx="6348600" cy="63500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未标题-2.png"/>
          <p:cNvPicPr/>
          <p:nvPr/>
        </p:nvPicPr>
        <p:blipFill>
          <a:blip r:embed="rId3"/>
          <a:stretch/>
        </p:blipFill>
        <p:spPr>
          <a:xfrm>
            <a:off x="1500120" y="3143160"/>
            <a:ext cx="6348600" cy="634860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1"/>
          <p:cNvSpPr/>
          <p:nvPr/>
        </p:nvSpPr>
        <p:spPr>
          <a:xfrm>
            <a:off x="2739240" y="117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艺术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未标题-3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37" name="矩形 3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未标题-3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-18756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未标题-4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41" name="矩形 2"/>
          <p:cNvSpPr/>
          <p:nvPr/>
        </p:nvSpPr>
        <p:spPr>
          <a:xfrm>
            <a:off x="-18756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171"/>
          <p:cNvSpPr/>
          <p:nvPr/>
        </p:nvSpPr>
        <p:spPr>
          <a:xfrm>
            <a:off x="1620720" y="4365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未标题-4.png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/>
          <p:cNvSpPr/>
          <p:nvPr/>
        </p:nvSpPr>
        <p:spPr>
          <a:xfrm>
            <a:off x="7599240" y="64882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7556-012D-4002-A375-A71BB552F5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未标题-1.png"/>
          <p:cNvPicPr/>
          <p:nvPr/>
        </p:nvPicPr>
        <p:blipFill>
          <a:blip r:embed="rId2"/>
          <a:stretch/>
        </p:blipFill>
        <p:spPr>
          <a:xfrm>
            <a:off x="357120" y="4714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未标题-2.png"/>
          <p:cNvPicPr/>
          <p:nvPr/>
        </p:nvPicPr>
        <p:blipFill>
          <a:blip r:embed="rId3"/>
          <a:stretch/>
        </p:blipFill>
        <p:spPr>
          <a:xfrm>
            <a:off x="1428840" y="1500120"/>
            <a:ext cx="6348240" cy="6348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pshero_0064.png"/>
          <p:cNvPicPr/>
          <p:nvPr/>
        </p:nvPicPr>
        <p:blipFill>
          <a:blip r:embed="rId4"/>
          <a:stretch/>
        </p:blipFill>
        <p:spPr>
          <a:xfrm>
            <a:off x="2643120" y="1143000"/>
            <a:ext cx="3786120" cy="224316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3355920" y="314316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dwardian Script ITC"/>
              </a:rPr>
              <a:t>Arkey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6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