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63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221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905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63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0221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58B-11C0-4839-89AA-58AB4A8E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DC2-4F08-4628-B3DB-372F15A1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A3B-74B8-4D8F-A619-3463594C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2EF-B91F-4532-945A-CC06695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B70-EA7D-4B31-89F1-95088734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998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FA4-9C3A-4117-BBD8-D9AACEAD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F80-769E-448C-88AC-9311CDA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E5A-E000-4A53-AA08-C3F6421C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1FF-9FD4-40C4-AFE9-E1310F7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95E-80EE-421D-82BE-E928506C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F71-1B4A-488B-811B-B6FA248D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63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221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905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8063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221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B0C-DB9E-4EC5-AF5B-66029E69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998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063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022160" y="297144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5905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8063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022160" y="5001480"/>
            <a:ext cx="2109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98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48640" y="500148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9056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8640" y="2971440"/>
            <a:ext cx="31978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90560" y="5001480"/>
            <a:ext cx="6553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425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5480" indent="-425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0640" indent="-8503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0640" indent="-8503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0640" indent="-8503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2A99-32F9-4367-B718-2BD5DF38E6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BC36-DD97-40CC-B68E-B48D65E08E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425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5480" indent="-425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0640" indent="-8503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0640" indent="-8503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0640" indent="-8503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514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rint MT Shadow"/>
              </a:rPr>
              <a:t>Theater</a:t>
            </a:r>
            <a:r>
              <a:rPr b="0" lang="en-US" sz="5400" spc="-1" strike="noStrike">
                <a:solidFill>
                  <a:srgbClr val="ffffff"/>
                </a:solidFill>
                <a:latin typeface="Imprint MT Shadow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Imprint MT Shadow"/>
              </a:rPr>
              <a:t>Presen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6155"/>
          <p:cNvSpPr/>
          <p:nvPr/>
        </p:nvSpPr>
        <p:spPr>
          <a:xfrm>
            <a:off x="124128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2457360" y="954000"/>
            <a:ext cx="622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国外艺术</a:t>
            </a:r>
            <a:r>
              <a:rPr b="0" lang="en-US" sz="4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262699"/>
                </a:solidFill>
                <a:latin typeface="Times New Roman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econd Title Pag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90560" y="29714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6145"/>
          <p:cNvSpPr/>
          <p:nvPr/>
        </p:nvSpPr>
        <p:spPr>
          <a:xfrm>
            <a:off x="2422440" y="65736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rint MT Shadow"/>
                <a:ea typeface="Times New Roman"/>
              </a:rPr>
              <a:t>Use This Page For Pr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D2E9-EFFF-4D75-8638-5C6609697B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7169" descr="Z:\newtek\_backgrounds_1.02\Ryan\Power Point Templates\Theater Presentation\Black_mask_element.jpg"/>
          <p:cNvPicPr/>
          <p:nvPr/>
        </p:nvPicPr>
        <p:blipFill>
          <a:blip r:embed="rId1"/>
          <a:stretch/>
        </p:blipFill>
        <p:spPr>
          <a:xfrm>
            <a:off x="5791320" y="0"/>
            <a:ext cx="183168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170" descr="Z:\newtek\_backgrounds_1.02\Ryan\Power Point Templates\Theater Presentation\mask_bullet.gif"/>
          <p:cNvPicPr/>
          <p:nvPr/>
        </p:nvPicPr>
        <p:blipFill>
          <a:blip r:embed="rId2"/>
          <a:stretch/>
        </p:blipFill>
        <p:spPr>
          <a:xfrm>
            <a:off x="2743200" y="2209680"/>
            <a:ext cx="2397240" cy="25909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7171" descr="Z:\newtek\_backgrounds_1.02\Ryan\Power Point Templates\Theater Presentation\Master_backround.jpg"/>
          <p:cNvPicPr/>
          <p:nvPr/>
        </p:nvPicPr>
        <p:blipFill>
          <a:blip r:embed="rId3"/>
          <a:stretch/>
        </p:blipFill>
        <p:spPr>
          <a:xfrm>
            <a:off x="0" y="2209680"/>
            <a:ext cx="2743200" cy="21942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172" descr="Z:\newtek\_backgrounds_1.02\Ryan\Power Point Templates\Theater Presentation\Printable_backround.jpg"/>
          <p:cNvPicPr/>
          <p:nvPr/>
        </p:nvPicPr>
        <p:blipFill>
          <a:blip r:embed="rId4"/>
          <a:stretch/>
        </p:blipFill>
        <p:spPr>
          <a:xfrm>
            <a:off x="0" y="4419720"/>
            <a:ext cx="2743200" cy="21938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173" descr="Z:\newtek\_backgrounds_1.02\Ryan\Power Point Templates\Theater Presentation\Title_backround2.jpg"/>
          <p:cNvPicPr/>
          <p:nvPr/>
        </p:nvPicPr>
        <p:blipFill>
          <a:blip r:embed="rId5"/>
          <a:stretch/>
        </p:blipFill>
        <p:spPr>
          <a:xfrm>
            <a:off x="2743200" y="0"/>
            <a:ext cx="2743200" cy="21938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174" descr="Z:\newtek\_backgrounds_1.02\Ryan\Power Point Templates\Theater Presentation\Transition_backround.jpg"/>
          <p:cNvPicPr/>
          <p:nvPr/>
        </p:nvPicPr>
        <p:blipFill>
          <a:blip r:embed="rId6"/>
          <a:stretch/>
        </p:blipFill>
        <p:spPr>
          <a:xfrm>
            <a:off x="0" y="0"/>
            <a:ext cx="2743200" cy="2195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7175" descr="Z:\newtek\_backgrounds_1.02\Ryan\Power Point Templates\Theater Presentation\White_mask_element.jpg"/>
          <p:cNvPicPr/>
          <p:nvPr/>
        </p:nvPicPr>
        <p:blipFill>
          <a:blip r:embed="rId7"/>
          <a:stretch/>
        </p:blipFill>
        <p:spPr>
          <a:xfrm>
            <a:off x="5943600" y="266688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7176"/>
          <p:cNvSpPr/>
          <p:nvPr/>
        </p:nvSpPr>
        <p:spPr>
          <a:xfrm>
            <a:off x="5409000" y="57913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20:2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1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